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type.wav" ContentType="audio/x-wav"/>
  <Override PartName="/ppt/media/image10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4.png" ContentType="image/png"/>
  <Override PartName="/ppt/media/image8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5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90C2-230F-482F-9119-E479FC098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57DD-E206-4FE7-9FB8-5CA0B7895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8291-44C5-4418-A5BD-81EF525A9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7CAF-8EFD-4FF1-8965-C7EA23245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6265-A66C-4199-A366-D66909BD1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51DB-9ECF-4E5B-A374-37BA40402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324A-BF22-41E9-A027-C00709498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48EE-F3A6-4A58-AB59-1CC4DE198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47B9-9AE5-4AB2-9D5F-955F0FECE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CB42-C9A8-4E13-9970-2FFC5E204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CA25-1C5F-4217-9484-45FAE6C74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F8CD-6C63-4FDD-BFA7-8A55F58CA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3F043-2A8E-4E88-9287-2A619701BE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画家和牧童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" name="Object 4"/>
          <p:cNvGraphicFramePr/>
          <p:nvPr/>
        </p:nvGraphicFramePr>
        <p:xfrm>
          <a:off x="7238880" y="3124080"/>
          <a:ext cx="1905120" cy="3372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238880" y="3124080"/>
                    <a:ext cx="1905120" cy="337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Text Box 5"/>
          <p:cNvSpPr/>
          <p:nvPr/>
        </p:nvSpPr>
        <p:spPr>
          <a:xfrm>
            <a:off x="3200400" y="762120"/>
            <a:ext cx="2743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WordArt 6"/>
          <p:cNvSpPr txBox="1"/>
          <p:nvPr/>
        </p:nvSpPr>
        <p:spPr>
          <a:xfrm>
            <a:off x="3581280" y="457200"/>
            <a:ext cx="312444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画家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46" name="WordArt 7"/>
          <p:cNvSpPr txBox="1"/>
          <p:nvPr/>
        </p:nvSpPr>
        <p:spPr>
          <a:xfrm>
            <a:off x="5562720" y="4495680"/>
            <a:ext cx="1676160" cy="90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牧童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47" name="WordArt 8"/>
          <p:cNvSpPr txBox="1"/>
          <p:nvPr/>
        </p:nvSpPr>
        <p:spPr>
          <a:xfrm>
            <a:off x="5638680" y="2819520"/>
            <a:ext cx="1295640" cy="129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6600"/>
                </a:solidFill>
                <a:latin typeface="宋体"/>
              </a:rPr>
              <a:t>和</a:t>
            </a:r>
            <a:endParaRPr b="0" lang="en-US" sz="1800" spc="1" strike="noStrike">
              <a:ln w="9360">
                <a:solidFill>
                  <a:srgbClr val="ff6600"/>
                </a:solidFill>
                <a:miter/>
              </a:ln>
              <a:solidFill>
                <a:srgbClr val="ff66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2"/>
          <p:cNvSpPr/>
          <p:nvPr/>
        </p:nvSpPr>
        <p:spPr>
          <a:xfrm>
            <a:off x="3238920" y="381600"/>
            <a:ext cx="254556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他一会儿浓墨涂抹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会儿轻笔细描</a:t>
            </a: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很快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画成了。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89" dur="1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92" dur="1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95" dur="1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"/>
          <p:cNvSpPr/>
          <p:nvPr/>
        </p:nvSpPr>
        <p:spPr>
          <a:xfrm>
            <a:off x="2422080" y="381600"/>
            <a:ext cx="417924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他一会儿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浓墨涂抹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会儿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轻笔细描</a:t>
            </a: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很快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画成了。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3"/>
          <p:cNvSpPr/>
          <p:nvPr/>
        </p:nvSpPr>
        <p:spPr>
          <a:xfrm>
            <a:off x="685800" y="685080"/>
            <a:ext cx="345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浓墨涂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4859280" y="692280"/>
            <a:ext cx="3673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轻笔细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斗牛图 拷贝"/>
          <p:cNvPicPr/>
          <p:nvPr/>
        </p:nvPicPr>
        <p:blipFill>
          <a:blip r:embed="rId1"/>
          <a:stretch/>
        </p:blipFill>
        <p:spPr>
          <a:xfrm>
            <a:off x="0" y="1905120"/>
            <a:ext cx="9144000" cy="4952880"/>
          </a:xfrm>
          <a:prstGeom prst="rect">
            <a:avLst/>
          </a:prstGeom>
          <a:ln w="0">
            <a:noFill/>
          </a:ln>
        </p:spPr>
      </p:pic>
      <p:sp>
        <p:nvSpPr>
          <p:cNvPr id="81" name="Line 7"/>
          <p:cNvSpPr/>
          <p:nvPr/>
        </p:nvSpPr>
        <p:spPr>
          <a:xfrm flipH="1">
            <a:off x="6324480" y="1752480"/>
            <a:ext cx="76320" cy="838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9"/>
          <p:cNvSpPr/>
          <p:nvPr/>
        </p:nvSpPr>
        <p:spPr>
          <a:xfrm flipH="1">
            <a:off x="838080" y="1752480"/>
            <a:ext cx="1371600" cy="20574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781680"/>
          </a:xfrm>
          <a:prstGeom prst="rect">
            <a:avLst/>
          </a:prstGeom>
          <a:ln w="0">
            <a:noFill/>
          </a:ln>
        </p:spPr>
      </p:pic>
      <p:sp>
        <p:nvSpPr>
          <p:cNvPr id="84" name="Text Box 3"/>
          <p:cNvSpPr/>
          <p:nvPr/>
        </p:nvSpPr>
        <p:spPr>
          <a:xfrm>
            <a:off x="2268360" y="1700280"/>
            <a:ext cx="468000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活灵活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神来之笔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妙笔生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惟妙惟肖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栩栩如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879480" y="843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小女孩2"/>
          <p:cNvPicPr/>
          <p:nvPr/>
        </p:nvPicPr>
        <p:blipFill>
          <a:blip r:embed="rId2"/>
          <a:stretch/>
        </p:blipFill>
        <p:spPr>
          <a:xfrm>
            <a:off x="179280" y="115920"/>
            <a:ext cx="1343160" cy="1714320"/>
          </a:xfrm>
          <a:prstGeom prst="rect">
            <a:avLst/>
          </a:prstGeom>
          <a:ln w="0">
            <a:noFill/>
          </a:ln>
        </p:spPr>
      </p:pic>
      <p:sp>
        <p:nvSpPr>
          <p:cNvPr id="87" name="Text Box 6"/>
          <p:cNvSpPr/>
          <p:nvPr/>
        </p:nvSpPr>
        <p:spPr>
          <a:xfrm>
            <a:off x="1887480" y="698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7"/>
          <p:cNvSpPr/>
          <p:nvPr/>
        </p:nvSpPr>
        <p:spPr>
          <a:xfrm>
            <a:off x="1692360" y="404640"/>
            <a:ext cx="5184720" cy="129708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词语加油站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8532720" y="6524640"/>
            <a:ext cx="501840" cy="30780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2422080" y="381600"/>
            <a:ext cx="417924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他一会儿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浓墨涂抹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会儿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轻笔细描</a:t>
            </a: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很快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画成了。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0" y="4419720"/>
            <a:ext cx="9468000" cy="20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63480" indent="-663480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333399"/>
                </a:solidFill>
                <a:uFillTx/>
                <a:latin typeface="楷体_GB2312"/>
                <a:ea typeface="楷体_GB2312"/>
              </a:rPr>
              <a:t>      </a:t>
            </a:r>
            <a:r>
              <a:rPr b="1" lang="zh-CN" sz="4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一会儿</a:t>
            </a:r>
            <a:r>
              <a:rPr b="1" lang="zh-CN" sz="4000" spc="-1" strike="noStrike" u="sng">
                <a:solidFill>
                  <a:srgbClr val="333399"/>
                </a:solidFill>
                <a:uFillTx/>
                <a:latin typeface="楷体_GB2312"/>
                <a:ea typeface="楷体_GB2312"/>
              </a:rPr>
              <a:t>      </a:t>
            </a:r>
            <a:r>
              <a:rPr b="1" lang="zh-CN" sz="4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，一会儿</a:t>
            </a:r>
            <a:r>
              <a:rPr b="1" lang="zh-CN" sz="4000" spc="-1" strike="noStrike" u="sng">
                <a:solidFill>
                  <a:srgbClr val="333399"/>
                </a:solidFill>
                <a:uFillTx/>
                <a:latin typeface="楷体_GB2312"/>
                <a:ea typeface="楷体_GB2312"/>
              </a:rPr>
              <a:t>        </a:t>
            </a:r>
            <a:r>
              <a:rPr b="1" lang="zh-CN" sz="4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1762560" y="692280"/>
            <a:ext cx="5367600" cy="51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画图画时，我一会儿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_______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一会儿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_______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语文课上，我们一会儿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_______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一会儿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_____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我感冒了，妈妈很着急，一会儿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一会儿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_______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1258920" y="476280"/>
            <a:ext cx="6913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围观的人看了，   纷纷夸赞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画得太像了，画得太像了，这真是绝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之作！” 一位商人称赞道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画活了，画活了，只有神笔才能画出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样的画！”  一位教书先生赞扬道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2608200" y="4653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1239840" y="5156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2824200" y="4869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1455840" y="508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3040200" y="508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4788000" y="380880"/>
            <a:ext cx="107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夸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9"/>
          <p:cNvSpPr/>
          <p:nvPr/>
        </p:nvSpPr>
        <p:spPr>
          <a:xfrm>
            <a:off x="4021200" y="2092320"/>
            <a:ext cx="111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称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0"/>
          <p:cNvSpPr/>
          <p:nvPr/>
        </p:nvSpPr>
        <p:spPr>
          <a:xfrm>
            <a:off x="5178600" y="3801960"/>
            <a:ext cx="126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赞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1"/>
          <p:cNvSpPr/>
          <p:nvPr/>
        </p:nvSpPr>
        <p:spPr>
          <a:xfrm>
            <a:off x="539640" y="5270400"/>
            <a:ext cx="825192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这里有三个表示同一个意思的词语，你发现了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3" descr="斗牛图 拷贝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403848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2"/>
          <p:cNvSpPr/>
          <p:nvPr/>
        </p:nvSpPr>
        <p:spPr>
          <a:xfrm>
            <a:off x="-152280" y="502200"/>
            <a:ext cx="9753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画得太像了，画得太像了，这真是绝妙之作！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0" y="5638680"/>
            <a:ext cx="899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画活了，画活了，只有神笔才能画出这样的画！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5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《画家和牧童》插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2"/>
          <p:cNvSpPr/>
          <p:nvPr/>
        </p:nvSpPr>
        <p:spPr>
          <a:xfrm>
            <a:off x="2103480" y="1484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762120" y="4267080"/>
            <a:ext cx="770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隶书"/>
                <a:ea typeface="隶书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“</a:t>
            </a:r>
            <a:r>
              <a:rPr b="1" lang="zh-CN" sz="4000" spc="-1" strike="noStrike">
                <a:solidFill>
                  <a:srgbClr val="ff0066"/>
                </a:solidFill>
                <a:latin typeface="隶书"/>
                <a:ea typeface="隶书"/>
              </a:rPr>
              <a:t>画错啦，画错啦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！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一个牧童挤进来喊着。这声音好像炸雷一样，大家一下子都呆住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2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3"/>
          <p:cNvPicPr/>
          <p:nvPr/>
        </p:nvPicPr>
        <p:blipFill>
          <a:blip r:embed="rId1"/>
          <a:stretch/>
        </p:blipFill>
        <p:spPr>
          <a:xfrm>
            <a:off x="0" y="476280"/>
            <a:ext cx="4716360" cy="588492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3"/>
          <p:cNvSpPr/>
          <p:nvPr/>
        </p:nvSpPr>
        <p:spPr>
          <a:xfrm>
            <a:off x="5540400" y="1216080"/>
            <a:ext cx="219240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这牛尾巴画错了。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牛相斗的时候，全身的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气都用在角上，尾巴是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在后腿中间的。您画的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尾巴是翘起来的，那是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用尾巴驱赶牛蝇的样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您没见过两牛相斗的情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吧？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4481640" y="1556640"/>
            <a:ext cx="1807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910080" y="203040"/>
            <a:ext cx="4725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sōnɡ      c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á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n ku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ì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戴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嵩     惭 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1258920" y="5084640"/>
            <a:ext cx="6264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  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yín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ɡ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        ǎi      ji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牛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蝇 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蔼     价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1258920" y="3573360"/>
            <a:ext cx="612144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ɡòu        qiào        q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购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买     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翘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起来   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驱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1258920" y="1773360"/>
            <a:ext cx="619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mò   mǒ     pī     ɡǒn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浓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墨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涂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抹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批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评   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拱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3"/>
          <p:cNvSpPr/>
          <p:nvPr/>
        </p:nvSpPr>
        <p:spPr>
          <a:xfrm>
            <a:off x="2351880" y="1371600"/>
            <a:ext cx="45986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这时，戴嵩把牧童叫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面前，和蔼地说：“小兄弟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我很愿意听到你的批评，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你说说什么地方画错啦？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7792920" y="63151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9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2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5" dur="1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8" dur="1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3"/>
          <p:cNvSpPr/>
          <p:nvPr/>
        </p:nvSpPr>
        <p:spPr>
          <a:xfrm>
            <a:off x="2351880" y="1371600"/>
            <a:ext cx="45986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这时，戴嵩把牧童叫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面前，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和蔼地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说：“小兄弟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我很愿意听到你的批评，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你说说什么地方画错啦？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7792920" y="63151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3"/>
          <p:cNvSpPr/>
          <p:nvPr/>
        </p:nvSpPr>
        <p:spPr>
          <a:xfrm>
            <a:off x="2351880" y="1371600"/>
            <a:ext cx="45986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这时，戴嵩把牧童叫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面前，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和蔼地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说：“小兄弟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我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很愿意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听到你的批评，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你说说什么地方画错啦？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7792920" y="63151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3"/>
          <p:cNvSpPr/>
          <p:nvPr/>
        </p:nvSpPr>
        <p:spPr>
          <a:xfrm>
            <a:off x="2328120" y="476280"/>
            <a:ext cx="45986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这时，戴嵩把牧童叫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面前，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和蔼地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说：“小兄弟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我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很愿意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听到你的批评，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你说说什么地方画错啦？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7792920" y="63151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990720" y="3716280"/>
            <a:ext cx="7696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戴嵩听了，感到非常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愧。他连连拱手说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多谢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的指教。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3"/>
          <p:cNvSpPr/>
          <p:nvPr/>
        </p:nvSpPr>
        <p:spPr>
          <a:xfrm>
            <a:off x="2328120" y="476280"/>
            <a:ext cx="45986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这时，戴嵩把牧童叫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面前，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和蔼地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说：“小兄弟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我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很愿意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听到你的批评，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你说说什么地方画错啦？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7792920" y="63151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2118960" y="3733920"/>
            <a:ext cx="46580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戴嵩听了，感到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非常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愧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。他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连连拱手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说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多谢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的指教。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3"/>
          <p:cNvSpPr/>
          <p:nvPr/>
        </p:nvSpPr>
        <p:spPr>
          <a:xfrm>
            <a:off x="1258920" y="1700280"/>
            <a:ext cx="788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戴嵩是一个（            ）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2700360" y="4365720"/>
            <a:ext cx="554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虚心的画家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3471840" y="2924280"/>
            <a:ext cx="246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著名的画家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3"/>
          <p:cNvSpPr/>
          <p:nvPr/>
        </p:nvSpPr>
        <p:spPr>
          <a:xfrm>
            <a:off x="1042920" y="907920"/>
            <a:ext cx="788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牧童是一个（            ）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1619280" y="4365720"/>
            <a:ext cx="752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敢于挑战权威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孩子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3471840" y="2924280"/>
            <a:ext cx="246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勇敢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孩子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6"/>
          <p:cNvSpPr/>
          <p:nvPr/>
        </p:nvSpPr>
        <p:spPr>
          <a:xfrm>
            <a:off x="3851280" y="1773360"/>
            <a:ext cx="3381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善于观察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孩子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0097"/>
          <p:cNvPicPr/>
          <p:nvPr/>
        </p:nvPicPr>
        <p:blipFill>
          <a:blip r:embed="rId1"/>
          <a:srcRect l="0" t="48985" r="0" b="2761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3"/>
          <p:cNvSpPr/>
          <p:nvPr/>
        </p:nvSpPr>
        <p:spPr>
          <a:xfrm>
            <a:off x="2133720" y="380880"/>
            <a:ext cx="6629400" cy="2210040"/>
          </a:xfrm>
          <a:prstGeom prst="cloudCallout">
            <a:avLst>
              <a:gd name="adj1" fmla="val -48944"/>
              <a:gd name="adj2" fmla="val 2377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华文新魏"/>
                <a:ea typeface="华文新魏"/>
              </a:rPr>
              <a:t>我想对戴嵩说</a:t>
            </a:r>
            <a:r>
              <a:rPr b="1" lang="en-US" sz="60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…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4"/>
          <p:cNvSpPr/>
          <p:nvPr/>
        </p:nvSpPr>
        <p:spPr>
          <a:xfrm flipH="1" flipV="1">
            <a:off x="-720" y="2895480"/>
            <a:ext cx="6705720" cy="3657600"/>
          </a:xfrm>
          <a:prstGeom prst="cloudCallout">
            <a:avLst>
              <a:gd name="adj1" fmla="val -41810"/>
              <a:gd name="adj2" fmla="val 10023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660033"/>
                </a:solidFill>
                <a:latin typeface="华文新魏"/>
                <a:ea typeface="华文新魏"/>
              </a:rPr>
              <a:t>我想对牧童说</a:t>
            </a:r>
            <a:r>
              <a:rPr b="1" lang="en-US" sz="7200" spc="-1" strike="noStrike">
                <a:solidFill>
                  <a:srgbClr val="660033"/>
                </a:solidFill>
                <a:latin typeface="Times New Roman"/>
                <a:ea typeface="华文新魏"/>
              </a:rPr>
              <a:t>……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5"/>
          <p:cNvSpPr/>
          <p:nvPr/>
        </p:nvSpPr>
        <p:spPr>
          <a:xfrm>
            <a:off x="8532720" y="6372360"/>
            <a:ext cx="360360" cy="48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>
            <a:off x="0" y="69840"/>
            <a:ext cx="9144000" cy="678816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3"/>
          <p:cNvSpPr/>
          <p:nvPr/>
        </p:nvSpPr>
        <p:spPr>
          <a:xfrm>
            <a:off x="976320" y="1589040"/>
            <a:ext cx="18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1066680" y="1600200"/>
            <a:ext cx="741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戴嵩作为一名有名的大画家，仍能虚心接受别人的意见，小牧童虽小，却敢于向大画家提出意见，我们应该向他们学习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7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-76320" y="11160"/>
            <a:ext cx="9144000" cy="6846840"/>
          </a:xfrm>
          <a:prstGeom prst="rect">
            <a:avLst/>
          </a:prstGeom>
          <a:ln w="0">
            <a:noFill/>
          </a:ln>
        </p:spPr>
      </p:pic>
      <p:grpSp>
        <p:nvGrpSpPr>
          <p:cNvPr id="140" name="Group 3"/>
          <p:cNvGrpSpPr/>
          <p:nvPr/>
        </p:nvGrpSpPr>
        <p:grpSpPr>
          <a:xfrm>
            <a:off x="609480" y="1143000"/>
            <a:ext cx="6749640" cy="4572720"/>
            <a:chOff x="609480" y="1143000"/>
            <a:chExt cx="6749640" cy="4572720"/>
          </a:xfrm>
        </p:grpSpPr>
        <p:sp>
          <p:nvSpPr>
            <p:cNvPr id="141" name="WordArt 4"/>
            <p:cNvSpPr txBox="1"/>
            <p:nvPr/>
          </p:nvSpPr>
          <p:spPr>
            <a:xfrm>
              <a:off x="609480" y="1143000"/>
              <a:ext cx="1447920" cy="914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scadeUp">
                <a:avLst>
                  <a:gd name="adj" fmla="val 4444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宋体"/>
                </a:rPr>
                <a:t>小知识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  <a:ea typeface="宋体"/>
              </a:endParaRPr>
            </a:p>
          </p:txBody>
        </p:sp>
        <p:sp>
          <p:nvSpPr>
            <p:cNvPr id="142" name="Text Box 5"/>
            <p:cNvSpPr/>
            <p:nvPr/>
          </p:nvSpPr>
          <p:spPr>
            <a:xfrm>
              <a:off x="2210400" y="2209680"/>
              <a:ext cx="5148720" cy="350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、我知道戴嵩特别喜欢牛，他画的牛跟真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一样。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《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三牛图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》《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归牧图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》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这两幅名画，就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是戴嵩画的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、在我国现代画家中，不少人以画动物而闻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名，如，齐白石画虾，徐悲鸿画马，李苦蝉画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鹰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……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他们画的动物栩栩如生，人们特别喜爱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WordArt 6"/>
          <p:cNvSpPr txBox="1"/>
          <p:nvPr/>
        </p:nvSpPr>
        <p:spPr>
          <a:xfrm>
            <a:off x="3276720" y="692280"/>
            <a:ext cx="28191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画家和牧童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4481640" y="1556640"/>
            <a:ext cx="1807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910080" y="203040"/>
            <a:ext cx="4725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sōnɡ      c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á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n ku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ì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戴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嵩     惭 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1258920" y="5084640"/>
            <a:ext cx="6264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  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yín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ɡ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        ǎi      ji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牛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蝇 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蔼     价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1258920" y="3573360"/>
            <a:ext cx="612144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ɡòu        qiào        q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购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买     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翘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起来   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驱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1258920" y="1773360"/>
            <a:ext cx="619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mò   mǒ     pī     ɡǒn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浓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墨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涂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抹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批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评   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拱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8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4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0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6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shjw_20064516352"/>
          <p:cNvPicPr/>
          <p:nvPr/>
        </p:nvPicPr>
        <p:blipFill>
          <a:blip r:embed="rId1"/>
          <a:stretch/>
        </p:blipFill>
        <p:spPr>
          <a:xfrm>
            <a:off x="0" y="0"/>
            <a:ext cx="9144000" cy="682776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5"/>
          <p:cNvSpPr/>
          <p:nvPr/>
        </p:nvSpPr>
        <p:spPr>
          <a:xfrm>
            <a:off x="228600" y="5334120"/>
            <a:ext cx="304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三牛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1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6" dur="1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" descr="2005616162615989"/>
          <p:cNvPicPr/>
          <p:nvPr/>
        </p:nvPicPr>
        <p:blipFill>
          <a:blip r:embed="rId1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5"/>
          <p:cNvSpPr/>
          <p:nvPr/>
        </p:nvSpPr>
        <p:spPr>
          <a:xfrm>
            <a:off x="152280" y="5334120"/>
            <a:ext cx="3353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归牧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3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8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齐白石《虾趣图》4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3"/>
          <p:cNvSpPr/>
          <p:nvPr/>
        </p:nvSpPr>
        <p:spPr>
          <a:xfrm>
            <a:off x="152280" y="600408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幼圆"/>
                <a:ea typeface="幼圆"/>
              </a:rPr>
              <a:t>齐白石：</a:t>
            </a:r>
            <a:r>
              <a:rPr b="1" lang="en-US" sz="2800" spc="-1" strike="noStrike">
                <a:solidFill>
                  <a:srgbClr val="ff0000"/>
                </a:solidFill>
                <a:latin typeface="幼圆"/>
                <a:ea typeface="幼圆"/>
              </a:rPr>
              <a:t>1863</a:t>
            </a:r>
            <a:r>
              <a:rPr b="1" lang="zh-CN" sz="2800" spc="-1" strike="noStrike">
                <a:solidFill>
                  <a:srgbClr val="ff0000"/>
                </a:solidFill>
                <a:latin typeface="幼圆"/>
                <a:ea typeface="幼圆"/>
              </a:rPr>
              <a:t>－</a:t>
            </a:r>
            <a:r>
              <a:rPr b="1" lang="en-US" sz="2800" spc="-1" strike="noStrike">
                <a:solidFill>
                  <a:srgbClr val="ff0000"/>
                </a:solidFill>
                <a:latin typeface="幼圆"/>
                <a:ea typeface="幼圆"/>
              </a:rPr>
              <a:t>1957</a:t>
            </a:r>
            <a:r>
              <a:rPr b="1" lang="zh-CN" sz="2800" spc="-1" strike="noStrike">
                <a:solidFill>
                  <a:srgbClr val="ff0000"/>
                </a:solidFill>
                <a:latin typeface="幼圆"/>
                <a:ea typeface="幼圆"/>
              </a:rPr>
              <a:t>。现代杰出画家，书法家，篆刻家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2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2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2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徐悲鸿1940年的国画《群马》"/>
          <p:cNvPicPr/>
          <p:nvPr/>
        </p:nvPicPr>
        <p:blipFill>
          <a:blip r:embed="rId1"/>
          <a:stretch/>
        </p:blipFill>
        <p:spPr>
          <a:xfrm>
            <a:off x="1523880" y="0"/>
            <a:ext cx="6019920" cy="586728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3"/>
          <p:cNvSpPr/>
          <p:nvPr/>
        </p:nvSpPr>
        <p:spPr>
          <a:xfrm>
            <a:off x="228600" y="591192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徐悲鸿</a:t>
            </a:r>
            <a:r>
              <a:rPr b="1" lang="zh-CN" sz="2800" spc="-1" strike="noStrike">
                <a:solidFill>
                  <a:srgbClr val="ff0000"/>
                </a:solidFill>
                <a:latin typeface="幼圆"/>
              </a:rPr>
              <a:t>：</a:t>
            </a:r>
            <a:r>
              <a:rPr b="1" lang="en-US" sz="2800" spc="-1" strike="noStrike">
                <a:solidFill>
                  <a:srgbClr val="ff0000"/>
                </a:solidFill>
                <a:latin typeface="幼圆"/>
              </a:rPr>
              <a:t>1895</a:t>
            </a:r>
            <a:r>
              <a:rPr b="1" lang="zh-CN" sz="2800" spc="-1" strike="noStrike">
                <a:solidFill>
                  <a:srgbClr val="ff0000"/>
                </a:solidFill>
                <a:latin typeface="幼圆"/>
              </a:rPr>
              <a:t>－</a:t>
            </a:r>
            <a:r>
              <a:rPr b="1" lang="en-US" sz="2800" spc="-1" strike="noStrike">
                <a:solidFill>
                  <a:srgbClr val="ff0000"/>
                </a:solidFill>
                <a:latin typeface="幼圆"/>
              </a:rPr>
              <a:t>1953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。中国现代美术的奠基者，杰出的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       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画家和美术教育家。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0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李苦禅的鹰10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3"/>
          <p:cNvSpPr/>
          <p:nvPr/>
        </p:nvSpPr>
        <p:spPr>
          <a:xfrm>
            <a:off x="152280" y="579132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幼圆"/>
                <a:ea typeface="幼圆"/>
              </a:rPr>
              <a:t>李苦禅：</a:t>
            </a:r>
            <a:r>
              <a:rPr b="1" lang="en-US" sz="2800" spc="-1" strike="noStrike">
                <a:solidFill>
                  <a:srgbClr val="ff0000"/>
                </a:solidFill>
                <a:latin typeface="幼圆"/>
              </a:rPr>
              <a:t>1898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－</a:t>
            </a:r>
            <a:r>
              <a:rPr b="1" lang="en-US" sz="2800" spc="-1" strike="noStrike">
                <a:solidFill>
                  <a:srgbClr val="ff0000"/>
                </a:solidFill>
                <a:latin typeface="幼圆"/>
              </a:rPr>
              <a:t>1983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。</a:t>
            </a:r>
            <a:r>
              <a:rPr b="1" lang="zh-CN" sz="2800" spc="-1" strike="noStrike">
                <a:solidFill>
                  <a:srgbClr val="ff0000"/>
                </a:solidFill>
                <a:latin typeface="幼圆"/>
                <a:ea typeface="幼圆"/>
              </a:rPr>
              <a:t>现代杰出画家，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一生从事美术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       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作和美术教育六十余载</a:t>
            </a:r>
            <a:r>
              <a:rPr b="1" lang="zh-CN" sz="2800" spc="-1" strike="noStrike">
                <a:solidFill>
                  <a:srgbClr val="ff0000"/>
                </a:solidFill>
                <a:latin typeface="幼圆"/>
                <a:ea typeface="幼圆"/>
              </a:rPr>
              <a:t> 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1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6" dur="8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7" dur="8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8" dur="8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1" dur="8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2" dur="8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3" dur="8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黄胄《牧驴图》"/>
          <p:cNvPicPr/>
          <p:nvPr/>
        </p:nvPicPr>
        <p:blipFill>
          <a:blip r:embed="rId1"/>
          <a:stretch/>
        </p:blipFill>
        <p:spPr>
          <a:xfrm>
            <a:off x="0" y="0"/>
            <a:ext cx="9144000" cy="556272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3"/>
          <p:cNvSpPr/>
          <p:nvPr/>
        </p:nvSpPr>
        <p:spPr>
          <a:xfrm>
            <a:off x="228600" y="571500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幼圆"/>
                <a:ea typeface="幼圆"/>
              </a:rPr>
              <a:t>黄胄：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1925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－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1997</a:t>
            </a:r>
            <a:r>
              <a:rPr b="1" lang="en-US" sz="2800" spc="-1" strike="noStrike">
                <a:solidFill>
                  <a:srgbClr val="ff0000"/>
                </a:solidFill>
                <a:latin typeface="幼圆"/>
                <a:ea typeface="幼圆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幼圆"/>
                <a:ea typeface="幼圆"/>
              </a:rPr>
              <a:t>。现代杰出画家，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曾任中国画研究院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副院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20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无标题4"/>
          <p:cNvPicPr/>
          <p:nvPr/>
        </p:nvPicPr>
        <p:blipFill>
          <a:blip r:embed="rId1"/>
          <a:stretch/>
        </p:blipFill>
        <p:spPr>
          <a:xfrm>
            <a:off x="0" y="-31608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3"/>
          <p:cNvSpPr/>
          <p:nvPr/>
        </p:nvSpPr>
        <p:spPr>
          <a:xfrm>
            <a:off x="4481640" y="1556640"/>
            <a:ext cx="1807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1535760" y="654120"/>
            <a:ext cx="67644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著名  价钱  购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蔼  批评  惭愧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翘起  驱赶  牛蝇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1447920" y="1523880"/>
            <a:ext cx="6248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戴    惭    愧    抹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批    拱    购    翘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驱　蔼    蝇    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4"/>
          <p:cNvSpPr/>
          <p:nvPr/>
        </p:nvSpPr>
        <p:spPr>
          <a:xfrm>
            <a:off x="2313360" y="765000"/>
            <a:ext cx="1643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戴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2443320" y="378936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带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4923360" y="3429000"/>
            <a:ext cx="16437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带雨伞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带水彩笔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7"/>
          <p:cNvSpPr/>
          <p:nvPr/>
        </p:nvSpPr>
        <p:spPr>
          <a:xfrm>
            <a:off x="4996440" y="333360"/>
            <a:ext cx="16437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戴帽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戴红领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8"/>
          <p:cNvSpPr/>
          <p:nvPr/>
        </p:nvSpPr>
        <p:spPr>
          <a:xfrm flipV="1">
            <a:off x="3708360" y="838080"/>
            <a:ext cx="720720" cy="7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9"/>
          <p:cNvSpPr/>
          <p:nvPr/>
        </p:nvSpPr>
        <p:spPr>
          <a:xfrm>
            <a:off x="3708360" y="1557360"/>
            <a:ext cx="72072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0"/>
          <p:cNvSpPr/>
          <p:nvPr/>
        </p:nvSpPr>
        <p:spPr>
          <a:xfrm flipV="1">
            <a:off x="3780000" y="3862080"/>
            <a:ext cx="720720" cy="71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1"/>
          <p:cNvSpPr/>
          <p:nvPr/>
        </p:nvSpPr>
        <p:spPr>
          <a:xfrm>
            <a:off x="3780000" y="4581360"/>
            <a:ext cx="72072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3"/>
          <p:cNvSpPr/>
          <p:nvPr/>
        </p:nvSpPr>
        <p:spPr>
          <a:xfrm>
            <a:off x="7983360" y="602604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3"/>
          <p:cNvSpPr/>
          <p:nvPr/>
        </p:nvSpPr>
        <p:spPr>
          <a:xfrm>
            <a:off x="914400" y="2014560"/>
            <a:ext cx="7162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唐朝有一位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著名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的画家叫戴嵩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0" y="6858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333399"/>
                </a:solidFill>
                <a:latin typeface="Times New Roman"/>
                <a:ea typeface="隶书"/>
              </a:rPr>
              <a:t>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他的画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隶书"/>
              </a:rPr>
              <a:t>一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挂出来，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隶书"/>
              </a:rPr>
              <a:t>就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有许多人观赏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808200" y="5013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383760" y="3505320"/>
            <a:ext cx="8395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ff0000"/>
                </a:solidFill>
                <a:uFillTx/>
                <a:latin typeface="Times New Roman"/>
                <a:ea typeface="楷体_GB2312"/>
              </a:rPr>
              <a:t>　　　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一</a:t>
            </a:r>
            <a:r>
              <a:rPr b="1" lang="zh-CN" sz="4400" spc="-1" strike="noStrike" u="sng">
                <a:solidFill>
                  <a:srgbClr val="ff0000"/>
                </a:solidFill>
                <a:uFillTx/>
                <a:latin typeface="Times New Roman"/>
                <a:ea typeface="楷体_GB2312"/>
              </a:rPr>
              <a:t>　　　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，就</a:t>
            </a:r>
            <a:r>
              <a:rPr b="1" lang="zh-CN" sz="4400" spc="-1" strike="noStrike" u="sng">
                <a:solidFill>
                  <a:srgbClr val="ff0000"/>
                </a:solidFill>
                <a:uFillTx/>
                <a:latin typeface="Times New Roman"/>
                <a:ea typeface="楷体_GB2312"/>
              </a:rPr>
              <a:t>　　　　　　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2286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看画的人没有不点头称赞的，有钱的人还争着花大价钱购买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2" dur="2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istrator</dc:creator>
  <dc:description/>
  <dc:language>en-US</dc:language>
  <cp:lastModifiedBy>mzxx101</cp:lastModifiedBy>
  <dcterms:modified xsi:type="dcterms:W3CDTF">2013-04-10T05:57:34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