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type.wav" ContentType="audio/x-wav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9E6-EBAA-425C-B7E2-2192F35B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6B6-5955-4F1F-838B-AFB8D7DE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C25-D7DB-459B-8A8F-A5D04AE5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DDA-7627-4165-8A0E-01385FBE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0CB-634F-4C9E-831E-352519B2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3E9-218C-42B3-B47C-DD839CED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4B7-EC9F-4DFE-8C6C-F5659F5B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2E4E-7D05-4F69-A695-B06E4C10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E68-FE4A-492D-B69F-0EF495C5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79A-7697-40AF-8E2E-EF2BB9E7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DCC-6F29-4A20-9CC6-FCA920F7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0B7-4B1B-4D28-9B37-D7C78AE8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E2AC-7735-4FD3-8384-0A06EB1EE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画家和牧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4"/>
          <p:cNvGraphicFramePr/>
          <p:nvPr/>
        </p:nvGraphicFramePr>
        <p:xfrm>
          <a:off x="7238880" y="3124080"/>
          <a:ext cx="1905120" cy="33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3124080"/>
                    <a:ext cx="1905120" cy="33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5"/>
          <p:cNvSpPr/>
          <p:nvPr/>
        </p:nvSpPr>
        <p:spPr>
          <a:xfrm>
            <a:off x="3200400" y="7621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3581280" y="457200"/>
            <a:ext cx="3124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画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5562720" y="4495680"/>
            <a:ext cx="167616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牧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5638680" y="2819520"/>
            <a:ext cx="129564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和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238920" y="381600"/>
            <a:ext cx="2545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浓墨涂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2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5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422080" y="381600"/>
            <a:ext cx="4179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685800" y="68508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859280" y="69228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轻笔细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斗牛图 拷贝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81" name="Line 7"/>
          <p:cNvSpPr/>
          <p:nvPr/>
        </p:nvSpPr>
        <p:spPr>
          <a:xfrm flipH="1">
            <a:off x="6324480" y="1752480"/>
            <a:ext cx="7632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 flipH="1">
            <a:off x="838080" y="1752480"/>
            <a:ext cx="13716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268360" y="1700280"/>
            <a:ext cx="4680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灵活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来之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妙笔生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惟妙惟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栩栩如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79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小女孩2"/>
          <p:cNvPicPr/>
          <p:nvPr/>
        </p:nvPicPr>
        <p:blipFill>
          <a:blip r:embed="rId2"/>
          <a:stretch/>
        </p:blipFill>
        <p:spPr>
          <a:xfrm>
            <a:off x="179280" y="115920"/>
            <a:ext cx="1343160" cy="1714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887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692360" y="404640"/>
            <a:ext cx="5184720" cy="1297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词语加油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532720" y="6524640"/>
            <a:ext cx="501840" cy="307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422080" y="381600"/>
            <a:ext cx="4179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4419720"/>
            <a:ext cx="94680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663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会儿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一会儿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762560" y="692280"/>
            <a:ext cx="53676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画图画时，我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语文课上，我们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感冒了，妈妈很着急，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58920" y="476280"/>
            <a:ext cx="69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围观的人看了，   纷纷夸赞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得太像了，画得太像了，这真是绝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作！” 一位商人称赞道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活了，画活了，只有神笔才能画出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样的画！”  一位教书先生赞扬道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608200" y="465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239840" y="515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824200" y="486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45584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020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788000" y="3808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夸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021200" y="209232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称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178600" y="3801960"/>
            <a:ext cx="12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赞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39640" y="5270400"/>
            <a:ext cx="82519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这里有三个表示同一个意思的词语，你发现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斗牛图 拷贝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-152280" y="502200"/>
            <a:ext cx="975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得太像了，画得太像了，这真是绝妙之作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56386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画活了，画活了，只有神笔才能画出这样的画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《画家和牧童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2103480" y="148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2120" y="4267080"/>
            <a:ext cx="77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隶书"/>
                <a:ea typeface="隶书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画错啦，画错啦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一个牧童挤进来喊着。这声音好像炸雷一样，大家一下子都呆住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3"/>
          <p:cNvPicPr/>
          <p:nvPr/>
        </p:nvPicPr>
        <p:blipFill>
          <a:blip r:embed="rId1"/>
          <a:stretch/>
        </p:blipFill>
        <p:spPr>
          <a:xfrm>
            <a:off x="0" y="476280"/>
            <a:ext cx="4716360" cy="5884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5540400" y="1216080"/>
            <a:ext cx="219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牛尾巴画错了。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牛相斗的时候，全身的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气都用在角上，尾巴是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后腿中间的。您画的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尾巴是翘起来的，那是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尾巴驱赶牛蝇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您没见过两牛相斗的情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吧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910080" y="203040"/>
            <a:ext cx="47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     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k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     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258920" y="1773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 mǒ  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和蔼地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2328120" y="47628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90720" y="371628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愧。他连连拱手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2328120" y="47628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118960" y="3733920"/>
            <a:ext cx="46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连连拱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258920" y="170028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戴嵩是一个（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700360" y="436572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虚心的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471840" y="2924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著名的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042920" y="9079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牧童是一个（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619280" y="4365720"/>
            <a:ext cx="75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敢于挑战权威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471840" y="2924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勇敢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851280" y="17733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善于观察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97"/>
          <p:cNvPicPr/>
          <p:nvPr/>
        </p:nvPicPr>
        <p:blipFill>
          <a:blip r:embed="rId1"/>
          <a:srcRect l="0" t="48985" r="0" b="276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3"/>
          <p:cNvSpPr/>
          <p:nvPr/>
        </p:nvSpPr>
        <p:spPr>
          <a:xfrm>
            <a:off x="2133720" y="380880"/>
            <a:ext cx="6629400" cy="2210040"/>
          </a:xfrm>
          <a:prstGeom prst="cloudCallout">
            <a:avLst>
              <a:gd name="adj1" fmla="val -48944"/>
              <a:gd name="adj2" fmla="val 2377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想对戴嵩说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 flipH="1" flipV="1">
            <a:off x="-720" y="2895480"/>
            <a:ext cx="6705720" cy="3657600"/>
          </a:xfrm>
          <a:prstGeom prst="cloudCallout">
            <a:avLst>
              <a:gd name="adj1" fmla="val -41810"/>
              <a:gd name="adj2" fmla="val 1002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33"/>
                </a:solidFill>
                <a:latin typeface="华文新魏"/>
                <a:ea typeface="华文新魏"/>
              </a:rPr>
              <a:t>我想对牧童说</a:t>
            </a:r>
            <a:r>
              <a:rPr b="1" lang="en-US" sz="7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8532720" y="6372360"/>
            <a:ext cx="3603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976320" y="15890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066680" y="1600200"/>
            <a:ext cx="741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戴嵩作为一名有名的大画家，仍能虚心接受别人的意见，小牧童虽小，却敢于向大画家提出意见，我们应该向他们学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-76320" y="11160"/>
            <a:ext cx="9144000" cy="684684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609480" y="1143000"/>
            <a:ext cx="6749640" cy="4572720"/>
            <a:chOff x="609480" y="1143000"/>
            <a:chExt cx="6749640" cy="4572720"/>
          </a:xfrm>
        </p:grpSpPr>
        <p:sp>
          <p:nvSpPr>
            <p:cNvPr id="141" name="WordArt 4"/>
            <p:cNvSpPr txBox="1"/>
            <p:nvPr/>
          </p:nvSpPr>
          <p:spPr>
            <a:xfrm>
              <a:off x="609480" y="1143000"/>
              <a:ext cx="14479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小知识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142" name="Text Box 5"/>
            <p:cNvSpPr/>
            <p:nvPr/>
          </p:nvSpPr>
          <p:spPr>
            <a:xfrm>
              <a:off x="2210400" y="2209680"/>
              <a:ext cx="5148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我知道戴嵩特别喜欢牛，他画的牛跟真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一样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三牛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》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归牧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》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这两幅名画，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是戴嵩画的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在我国现代画家中，不少人以画动物而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名，如，齐白石画虾，徐悲鸿画马，李苦蝉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他们画的动物栩栩如生，人们特别喜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WordArt 6"/>
          <p:cNvSpPr txBox="1"/>
          <p:nvPr/>
        </p:nvSpPr>
        <p:spPr>
          <a:xfrm>
            <a:off x="3276720" y="692280"/>
            <a:ext cx="2819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画家和牧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10080" y="203040"/>
            <a:ext cx="47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     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k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     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258920" y="1773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 mǒ  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shjw_20064516352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28600" y="53341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三牛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2005616162615989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52280" y="533412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归牧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齐白石《虾趣图》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52280" y="60040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齐白石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1863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1957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。现代杰出画家，书法家，篆刻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徐悲鸿1940年的国画《群马》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5867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28600" y="59119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徐悲鸿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895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95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中国现代美术的奠基者，杰出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画家和美术教育家。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李苦禅的鹰10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52280" y="57913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李苦禅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89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98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现代杰出画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生从事美术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作和美术教育六十余载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 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黄胄《牧驴图》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228600" y="5715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黄胄：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97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。现代杰出画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曾任中国画研究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副院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无标题4"/>
          <p:cNvPicPr/>
          <p:nvPr/>
        </p:nvPicPr>
        <p:blipFill>
          <a:blip r:embed="rId1"/>
          <a:stretch/>
        </p:blipFill>
        <p:spPr>
          <a:xfrm>
            <a:off x="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35760" y="654120"/>
            <a:ext cx="6764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  价钱  购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蔼  批评  惭愧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翘起  驱赶  牛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戴    惭    愧    抹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批    拱    购    翘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驱　蔼    蝇    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313360" y="7650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443320" y="3789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923360" y="3429000"/>
            <a:ext cx="16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雨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水彩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996440" y="333360"/>
            <a:ext cx="16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帽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红领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3708360" y="83808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3708360" y="1557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3780000" y="386208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3780000" y="4581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7983360" y="6026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914400" y="201456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唐朝有一位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著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画家叫戴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685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他的画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挂出来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就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许多人观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08200" y="501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3760" y="3505320"/>
            <a:ext cx="83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就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看画的人没有不点头称赞的，有钱的人还争着花大价钱购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mzxx101</cp:lastModifiedBy>
  <dcterms:modified xsi:type="dcterms:W3CDTF">2013-04-10T05:57:3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