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B23-B6CD-4B15-AC0D-0E581D50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8FD-2C1E-4630-A19F-C59DF253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A894F-8659-42E6-A43B-DF7A202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FB3ED-BC99-4631-8F0B-AD2E664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A340-AAD3-4C35-818D-9C6E6EE7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B323D-B3BB-41C8-B3BA-C59D692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0F019-0D0D-4AE6-A2DA-C5B134E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CCF0-BDC5-4972-AAC6-A4B0A6E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F8803-67B7-41BA-BF51-66B90F5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3A95C-DDF5-4AE6-BE04-F343A1EA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8A760-D5E0-42BB-A575-39B116E2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2EA5A-BFDB-4266-AEA8-167655EB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8B-87B8-4ED7-811D-00AD0F5A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A57E-BED6-4F7B-A503-E2826D1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830B1-4251-4F60-85CD-E94D7C3B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351A0-F7EB-4F36-B6B2-3081EAFC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8A83D-EE59-4360-BA68-AC53538F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C36CA-F07D-4F6A-899E-6F828EE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4A7DC-2D9D-468B-831F-4E199E81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942E-40FE-45AD-A558-01BFA39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5A18-5633-406A-BD44-852E8E8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03B2-62EB-40C7-A128-00A556F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27B0C-4140-4BD1-B2E9-6416BB7A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4AE-0E44-4A5E-BDEF-5799DF25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44DCC-0995-4F51-9ADB-9AF81FD7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1D6A5-B2BC-4954-92E1-C44656A7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11B0E-98CA-4BB3-B933-280D9AD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83F0-7C0B-487B-8636-74C61028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EA7F9-AF5E-4E9B-B077-75CFEA9B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93431-4D71-4725-85E3-0AC6AAE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4B77-ADAE-403C-A448-096D3404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67630-705B-4E7F-8A0E-3EE952B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1B145-1F7B-4C51-8C10-DC350A1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E8E14-6579-41DD-B1C0-4DFB987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C68C-AB11-46F8-8646-0E7432FC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A32A0-8106-4000-B0B3-0E74277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A6A16-7B8D-4441-8D84-F4066C45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EA5B-B68B-40EC-93FB-3EC93CEB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B154B-4B8A-492A-A98F-FA4052C7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12F50-B923-473E-8D21-6FCBB1D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E718C-F6A9-40EC-90D0-627DA95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1B4EC-EB1B-4EFF-BA36-0A02BA5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B8DE6-6E41-492C-BBC4-116FAB6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C1C4B-66A9-48CC-89F2-27FBBAD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43054-2104-499F-9177-CE2E812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884-3863-4A6A-BA25-B7C9DB3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ED7BE-B7DC-4ED2-8561-CACC374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51BC7-6B9A-439E-AE3C-0A3EAF4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7A94-9B19-457C-9DA1-C4461BAC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B2651-C311-416A-A229-989BFD4C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CD3EE-DC62-4544-93AA-F5FCD9F6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007-0FBD-4194-B77E-E145325F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F654-749C-4AB2-8DA3-9D8B2B8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6A9E-EBEE-4DCA-92A0-3A163FC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111-F21F-416F-A5B0-7FD92F9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F885-B68B-4AE0-87BF-FD5F256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2A5-4F27-4964-80B6-E34BB61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1AC-7121-4E1F-9C59-0250A0B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CFD5-F7A3-4452-9C69-EF93BE3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27AD-44DB-43DB-9DE8-8C852465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873-B2C8-44BB-BCFE-03AF0D80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78D8-CB30-4C10-8DCC-C1C327FA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B2D3-E69A-4DFF-930D-9E42B9F3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9EB9-9F55-42AA-945A-AF43942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AA65-463F-47A2-85B9-4F28000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267C-C10F-435C-8D6A-ED6E41D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9BCF-7F20-466D-B92A-912361AF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294-3ACE-4F71-B948-38C2A252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0B803-2C22-4125-B21B-58CE3F6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1F60-DA8C-4AF9-9AED-29126AB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9E1B-6B21-4216-A1D6-2F02D9C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5A59-44B4-4C6B-99C1-ADC3793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709B0-C37F-4CDD-BDD4-FB2EB76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15C8-AAA2-48D5-B149-4AFE7376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FD62-1A0B-4221-8367-94B9AFFC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96C4-3068-45A6-A359-AAF46255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D2DB-A9D0-4DC6-A440-F4D6D35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1814-D113-4B1F-A9BC-EA87B478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D73-3753-4BAC-943F-06E20319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4F2B-8434-4951-A96D-958793E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075E-00F7-48D7-A3BC-6BF4B27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A10A-FA69-4160-8C84-911DE93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85B8-7E93-4955-9634-9AB25A5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FE54-55D5-4A31-9967-FE2A2C6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03DE-83B2-4A4F-BEF7-0E6236DD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6810-1368-4F29-B680-3CF0610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EC38-03BB-4D1B-B1B2-A4B104EE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0B57-D4D9-431E-8C28-19CBD59D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9C64-3017-42F2-8620-A7408ECD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216-AB42-45C5-B5C6-63166E54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1C5A-EFB8-4F44-8631-FCBD342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3D19-936D-4E07-9B09-DCAA57E6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C8660-2BAC-4364-BC01-C649EFF7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E511-EE18-473F-B19C-BFF9260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C0774-F2FC-4929-A38A-68CEB5B6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13F0-CBCF-4192-8B07-47BA9E8D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4492-6B98-49C6-B3EF-DDC5280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344D-1D90-4EA3-8B86-35E12D2B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1B70E-8997-404E-B215-456A523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C0EA-B74B-4F2D-8E4B-805ABCE0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337-DD83-41A6-A3FF-3B53DD6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203D6-148A-47BD-943C-70C61971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51713-47E0-4EB8-A192-AF2DA649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3C77-A733-4883-84ED-880DE29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D2D8-2C97-4478-8117-1DF5A486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8FF5-506B-4177-8EBF-2E8E220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E2D4-D6F4-484C-BCFB-07DD5AF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5A65-1457-4BC4-99C0-B789F013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6027-82D1-480D-9A0E-41F9185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B1BB-B1F3-4F60-914B-8E493EF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E98A-497A-4620-835A-D129413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9F1-C4DB-4764-8E2A-C0A2622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0285-DD6E-464D-8D1C-93C1522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75692-5016-4EF7-883E-71CD00F7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1DE35-1CF5-4EDA-9B00-4E1A7899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39ED-4D66-4E57-9F74-4BCA88D2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0F0B-48DE-4650-A6A9-0D51177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F2DB-A8BD-4FBC-8028-A0B05EAF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62FB-DA5E-4E06-BDD5-5987C1C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C94C-4117-4C68-9C98-7ED6F743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ADE0-7267-40FA-A80E-96EA744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D14DC-4513-47BD-B8D8-81F67B39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6CA-B9B8-414E-B9C1-2057DA4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3F41-D7CC-4B47-BD0B-D7B9A41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6ED2-4434-49E4-B016-872BE51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DE389-A6F6-4AC2-A50A-8C290B9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B406-DFAB-4B58-8A52-DA98A380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6CDD-915A-4C30-8B3D-F9CA7EB4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C15C-4272-40AF-A477-C55391C0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8BA8-2D0D-4AF6-9331-856D581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D49C9-3A71-426F-87C1-DDDCCD9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C3CD-078E-4D87-A518-C41A34D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AB52-B20B-4E7D-9287-762E78B4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EB8-0B7F-40B9-9D96-1079710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EB90-946D-4E27-A9EF-F047F9A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6567-AE6A-4158-A622-BE439BE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C860-1081-43B7-B8A2-E4AFA66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6EE5-D27D-4267-BC9F-5859318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6113-1503-4D02-AA5D-F30A251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8318D-16B5-412E-906A-492B1944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9907-E4D7-4D44-A337-742A0D88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02835-8DE5-4D83-BA3E-9FD4F779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160BA-1360-45C1-A5D6-EFE3A0B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D17C-5DDB-4297-8907-D76316E1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C7F1-B658-4329-85D7-D23EB1CB6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1297-37D3-4CE9-A45F-0CFE9FA0B3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086-041B-46FA-89A8-85E48C3573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5282-BADD-461F-92A5-0944CD0AA8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C77-331D-4090-8DA8-8DC7387AC4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F30-CF66-4157-8A79-775B4FC19F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BC4-ED91-4B9A-B52E-71EDB4F198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DEB-94E5-41C9-BBF6-ACF9392E0A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339-6DEA-44C9-A537-C216C8D25A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1F57-1E5C-44AD-B290-B57D709C98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3E11-D6A8-4CA1-B6A9-B16FF5F5A7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8049-7D92-4864-83DE-59E3882191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20041122141956122"/>
          <p:cNvPicPr/>
          <p:nvPr/>
        </p:nvPicPr>
        <p:blipFill>
          <a:blip r:embed="rId1"/>
          <a:srcRect l="0" t="0" r="51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8"/>
          <p:cNvSpPr/>
          <p:nvPr/>
        </p:nvSpPr>
        <p:spPr>
          <a:xfrm>
            <a:off x="2247840" y="1828800"/>
            <a:ext cx="464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争 吵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后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不该那样做。克莱谛是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好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他绝对不会是故意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想起那次去他家玩，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帮助父母干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服侍生病的母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情形，还想起他来我家的时候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全家都诚心诚意的欢迎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父亲又是那么喜欢他的种种情形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838080" y="4343400"/>
            <a:ext cx="724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用眼角偷偷地看他，见他衣服肩上的线缝都开了，大概是因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扛多了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缘故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到这里，我觉得克莱谛很可爱，心里暗暗说“去向他认错吧”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可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请原谅我”这几个字怎么也说不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4"/>
          <p:cNvSpPr txBox="1"/>
          <p:nvPr/>
        </p:nvSpPr>
        <p:spPr>
          <a:xfrm>
            <a:off x="4343400" y="3276720"/>
            <a:ext cx="2209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读一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莱谛不时用眼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，从他的眼里表示出来的不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愤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而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悲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又说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在外边等着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我回答说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也等着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！” 可我心里想着父亲对我说过的话：“要是你错了，别人打你，你千万不要还手，只要防御就是了。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我心想：“我只是防御，绝不还手。”毕竟是心里有事，老师讲的功课我一句也没有听进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束照射在冬日里的阳光，使误解这座冰雕融化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座亮丽在黑夜中的灯塔，使迷途者找到航行的港湾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，是一缕飘飞在大地上的清风，使犯错者顿获一股清醒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3"/>
          <p:cNvSpPr/>
          <p:nvPr/>
        </p:nvSpPr>
        <p:spPr>
          <a:xfrm>
            <a:off x="0" y="152280"/>
            <a:ext cx="1676520" cy="1295640"/>
          </a:xfrm>
          <a:prstGeom prst="cloudCallout">
            <a:avLst>
              <a:gd name="adj1" fmla="val 78217"/>
              <a:gd name="adj2" fmla="val 4362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228600" y="457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吵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1981080" y="175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笔记本被弄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3809880" y="1523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4572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火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5257800" y="1523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37339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5181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5943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3276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31240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38098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弄脏克莱谛的本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46483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脸红、举起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7"/>
          <p:cNvSpPr/>
          <p:nvPr/>
        </p:nvSpPr>
        <p:spPr>
          <a:xfrm>
            <a:off x="46483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回手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8"/>
          <p:cNvSpPr/>
          <p:nvPr/>
        </p:nvSpPr>
        <p:spPr>
          <a:xfrm>
            <a:off x="3429000" y="17524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9"/>
          <p:cNvSpPr/>
          <p:nvPr/>
        </p:nvSpPr>
        <p:spPr>
          <a:xfrm>
            <a:off x="2895480" y="35053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0"/>
          <p:cNvSpPr/>
          <p:nvPr/>
        </p:nvSpPr>
        <p:spPr>
          <a:xfrm>
            <a:off x="4343400" y="42670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2438280" y="26668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5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7"/>
          <p:cNvSpPr/>
          <p:nvPr/>
        </p:nvSpPr>
        <p:spPr>
          <a:xfrm>
            <a:off x="228600" y="152280"/>
            <a:ext cx="1066680" cy="1676520"/>
          </a:xfrm>
          <a:prstGeom prst="cloudCallout">
            <a:avLst>
              <a:gd name="adj1" fmla="val 95388"/>
              <a:gd name="adj2" fmla="val 4981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536400" y="457200"/>
            <a:ext cx="546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争吵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213372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25146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39625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承认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62485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不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3"/>
          <p:cNvSpPr/>
          <p:nvPr/>
        </p:nvSpPr>
        <p:spPr>
          <a:xfrm rot="5400000">
            <a:off x="4685760" y="647280"/>
            <a:ext cx="457200" cy="403884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7"/>
                </a:lnTo>
                <a:cubicBezTo>
                  <a:pt x="10800" y="9797"/>
                  <a:pt x="16200" y="10697"/>
                  <a:pt x="21600" y="10697"/>
                </a:cubicBezTo>
                <a:cubicBezTo>
                  <a:pt x="16200" y="10697"/>
                  <a:pt x="10800" y="11597"/>
                  <a:pt x="10800" y="124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4191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矛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6"/>
          <p:cNvSpPr/>
          <p:nvPr/>
        </p:nvSpPr>
        <p:spPr>
          <a:xfrm>
            <a:off x="3276720" y="2133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7"/>
          <p:cNvSpPr/>
          <p:nvPr/>
        </p:nvSpPr>
        <p:spPr>
          <a:xfrm>
            <a:off x="5638680" y="21337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8"/>
          <p:cNvSpPr/>
          <p:nvPr/>
        </p:nvSpPr>
        <p:spPr>
          <a:xfrm>
            <a:off x="1447920" y="4114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时用眼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，从他眼里表现出来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是愤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悲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20"/>
          <p:cNvSpPr/>
          <p:nvPr/>
        </p:nvSpPr>
        <p:spPr>
          <a:xfrm>
            <a:off x="3429000" y="914400"/>
            <a:ext cx="4038480" cy="990720"/>
          </a:xfrm>
          <a:prstGeom prst="wedgeRoundRectCallout">
            <a:avLst>
              <a:gd name="adj1" fmla="val -59000"/>
              <a:gd name="adj2" fmla="val 4759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3581280" y="9907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是我没有骂他，没有做对不起他的事该有多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>
            <a:off x="3733920" y="228600"/>
            <a:ext cx="5105160" cy="1371600"/>
          </a:xfrm>
          <a:prstGeom prst="wedgeRoundRectCallout">
            <a:avLst>
              <a:gd name="adj1" fmla="val -4416"/>
              <a:gd name="adj2" fmla="val 82523"/>
              <a:gd name="adj3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2"/>
          <p:cNvSpPr/>
          <p:nvPr/>
        </p:nvSpPr>
        <p:spPr>
          <a:xfrm>
            <a:off x="3809880" y="3049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里暗暗说“去向他认错吧”，可是“请原谅我”这几个字怎么也说不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3"/>
          <p:cNvSpPr/>
          <p:nvPr/>
        </p:nvSpPr>
        <p:spPr>
          <a:xfrm>
            <a:off x="1371600" y="5181480"/>
            <a:ext cx="2590920" cy="914400"/>
          </a:xfrm>
          <a:prstGeom prst="wedgeRoundRectCallout">
            <a:avLst>
              <a:gd name="adj1" fmla="val 2819"/>
              <a:gd name="adj2" fmla="val -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4"/>
          <p:cNvSpPr/>
          <p:nvPr/>
        </p:nvSpPr>
        <p:spPr>
          <a:xfrm>
            <a:off x="12952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所作所为的宽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5"/>
          <p:cNvSpPr/>
          <p:nvPr/>
        </p:nvSpPr>
        <p:spPr>
          <a:xfrm>
            <a:off x="4419720" y="5029200"/>
            <a:ext cx="2895480" cy="914400"/>
          </a:xfrm>
          <a:prstGeom prst="wedgeRoundRectCallout">
            <a:avLst>
              <a:gd name="adj1" fmla="val -39583"/>
              <a:gd name="adj2" fmla="val -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6"/>
          <p:cNvSpPr/>
          <p:nvPr/>
        </p:nvSpPr>
        <p:spPr>
          <a:xfrm>
            <a:off x="4343400" y="5105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所作所为觉得不可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PM_001"/>
          <p:cNvPicPr/>
          <p:nvPr/>
        </p:nvPicPr>
        <p:blipFill>
          <a:blip r:embed="rId1"/>
          <a:stretch/>
        </p:blipFill>
        <p:spPr>
          <a:xfrm>
            <a:off x="0" y="0"/>
            <a:ext cx="1141236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4"/>
          <p:cNvSpPr/>
          <p:nvPr/>
        </p:nvSpPr>
        <p:spPr>
          <a:xfrm>
            <a:off x="826920" y="1341360"/>
            <a:ext cx="6481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石匠   抄写  墨水   故意  报复   缩回   诚心诚意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承认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缘故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愤怒   独自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戒尺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不料   既然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嫉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哼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ng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） 胳膊肘 服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3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0"/>
          <p:cNvSpPr/>
          <p:nvPr/>
        </p:nvSpPr>
        <p:spPr>
          <a:xfrm>
            <a:off x="0" y="304920"/>
            <a:ext cx="1219320" cy="1447560"/>
          </a:xfrm>
          <a:prstGeom prst="cloudCallout">
            <a:avLst>
              <a:gd name="adj1" fmla="val 71222"/>
              <a:gd name="adj2" fmla="val 4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15228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1828800" y="18288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，安利柯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微笑着用手拨开戒尺，温和地对我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我们像从前那样做好朋友吧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236232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后我们再不吵架了，好吗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2362320" y="3809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也不了！再也不了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回答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9"/>
          <p:cNvSpPr/>
          <p:nvPr/>
        </p:nvSpPr>
        <p:spPr>
          <a:xfrm>
            <a:off x="1143000" y="4724280"/>
            <a:ext cx="2438280" cy="1447920"/>
          </a:xfrm>
          <a:prstGeom prst="wedgeEllipseCallout">
            <a:avLst>
              <a:gd name="adj1" fmla="val 50912"/>
              <a:gd name="adj2" fmla="val -80703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0"/>
          <p:cNvSpPr/>
          <p:nvPr/>
        </p:nvSpPr>
        <p:spPr>
          <a:xfrm>
            <a:off x="14479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字后面不全用冒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4" descr="PM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685800" y="404640"/>
            <a:ext cx="7772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宽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幽深古井中一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晶莹剔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露珠；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宽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倒映在大海中的那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碧万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蓝天；宽容，是照射在冬日里的那一束阳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3004"/>
          <p:cNvPicPr/>
          <p:nvPr/>
        </p:nvPicPr>
        <p:blipFill>
          <a:blip r:embed="rId2"/>
          <a:stretch/>
        </p:blipFill>
        <p:spPr>
          <a:xfrm rot="1392600">
            <a:off x="5257440" y="152280"/>
            <a:ext cx="1095480" cy="173988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7"/>
          <p:cNvSpPr/>
          <p:nvPr/>
        </p:nvSpPr>
        <p:spPr>
          <a:xfrm>
            <a:off x="5562720" y="2514600"/>
            <a:ext cx="2819160" cy="3886200"/>
          </a:xfrm>
          <a:prstGeom prst="cloudCallout">
            <a:avLst>
              <a:gd name="adj1" fmla="val -37444"/>
              <a:gd name="adj2" fmla="val -75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6095880" y="3276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如克莱谛没有主动与“我”和好，事情会怎样发展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250" autoRev="1" fill="hold"/>
                                        <p:tgtEl>
                                          <p:spTgt spid="6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3" descr="20070923154904376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WordArt 11"/>
          <p:cNvSpPr txBox="1"/>
          <p:nvPr/>
        </p:nvSpPr>
        <p:spPr>
          <a:xfrm rot="21419400">
            <a:off x="3192480" y="1152000"/>
            <a:ext cx="1913040" cy="4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 结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2133720" y="3124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5181480" y="3048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莱谛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1905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不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5181480" y="3657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主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38098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吵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7"/>
          <p:cNvSpPr/>
          <p:nvPr/>
        </p:nvSpPr>
        <p:spPr>
          <a:xfrm>
            <a:off x="38098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8"/>
          <p:cNvSpPr/>
          <p:nvPr/>
        </p:nvSpPr>
        <p:spPr>
          <a:xfrm>
            <a:off x="36576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错就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9"/>
          <p:cNvSpPr/>
          <p:nvPr/>
        </p:nvSpPr>
        <p:spPr>
          <a:xfrm>
            <a:off x="34290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0"/>
          <p:cNvSpPr/>
          <p:nvPr/>
        </p:nvSpPr>
        <p:spPr>
          <a:xfrm flipH="1">
            <a:off x="342864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21"/>
          <p:cNvSpPr/>
          <p:nvPr/>
        </p:nvSpPr>
        <p:spPr>
          <a:xfrm rot="16200000">
            <a:off x="4267080" y="289512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RX_014"/>
          <p:cNvPicPr/>
          <p:nvPr/>
        </p:nvPicPr>
        <p:blipFill>
          <a:blip r:embed="rId1"/>
          <a:stretch/>
        </p:blipFill>
        <p:spPr>
          <a:xfrm>
            <a:off x="0" y="-171360"/>
            <a:ext cx="1260360" cy="2361960"/>
          </a:xfrm>
          <a:prstGeom prst="rect">
            <a:avLst/>
          </a:prstGeom>
          <a:ln w="0">
            <a:noFill/>
          </a:ln>
        </p:spPr>
      </p:pic>
      <p:pic>
        <p:nvPicPr>
          <p:cNvPr id="698" name="WordArt 3" descr=""/>
          <p:cNvPicPr/>
          <p:nvPr/>
        </p:nvPicPr>
        <p:blipFill>
          <a:blip r:embed="rId2"/>
          <a:stretch/>
        </p:blipFill>
        <p:spPr>
          <a:xfrm>
            <a:off x="1322280" y="0"/>
            <a:ext cx="4249800" cy="165276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4"/>
          <p:cNvGrpSpPr/>
          <p:nvPr/>
        </p:nvGrpSpPr>
        <p:grpSpPr>
          <a:xfrm>
            <a:off x="900000" y="1916280"/>
            <a:ext cx="1600200" cy="1600200"/>
            <a:chOff x="900000" y="1916280"/>
            <a:chExt cx="1600200" cy="1600200"/>
          </a:xfrm>
        </p:grpSpPr>
        <p:sp>
          <p:nvSpPr>
            <p:cNvPr id="700" name="Rectangle 5"/>
            <p:cNvSpPr/>
            <p:nvPr/>
          </p:nvSpPr>
          <p:spPr>
            <a:xfrm>
              <a:off x="900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"/>
            <p:cNvSpPr/>
            <p:nvPr/>
          </p:nvSpPr>
          <p:spPr>
            <a:xfrm>
              <a:off x="900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7"/>
            <p:cNvSpPr/>
            <p:nvPr/>
          </p:nvSpPr>
          <p:spPr>
            <a:xfrm>
              <a:off x="1738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8"/>
          <p:cNvGrpSpPr/>
          <p:nvPr/>
        </p:nvGrpSpPr>
        <p:grpSpPr>
          <a:xfrm>
            <a:off x="971640" y="3860640"/>
            <a:ext cx="1600200" cy="1600200"/>
            <a:chOff x="971640" y="3860640"/>
            <a:chExt cx="1600200" cy="1600200"/>
          </a:xfrm>
        </p:grpSpPr>
        <p:sp>
          <p:nvSpPr>
            <p:cNvPr id="704" name="Rectangle 9"/>
            <p:cNvSpPr/>
            <p:nvPr/>
          </p:nvSpPr>
          <p:spPr>
            <a:xfrm>
              <a:off x="9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0"/>
            <p:cNvSpPr/>
            <p:nvPr/>
          </p:nvSpPr>
          <p:spPr>
            <a:xfrm>
              <a:off x="971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1"/>
            <p:cNvSpPr/>
            <p:nvPr/>
          </p:nvSpPr>
          <p:spPr>
            <a:xfrm>
              <a:off x="1810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2"/>
          <p:cNvGrpSpPr/>
          <p:nvPr/>
        </p:nvGrpSpPr>
        <p:grpSpPr>
          <a:xfrm>
            <a:off x="2843280" y="1916280"/>
            <a:ext cx="1600200" cy="1600200"/>
            <a:chOff x="2843280" y="1916280"/>
            <a:chExt cx="1600200" cy="1600200"/>
          </a:xfrm>
        </p:grpSpPr>
        <p:sp>
          <p:nvSpPr>
            <p:cNvPr id="708" name="Rectangle 13"/>
            <p:cNvSpPr/>
            <p:nvPr/>
          </p:nvSpPr>
          <p:spPr>
            <a:xfrm>
              <a:off x="284328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4"/>
            <p:cNvSpPr/>
            <p:nvPr/>
          </p:nvSpPr>
          <p:spPr>
            <a:xfrm>
              <a:off x="284328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5"/>
            <p:cNvSpPr/>
            <p:nvPr/>
          </p:nvSpPr>
          <p:spPr>
            <a:xfrm>
              <a:off x="368172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6"/>
          <p:cNvGrpSpPr/>
          <p:nvPr/>
        </p:nvGrpSpPr>
        <p:grpSpPr>
          <a:xfrm>
            <a:off x="4788000" y="1916280"/>
            <a:ext cx="1600200" cy="1600200"/>
            <a:chOff x="4788000" y="1916280"/>
            <a:chExt cx="1600200" cy="1600200"/>
          </a:xfrm>
        </p:grpSpPr>
        <p:sp>
          <p:nvSpPr>
            <p:cNvPr id="712" name="Rectangle 17"/>
            <p:cNvSpPr/>
            <p:nvPr/>
          </p:nvSpPr>
          <p:spPr>
            <a:xfrm>
              <a:off x="4788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>
              <a:off x="4788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9"/>
            <p:cNvSpPr/>
            <p:nvPr/>
          </p:nvSpPr>
          <p:spPr>
            <a:xfrm>
              <a:off x="5626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20"/>
          <p:cNvGrpSpPr/>
          <p:nvPr/>
        </p:nvGrpSpPr>
        <p:grpSpPr>
          <a:xfrm>
            <a:off x="6804000" y="1916280"/>
            <a:ext cx="1600200" cy="1600200"/>
            <a:chOff x="6804000" y="1916280"/>
            <a:chExt cx="1600200" cy="1600200"/>
          </a:xfrm>
        </p:grpSpPr>
        <p:sp>
          <p:nvSpPr>
            <p:cNvPr id="716" name="Rectangle 21"/>
            <p:cNvSpPr/>
            <p:nvPr/>
          </p:nvSpPr>
          <p:spPr>
            <a:xfrm>
              <a:off x="6804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2"/>
            <p:cNvSpPr/>
            <p:nvPr/>
          </p:nvSpPr>
          <p:spPr>
            <a:xfrm>
              <a:off x="6804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3"/>
            <p:cNvSpPr/>
            <p:nvPr/>
          </p:nvSpPr>
          <p:spPr>
            <a:xfrm>
              <a:off x="7642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WordArt 24"/>
          <p:cNvSpPr txBox="1"/>
          <p:nvPr/>
        </p:nvSpPr>
        <p:spPr>
          <a:xfrm>
            <a:off x="291636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扛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0" name="WordArt 25"/>
          <p:cNvSpPr txBox="1"/>
          <p:nvPr/>
        </p:nvSpPr>
        <p:spPr>
          <a:xfrm>
            <a:off x="990720" y="20574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肩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21" name="Group 26"/>
          <p:cNvGrpSpPr/>
          <p:nvPr/>
        </p:nvGrpSpPr>
        <p:grpSpPr>
          <a:xfrm>
            <a:off x="2771640" y="3860640"/>
            <a:ext cx="1600200" cy="1600200"/>
            <a:chOff x="2771640" y="3860640"/>
            <a:chExt cx="1600200" cy="1600200"/>
          </a:xfrm>
        </p:grpSpPr>
        <p:sp>
          <p:nvSpPr>
            <p:cNvPr id="722" name="Rectangle 27"/>
            <p:cNvSpPr/>
            <p:nvPr/>
          </p:nvSpPr>
          <p:spPr>
            <a:xfrm>
              <a:off x="27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2771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3610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0"/>
          <p:cNvGrpSpPr/>
          <p:nvPr/>
        </p:nvGrpSpPr>
        <p:grpSpPr>
          <a:xfrm>
            <a:off x="4716360" y="3860640"/>
            <a:ext cx="1600200" cy="1600200"/>
            <a:chOff x="4716360" y="3860640"/>
            <a:chExt cx="1600200" cy="1600200"/>
          </a:xfrm>
        </p:grpSpPr>
        <p:sp>
          <p:nvSpPr>
            <p:cNvPr id="726" name="Rectangle 31"/>
            <p:cNvSpPr/>
            <p:nvPr/>
          </p:nvSpPr>
          <p:spPr>
            <a:xfrm>
              <a:off x="471636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"/>
            <p:cNvSpPr/>
            <p:nvPr/>
          </p:nvSpPr>
          <p:spPr>
            <a:xfrm>
              <a:off x="471636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3"/>
            <p:cNvSpPr/>
            <p:nvPr/>
          </p:nvSpPr>
          <p:spPr>
            <a:xfrm>
              <a:off x="555480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34"/>
          <p:cNvGrpSpPr/>
          <p:nvPr/>
        </p:nvGrpSpPr>
        <p:grpSpPr>
          <a:xfrm>
            <a:off x="6659640" y="3860640"/>
            <a:ext cx="1600200" cy="1600200"/>
            <a:chOff x="6659640" y="3860640"/>
            <a:chExt cx="1600200" cy="1600200"/>
          </a:xfrm>
        </p:grpSpPr>
        <p:sp>
          <p:nvSpPr>
            <p:cNvPr id="730" name="Rectangle 35"/>
            <p:cNvSpPr/>
            <p:nvPr/>
          </p:nvSpPr>
          <p:spPr>
            <a:xfrm>
              <a:off x="6659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6"/>
            <p:cNvSpPr/>
            <p:nvPr/>
          </p:nvSpPr>
          <p:spPr>
            <a:xfrm>
              <a:off x="6659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7"/>
            <p:cNvSpPr/>
            <p:nvPr/>
          </p:nvSpPr>
          <p:spPr>
            <a:xfrm>
              <a:off x="7498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WordArt 38"/>
          <p:cNvSpPr txBox="1"/>
          <p:nvPr/>
        </p:nvSpPr>
        <p:spPr>
          <a:xfrm>
            <a:off x="29718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戒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4" name="WordArt 39"/>
          <p:cNvSpPr txBox="1"/>
          <p:nvPr/>
        </p:nvSpPr>
        <p:spPr>
          <a:xfrm>
            <a:off x="11430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5" name="WordArt 40"/>
          <p:cNvSpPr txBox="1"/>
          <p:nvPr/>
        </p:nvSpPr>
        <p:spPr>
          <a:xfrm>
            <a:off x="4876920" y="41148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既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6" name="WordArt 41"/>
          <p:cNvSpPr txBox="1"/>
          <p:nvPr/>
        </p:nvSpPr>
        <p:spPr>
          <a:xfrm>
            <a:off x="6934320" y="21337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愤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7" name="WordArt 42"/>
          <p:cNvSpPr txBox="1"/>
          <p:nvPr/>
        </p:nvSpPr>
        <p:spPr>
          <a:xfrm>
            <a:off x="4952880" y="2133720"/>
            <a:ext cx="12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缘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8390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束照射在冬日里的阳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误解这座冰雕融化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座亮丽在黑夜中的灯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迷途者找到航行的港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宽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一缕飘飞在大地上的清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犯错者顿获一股清醒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20050614104725534"/>
          <p:cNvPicPr/>
          <p:nvPr/>
        </p:nvPicPr>
        <p:blipFill>
          <a:blip r:embed="rId1">
            <a:alphaModFix amt="42000"/>
          </a:blip>
          <a:srcRect l="4328" t="2478" r="16386" b="4691"/>
          <a:stretch/>
        </p:blipFill>
        <p:spPr>
          <a:xfrm>
            <a:off x="179280" y="623880"/>
            <a:ext cx="8786880" cy="597204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611280" y="2060640"/>
            <a:ext cx="748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学会懂得人与人之间要相互宽容，团结友爱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学习生字、新词；理解课文内容，知道课文写了一件什么事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、能联系课文内容，理解父亲说的话；有感情的朗读课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018"/>
          <p:cNvPicPr/>
          <p:nvPr/>
        </p:nvPicPr>
        <p:blipFill>
          <a:blip r:embed="rId2"/>
          <a:stretch/>
        </p:blipFill>
        <p:spPr>
          <a:xfrm>
            <a:off x="395280" y="981000"/>
            <a:ext cx="2664000" cy="115272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5"/>
          <p:cNvSpPr/>
          <p:nvPr/>
        </p:nvSpPr>
        <p:spPr>
          <a:xfrm>
            <a:off x="611280" y="112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我要做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107ec"/>
          <p:cNvPicPr/>
          <p:nvPr/>
        </p:nvPicPr>
        <p:blipFill>
          <a:blip r:embed="rId1">
            <a:lum bright="12000"/>
          </a:blip>
          <a:srcRect l="0" t="13858" r="178" b="15559"/>
          <a:stretch/>
        </p:blipFill>
        <p:spPr>
          <a:xfrm>
            <a:off x="250920" y="601560"/>
            <a:ext cx="8713800" cy="592308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3"/>
          <p:cNvSpPr/>
          <p:nvPr/>
        </p:nvSpPr>
        <p:spPr>
          <a:xfrm>
            <a:off x="395280" y="205740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近：缘故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原因　愤怒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愤慨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服侍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侍候   悲哀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悲伤　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温和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和气　防御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防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反：故意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无意　防御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进攻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　   温和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凶狠　高尚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卑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4" descr="018"/>
          <p:cNvPicPr/>
          <p:nvPr/>
        </p:nvPicPr>
        <p:blipFill>
          <a:blip r:embed="rId2"/>
          <a:stretch/>
        </p:blipFill>
        <p:spPr>
          <a:xfrm>
            <a:off x="179280" y="620640"/>
            <a:ext cx="3240360" cy="115272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5"/>
          <p:cNvSpPr/>
          <p:nvPr/>
        </p:nvSpPr>
        <p:spPr>
          <a:xfrm>
            <a:off x="395280" y="7002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近、反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107ec"/>
          <p:cNvPicPr/>
          <p:nvPr/>
        </p:nvPicPr>
        <p:blipFill>
          <a:blip r:embed="rId1">
            <a:lum bright="12000"/>
          </a:blip>
          <a:srcRect l="0" t="13858" r="178" b="15559"/>
          <a:stretch/>
        </p:blipFill>
        <p:spPr>
          <a:xfrm>
            <a:off x="0" y="0"/>
            <a:ext cx="9142560" cy="6878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" descr="018"/>
          <p:cNvPicPr/>
          <p:nvPr/>
        </p:nvPicPr>
        <p:blipFill>
          <a:blip r:embed="rId2"/>
          <a:stretch/>
        </p:blipFill>
        <p:spPr>
          <a:xfrm>
            <a:off x="179280" y="44280"/>
            <a:ext cx="2880000" cy="115272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很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抗击敌人的进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究竟；终归；到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对某方面比自己好的人心怀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打击批评自己或损害自己利益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事后悔恨不该这样或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伺候；照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诚恳，真心实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684360" y="189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巧析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003320" y="97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缘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982800" y="1554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1003320" y="2128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防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1003320" y="2705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1055880" y="3281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1035360" y="3857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035360" y="44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1035360" y="5081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服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1175400" y="5657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心诚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20050524191026658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3"/>
          <p:cNvSpPr/>
          <p:nvPr/>
        </p:nvSpPr>
        <p:spPr>
          <a:xfrm>
            <a:off x="971640" y="1773360"/>
            <a:ext cx="7416720" cy="971640"/>
          </a:xfrm>
          <a:prstGeom prst="rect">
            <a:avLst/>
          </a:prstGeom>
          <a:solidFill>
            <a:srgbClr val="ffff99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　  </a:t>
            </a:r>
            <a:r>
              <a:rPr b="0" lang="zh-CN" sz="3600" spc="-1" strike="noStrike">
                <a:solidFill>
                  <a:srgbClr val="ff00ff"/>
                </a:solidFill>
                <a:latin typeface="Comic Sans MS"/>
                <a:ea typeface="华文中宋"/>
              </a:rPr>
              <a:t>“我”的笔记本被克莱蒂弄脏了。为了报复，“我”也把他的本子弄脏了。“我”很后悔这样做，但没有勇气向他承认错误。放学后，在克莱谛主动要求下，我们和好了。回到家，父亲又教育了我。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4" descr="018"/>
          <p:cNvPicPr/>
          <p:nvPr/>
        </p:nvPicPr>
        <p:blipFill>
          <a:blip r:embed="rId2"/>
          <a:stretch/>
        </p:blipFill>
        <p:spPr>
          <a:xfrm>
            <a:off x="179280" y="692280"/>
            <a:ext cx="2592360" cy="865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5"/>
          <p:cNvSpPr/>
          <p:nvPr/>
        </p:nvSpPr>
        <p:spPr>
          <a:xfrm>
            <a:off x="324000" y="6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3bedd6ddfb229c2c5882d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WordArt 10"/>
          <p:cNvSpPr txBox="1"/>
          <p:nvPr/>
        </p:nvSpPr>
        <p:spPr>
          <a:xfrm rot="210000">
            <a:off x="3123720" y="837720"/>
            <a:ext cx="243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？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99" name="Group 21"/>
          <p:cNvGrpSpPr/>
          <p:nvPr/>
        </p:nvGrpSpPr>
        <p:grpSpPr>
          <a:xfrm>
            <a:off x="685800" y="2666880"/>
            <a:ext cx="4952520" cy="2895480"/>
            <a:chOff x="685800" y="2666880"/>
            <a:chExt cx="4952520" cy="2895480"/>
          </a:xfrm>
        </p:grpSpPr>
        <p:sp>
          <p:nvSpPr>
            <p:cNvPr id="500" name="Text Box 12"/>
            <p:cNvSpPr/>
            <p:nvPr/>
          </p:nvSpPr>
          <p:spPr>
            <a:xfrm>
              <a:off x="1295280" y="2666880"/>
              <a:ext cx="31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谁与谁争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3"/>
            <p:cNvSpPr/>
            <p:nvPr/>
          </p:nvSpPr>
          <p:spPr>
            <a:xfrm>
              <a:off x="685800" y="2819160"/>
              <a:ext cx="380880" cy="27432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8440 h 2743200"/>
                <a:gd name="textAreaBottom" fmla="*/ 27147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2"/>
                    <a:pt x="10800" y="724"/>
                  </a:cubicBezTo>
                  <a:lnTo>
                    <a:pt x="10800" y="10076"/>
                  </a:lnTo>
                  <a:cubicBezTo>
                    <a:pt x="10800" y="10438"/>
                    <a:pt x="5400" y="10800"/>
                    <a:pt x="0" y="10800"/>
                  </a:cubicBezTo>
                  <a:cubicBezTo>
                    <a:pt x="5400" y="10800"/>
                    <a:pt x="10800" y="11162"/>
                    <a:pt x="10800" y="11524"/>
                  </a:cubicBezTo>
                  <a:lnTo>
                    <a:pt x="10800" y="20876"/>
                  </a:lnTo>
                  <a:cubicBezTo>
                    <a:pt x="10800" y="21238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1295280" y="3657600"/>
              <a:ext cx="32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他们为何争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5"/>
            <p:cNvSpPr/>
            <p:nvPr/>
          </p:nvSpPr>
          <p:spPr>
            <a:xfrm>
              <a:off x="1295280" y="4572000"/>
              <a:ext cx="4343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、我与</a:t>
              </a:r>
              <a:r>
                <a:rPr b="1" lang="zh-CN" sz="2800" spc="-1" strike="noStrike">
                  <a:solidFill>
                    <a:srgbClr val="00cc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00cc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cc00"/>
                  </a:solidFill>
                  <a:latin typeface="Arial"/>
                </a:rPr>
                <a:t>争吵前            后的表现时怎样的，又是如何和好的呢？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2"/>
          <p:cNvGrpSpPr/>
          <p:nvPr/>
        </p:nvGrpSpPr>
        <p:grpSpPr>
          <a:xfrm>
            <a:off x="4572000" y="2743200"/>
            <a:ext cx="3809520" cy="609480"/>
            <a:chOff x="4572000" y="2743200"/>
            <a:chExt cx="3809520" cy="609480"/>
          </a:xfrm>
        </p:grpSpPr>
        <p:sp>
          <p:nvSpPr>
            <p:cNvPr id="505" name="AutoShape 23"/>
            <p:cNvSpPr/>
            <p:nvPr/>
          </p:nvSpPr>
          <p:spPr>
            <a:xfrm>
              <a:off x="4748760" y="2743200"/>
              <a:ext cx="3632760" cy="609480"/>
            </a:xfrm>
            <a:prstGeom prst="wedgeRoundRectCallout">
              <a:avLst>
                <a:gd name="adj1" fmla="val -68342"/>
                <a:gd name="adj2" fmla="val -29685"/>
                <a:gd name="adj3" fmla="val 16667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4"/>
            <p:cNvSpPr/>
            <p:nvPr/>
          </p:nvSpPr>
          <p:spPr>
            <a:xfrm>
              <a:off x="4572000" y="2743200"/>
              <a:ext cx="36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与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36"/>
          <p:cNvGrpSpPr/>
          <p:nvPr/>
        </p:nvGrpSpPr>
        <p:grpSpPr>
          <a:xfrm>
            <a:off x="5029200" y="2514600"/>
            <a:ext cx="4114800" cy="2209680"/>
            <a:chOff x="5029200" y="2514600"/>
            <a:chExt cx="4114800" cy="2209680"/>
          </a:xfrm>
        </p:grpSpPr>
        <p:sp>
          <p:nvSpPr>
            <p:cNvPr id="508" name="AutoShape 37"/>
            <p:cNvSpPr/>
            <p:nvPr/>
          </p:nvSpPr>
          <p:spPr>
            <a:xfrm>
              <a:off x="5029200" y="2514600"/>
              <a:ext cx="4038840" cy="2209680"/>
            </a:xfrm>
            <a:prstGeom prst="wedgeRoundRectCallout">
              <a:avLst>
                <a:gd name="adj1" fmla="val -62226"/>
                <a:gd name="adj2" fmla="val 14296"/>
                <a:gd name="adj3" fmla="val 16667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8"/>
            <p:cNvSpPr/>
            <p:nvPr/>
          </p:nvSpPr>
          <p:spPr>
            <a:xfrm>
              <a:off x="5181840" y="2666880"/>
              <a:ext cx="3962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103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不小心弄脏了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的笔记本，我为了报复，故意弄脏了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克莱谛</a:t>
              </a:r>
              <a:r>
                <a:rPr b="1" lang="zh-CN" sz="2800" spc="-1" strike="noStrike">
                  <a:solidFill>
                    <a:srgbClr val="210377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210377"/>
                  </a:solidFill>
                  <a:latin typeface="Arial"/>
                </a:rPr>
                <a:t>的本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3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216000" y="2997360"/>
            <a:ext cx="81723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他只是微笑着说：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不是故意的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我本来会相信他的，可是他的笑使我很不高兴。我想：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哼，得了奖，就自以为了不起了！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于是我想报复他，过了一会儿，我也碰了他一下，把他的本子也弄脏了。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13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克莱谛把”我”的笔记本弄脏后，他是怎么做的？“我”又是怎样想、怎样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6" descr="20050530195536858"/>
          <p:cNvPicPr/>
          <p:nvPr/>
        </p:nvPicPr>
        <p:blipFill>
          <a:blip r:embed="rId2"/>
          <a:stretch/>
        </p:blipFill>
        <p:spPr>
          <a:xfrm>
            <a:off x="7599240" y="2997360"/>
            <a:ext cx="17971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4683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他的表现是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脸都红了，举起手又缩回去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脸红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说明他生气。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举起手又缩回去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，说明克莱谛不想把事情闹大，老师知道后，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会受到批评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539640" y="134136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当“我”故意把克莱谛的本子弄脏后，他是怎样表现的？为什么会这样？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6" descr="20050605200138662"/>
          <p:cNvPicPr/>
          <p:nvPr/>
        </p:nvPicPr>
        <p:blipFill>
          <a:blip r:embed="rId2"/>
          <a:srcRect l="16490" t="2962" r="19695" b="1853"/>
          <a:stretch/>
        </p:blipFill>
        <p:spPr>
          <a:xfrm>
            <a:off x="7521480" y="2637000"/>
            <a:ext cx="1622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79280" y="2923920"/>
            <a:ext cx="806472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①</a:t>
            </a:r>
            <a:r>
              <a:rPr b="0" lang="en-US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觉得很不安，气也全消了。我很后悔，不该那样做。</a:t>
            </a:r>
            <a:r>
              <a:rPr b="0" lang="en-US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该有多好！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　   ②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认识到了自己做错了，可为什么不能向克莱谛道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　   （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觉得向他承认错误太丢脸了，也就没有勇气面对他，承认错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611280" y="1557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事情发生后，我又是怎样想的呢？请找出有关的句子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6" descr="20050601185706223"/>
          <p:cNvPicPr/>
          <p:nvPr/>
        </p:nvPicPr>
        <p:blipFill>
          <a:blip r:embed="rId2"/>
          <a:srcRect l="16438" t="0" r="11011" b="546"/>
          <a:stretch/>
        </p:blipFill>
        <p:spPr>
          <a:xfrm>
            <a:off x="7488360" y="3716280"/>
            <a:ext cx="1655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95280" y="313992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克莱谛两次说这句话，是想让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上课的时候不要想这件事了，放学后再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解释清楚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第一次听到他说这句话时，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感到不安、觉得后悔；第二次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虽然认识到自己错了，心里想的仍是防御，并没有想到放学后主动向他认错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93636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4"/>
          <p:cNvSpPr/>
          <p:nvPr/>
        </p:nvSpPr>
        <p:spPr>
          <a:xfrm>
            <a:off x="611280" y="69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5" descr="20050615145048329"/>
          <p:cNvPicPr/>
          <p:nvPr/>
        </p:nvPicPr>
        <p:blipFill>
          <a:blip r:embed="rId2"/>
          <a:stretch/>
        </p:blipFill>
        <p:spPr>
          <a:xfrm>
            <a:off x="7088040" y="620640"/>
            <a:ext cx="1784520" cy="244800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6"/>
          <p:cNvSpPr/>
          <p:nvPr/>
        </p:nvSpPr>
        <p:spPr>
          <a:xfrm>
            <a:off x="611280" y="1268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克莱谛为什么两次说“我在外边等着你！” ？“我”每次都是怎样领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05080" cy="86508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3"/>
          <p:cNvSpPr/>
          <p:nvPr/>
        </p:nvSpPr>
        <p:spPr>
          <a:xfrm>
            <a:off x="611280" y="69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20050911181952804"/>
          <p:cNvPicPr/>
          <p:nvPr/>
        </p:nvPicPr>
        <p:blipFill>
          <a:blip r:embed="rId2"/>
          <a:srcRect l="26377" t="31114" r="43377" b="-383"/>
          <a:stretch/>
        </p:blipFill>
        <p:spPr>
          <a:xfrm>
            <a:off x="0" y="3068640"/>
            <a:ext cx="1476360" cy="316692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5"/>
          <p:cNvSpPr/>
          <p:nvPr/>
        </p:nvSpPr>
        <p:spPr>
          <a:xfrm>
            <a:off x="1042920" y="2924280"/>
            <a:ext cx="73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从这件事可以看出克莱谛是一个宽容、友爱待人的好孩子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则是一个爱面子的孩子，最后被克莱谛的宽容、友爱精神所感动，承认了自己的错误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68436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6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从这件事情可以看得出来，克莱谛是个怎样的孩子。“我”呢？又是个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7" descr="20060211212332866"/>
          <p:cNvPicPr/>
          <p:nvPr/>
        </p:nvPicPr>
        <p:blipFill>
          <a:blip r:embed="rId3"/>
          <a:srcRect l="33521" t="0" r="30759" b="879"/>
          <a:stretch/>
        </p:blipFill>
        <p:spPr>
          <a:xfrm>
            <a:off x="7788240" y="765000"/>
            <a:ext cx="1355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f9d712a5f42d0d447b2c005b61744e5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179280" y="2276640"/>
            <a:ext cx="84981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    这句话说明了克莱谛对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故意报复的行为不以为然，既不生气，也不愤怒，而是感到可悲。同学之间为一件小事而报复别人，这值得吗？他满以为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会认识到自己的错误，甚至公开认错，但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却没有这样做，这使他为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感到可悲。可见克莱谛为人正派，人格高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4" descr="018"/>
          <p:cNvPicPr/>
          <p:nvPr/>
        </p:nvPicPr>
        <p:blipFill>
          <a:blip r:embed="rId2"/>
          <a:stretch/>
        </p:blipFill>
        <p:spPr>
          <a:xfrm>
            <a:off x="108000" y="44280"/>
            <a:ext cx="2663640" cy="86364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324000" y="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重点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1128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．克莱谛不时用眼睛瞟我，从他的眼里表示出来的不是愤怒，而是悲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2" descr="f9d712a5f42d0d447b2c005b61744e5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" descr="018"/>
          <p:cNvPicPr/>
          <p:nvPr/>
        </p:nvPicPr>
        <p:blipFill>
          <a:blip r:embed="rId2"/>
          <a:stretch/>
        </p:blipFill>
        <p:spPr>
          <a:xfrm>
            <a:off x="34920" y="44280"/>
            <a:ext cx="280836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1280" y="2205000"/>
            <a:ext cx="86043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这是父亲对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0066ff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的批评和教育。话里包含着很深的做人道理：一个人既然知道自己做错了，就应该主动地向别人承认自己的错误，多做自我批评，求得别人的谅解，而不应该为了面子犹豫不决。当别人向自己表示和解时，应该多些理解和宽容，更不应该心存戒备和进行报复，这样，你才会拥有更多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468360" y="-2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重点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324000" y="62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     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cc6600"/>
                </a:solidFill>
                <a:latin typeface="Comic Sans MS"/>
                <a:ea typeface="华文中宋"/>
              </a:rPr>
              <a:t>．既然你错了，就应该第一个伸过手去请他原谅，更不应该向一个比你高尚的朋友举起戒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终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了放学。我在街上独自走着，听见克莱谛从后面跟上来。我手里拿着戒尺站住等他。他走近了我，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举起戒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，安利柯！”克莱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着用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拨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戒尺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温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地对我说：“让我们像从前那样做好朋友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愣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。我觉得有两只手搭在我的肩上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以后我们再不吵架了，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再也不了！再也不了！”我回答说。然后我们就高高兴兴地分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64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到家里，我把这件事告诉了父亲，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想让父亲高兴一下，不料父亲把脸一沉，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既然你错了，就应该第一个伸过手去请他原谅，况且你不应该向一个比你高尚的朋友举起戒尺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说着从我手里夺过戒尺，折成两段，向墙角扔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3bedd6ddfb229c2c5882d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WordArt 3"/>
          <p:cNvSpPr txBox="1"/>
          <p:nvPr/>
        </p:nvSpPr>
        <p:spPr>
          <a:xfrm rot="422400">
            <a:off x="380520" y="228600"/>
            <a:ext cx="5715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横线划出我的表现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波浪线划出克莱谛的表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212760" y="230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28600" y="1752480"/>
            <a:ext cx="85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火了，骂了他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是他的笑让我很不高兴。心想：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”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于是我想报复他。过了一会儿，我也碰了他一下，把他的本子也弄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228600" y="4019400"/>
            <a:ext cx="85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我正抄着，坐在旁边的</a:t>
            </a:r>
            <a:r>
              <a:rPr b="0" lang="en-US" sz="3600" spc="-1" strike="noStrike">
                <a:solidFill>
                  <a:srgbClr val="210377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自己也看不清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他微笑着说：“我不是故意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克莱谛气得脸都红了。</a:t>
            </a:r>
            <a:r>
              <a:rPr b="0" lang="en-US" sz="3600" spc="-1" strike="noStrike">
                <a:solidFill>
                  <a:srgbClr val="210377"/>
                </a:solidFill>
                <a:latin typeface="Arial"/>
              </a:rPr>
              <a:t>……</a:t>
            </a:r>
            <a:r>
              <a:rPr b="0" lang="zh-CN" sz="3600" spc="-1" strike="noStrike">
                <a:solidFill>
                  <a:srgbClr val="210377"/>
                </a:solidFill>
                <a:latin typeface="Arial"/>
              </a:rPr>
              <a:t>说：“我在外边等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RX_014"/>
          <p:cNvPicPr/>
          <p:nvPr/>
        </p:nvPicPr>
        <p:blipFill>
          <a:blip r:embed="rId1"/>
          <a:stretch/>
        </p:blipFill>
        <p:spPr>
          <a:xfrm>
            <a:off x="0" y="-171360"/>
            <a:ext cx="1260360" cy="2361960"/>
          </a:xfrm>
          <a:prstGeom prst="rect">
            <a:avLst/>
          </a:prstGeom>
          <a:ln w="0">
            <a:noFill/>
          </a:ln>
        </p:spPr>
      </p:pic>
      <p:pic>
        <p:nvPicPr>
          <p:cNvPr id="516" name="WordArt 3" descr=""/>
          <p:cNvPicPr/>
          <p:nvPr/>
        </p:nvPicPr>
        <p:blipFill>
          <a:blip r:embed="rId2"/>
          <a:stretch/>
        </p:blipFill>
        <p:spPr>
          <a:xfrm>
            <a:off x="1322280" y="0"/>
            <a:ext cx="4249800" cy="165276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900000" y="1916280"/>
            <a:ext cx="1600200" cy="1600200"/>
            <a:chOff x="900000" y="1916280"/>
            <a:chExt cx="1600200" cy="1600200"/>
          </a:xfrm>
        </p:grpSpPr>
        <p:sp>
          <p:nvSpPr>
            <p:cNvPr id="518" name="Rectangle 5"/>
            <p:cNvSpPr/>
            <p:nvPr/>
          </p:nvSpPr>
          <p:spPr>
            <a:xfrm>
              <a:off x="900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900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7"/>
            <p:cNvSpPr/>
            <p:nvPr/>
          </p:nvSpPr>
          <p:spPr>
            <a:xfrm>
              <a:off x="1738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8"/>
          <p:cNvGrpSpPr/>
          <p:nvPr/>
        </p:nvGrpSpPr>
        <p:grpSpPr>
          <a:xfrm>
            <a:off x="971640" y="3860640"/>
            <a:ext cx="1600200" cy="1600200"/>
            <a:chOff x="971640" y="3860640"/>
            <a:chExt cx="1600200" cy="1600200"/>
          </a:xfrm>
        </p:grpSpPr>
        <p:sp>
          <p:nvSpPr>
            <p:cNvPr id="522" name="Rectangle 9"/>
            <p:cNvSpPr/>
            <p:nvPr/>
          </p:nvSpPr>
          <p:spPr>
            <a:xfrm>
              <a:off x="9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"/>
            <p:cNvSpPr/>
            <p:nvPr/>
          </p:nvSpPr>
          <p:spPr>
            <a:xfrm>
              <a:off x="971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1810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2843280" y="1916280"/>
            <a:ext cx="1600200" cy="1600200"/>
            <a:chOff x="2843280" y="1916280"/>
            <a:chExt cx="1600200" cy="1600200"/>
          </a:xfrm>
        </p:grpSpPr>
        <p:sp>
          <p:nvSpPr>
            <p:cNvPr id="526" name="Rectangle 13"/>
            <p:cNvSpPr/>
            <p:nvPr/>
          </p:nvSpPr>
          <p:spPr>
            <a:xfrm>
              <a:off x="284328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284328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>
              <a:off x="368172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6"/>
          <p:cNvGrpSpPr/>
          <p:nvPr/>
        </p:nvGrpSpPr>
        <p:grpSpPr>
          <a:xfrm>
            <a:off x="4788000" y="1916280"/>
            <a:ext cx="1600200" cy="1600200"/>
            <a:chOff x="4788000" y="1916280"/>
            <a:chExt cx="1600200" cy="1600200"/>
          </a:xfrm>
        </p:grpSpPr>
        <p:sp>
          <p:nvSpPr>
            <p:cNvPr id="530" name="Rectangle 17"/>
            <p:cNvSpPr/>
            <p:nvPr/>
          </p:nvSpPr>
          <p:spPr>
            <a:xfrm>
              <a:off x="4788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788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5626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0"/>
          <p:cNvGrpSpPr/>
          <p:nvPr/>
        </p:nvGrpSpPr>
        <p:grpSpPr>
          <a:xfrm>
            <a:off x="6804000" y="1916280"/>
            <a:ext cx="1600200" cy="1600200"/>
            <a:chOff x="6804000" y="1916280"/>
            <a:chExt cx="1600200" cy="1600200"/>
          </a:xfrm>
        </p:grpSpPr>
        <p:sp>
          <p:nvSpPr>
            <p:cNvPr id="534" name="Rectangle 21"/>
            <p:cNvSpPr/>
            <p:nvPr/>
          </p:nvSpPr>
          <p:spPr>
            <a:xfrm>
              <a:off x="6804000" y="191628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2"/>
            <p:cNvSpPr/>
            <p:nvPr/>
          </p:nvSpPr>
          <p:spPr>
            <a:xfrm>
              <a:off x="6804000" y="275472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3"/>
            <p:cNvSpPr/>
            <p:nvPr/>
          </p:nvSpPr>
          <p:spPr>
            <a:xfrm>
              <a:off x="7642440" y="191628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WordArt 24"/>
          <p:cNvSpPr txBox="1"/>
          <p:nvPr/>
        </p:nvSpPr>
        <p:spPr>
          <a:xfrm>
            <a:off x="291636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替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WordArt 25"/>
          <p:cNvSpPr txBox="1"/>
          <p:nvPr/>
        </p:nvSpPr>
        <p:spPr>
          <a:xfrm>
            <a:off x="1116000" y="206064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匠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39" name="Group 26"/>
          <p:cNvGrpSpPr/>
          <p:nvPr/>
        </p:nvGrpSpPr>
        <p:grpSpPr>
          <a:xfrm>
            <a:off x="2771640" y="3860640"/>
            <a:ext cx="1600200" cy="1600200"/>
            <a:chOff x="2771640" y="3860640"/>
            <a:chExt cx="1600200" cy="1600200"/>
          </a:xfrm>
        </p:grpSpPr>
        <p:sp>
          <p:nvSpPr>
            <p:cNvPr id="540" name="Rectangle 27"/>
            <p:cNvSpPr/>
            <p:nvPr/>
          </p:nvSpPr>
          <p:spPr>
            <a:xfrm>
              <a:off x="2771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8"/>
            <p:cNvSpPr/>
            <p:nvPr/>
          </p:nvSpPr>
          <p:spPr>
            <a:xfrm>
              <a:off x="2771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9"/>
            <p:cNvSpPr/>
            <p:nvPr/>
          </p:nvSpPr>
          <p:spPr>
            <a:xfrm>
              <a:off x="3610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30"/>
          <p:cNvGrpSpPr/>
          <p:nvPr/>
        </p:nvGrpSpPr>
        <p:grpSpPr>
          <a:xfrm>
            <a:off x="4716360" y="3860640"/>
            <a:ext cx="1600200" cy="1600200"/>
            <a:chOff x="4716360" y="3860640"/>
            <a:chExt cx="1600200" cy="1600200"/>
          </a:xfrm>
        </p:grpSpPr>
        <p:sp>
          <p:nvSpPr>
            <p:cNvPr id="544" name="Rectangle 31"/>
            <p:cNvSpPr/>
            <p:nvPr/>
          </p:nvSpPr>
          <p:spPr>
            <a:xfrm>
              <a:off x="471636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2"/>
            <p:cNvSpPr/>
            <p:nvPr/>
          </p:nvSpPr>
          <p:spPr>
            <a:xfrm>
              <a:off x="471636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3"/>
            <p:cNvSpPr/>
            <p:nvPr/>
          </p:nvSpPr>
          <p:spPr>
            <a:xfrm>
              <a:off x="555480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34"/>
          <p:cNvGrpSpPr/>
          <p:nvPr/>
        </p:nvGrpSpPr>
        <p:grpSpPr>
          <a:xfrm>
            <a:off x="6659640" y="3860640"/>
            <a:ext cx="1600200" cy="1600200"/>
            <a:chOff x="6659640" y="3860640"/>
            <a:chExt cx="1600200" cy="1600200"/>
          </a:xfrm>
        </p:grpSpPr>
        <p:sp>
          <p:nvSpPr>
            <p:cNvPr id="548" name="Rectangle 35"/>
            <p:cNvSpPr/>
            <p:nvPr/>
          </p:nvSpPr>
          <p:spPr>
            <a:xfrm>
              <a:off x="6659640" y="3860640"/>
              <a:ext cx="16002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6"/>
            <p:cNvSpPr/>
            <p:nvPr/>
          </p:nvSpPr>
          <p:spPr>
            <a:xfrm>
              <a:off x="6659640" y="4699080"/>
              <a:ext cx="1600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7"/>
            <p:cNvSpPr/>
            <p:nvPr/>
          </p:nvSpPr>
          <p:spPr>
            <a:xfrm>
              <a:off x="7498080" y="38606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WordArt 38"/>
          <p:cNvSpPr txBox="1"/>
          <p:nvPr/>
        </p:nvSpPr>
        <p:spPr>
          <a:xfrm>
            <a:off x="29718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缩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WordArt 39"/>
          <p:cNvSpPr txBox="1"/>
          <p:nvPr/>
        </p:nvSpPr>
        <p:spPr>
          <a:xfrm>
            <a:off x="1143000" y="40384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骂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3" name="WordArt 40"/>
          <p:cNvSpPr txBox="1"/>
          <p:nvPr/>
        </p:nvSpPr>
        <p:spPr>
          <a:xfrm>
            <a:off x="4876920" y="41148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承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4" name="WordArt 41"/>
          <p:cNvSpPr txBox="1"/>
          <p:nvPr/>
        </p:nvSpPr>
        <p:spPr>
          <a:xfrm>
            <a:off x="6934320" y="21337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墨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5" name="WordArt 42"/>
          <p:cNvSpPr txBox="1"/>
          <p:nvPr/>
        </p:nvSpPr>
        <p:spPr>
          <a:xfrm>
            <a:off x="4952880" y="2133720"/>
            <a:ext cx="1295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抄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20070923154904376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905120" y="304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2743200" y="4495680"/>
            <a:ext cx="5562360" cy="840960"/>
            <a:chOff x="2743200" y="4495680"/>
            <a:chExt cx="5562360" cy="840960"/>
          </a:xfrm>
        </p:grpSpPr>
        <p:sp>
          <p:nvSpPr>
            <p:cNvPr id="561" name="Text Box 7"/>
            <p:cNvSpPr/>
            <p:nvPr/>
          </p:nvSpPr>
          <p:spPr>
            <a:xfrm>
              <a:off x="4343400" y="4876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终于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到了放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"/>
            <p:cNvSpPr/>
            <p:nvPr/>
          </p:nvSpPr>
          <p:spPr>
            <a:xfrm>
              <a:off x="2743200" y="4876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你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着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6858000" y="4876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家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0"/>
            <p:cNvSpPr/>
            <p:nvPr/>
          </p:nvSpPr>
          <p:spPr>
            <a:xfrm>
              <a:off x="312408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1"/>
            <p:cNvSpPr/>
            <p:nvPr/>
          </p:nvSpPr>
          <p:spPr>
            <a:xfrm>
              <a:off x="502920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6933960" y="4495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7543800" y="4495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ā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1447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20080318082116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3"/>
          <p:cNvSpPr/>
          <p:nvPr/>
        </p:nvSpPr>
        <p:spPr>
          <a:xfrm>
            <a:off x="0" y="152280"/>
            <a:ext cx="1676520" cy="1295640"/>
          </a:xfrm>
          <a:prstGeom prst="cloudCallout">
            <a:avLst>
              <a:gd name="adj1" fmla="val 78217"/>
              <a:gd name="adj2" fmla="val 4362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28600" y="457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吵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981080" y="175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笔记本被弄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809880" y="1523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572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火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5257800" y="1523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7339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181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微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943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276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12408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莱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8098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弄脏克莱谛的本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46483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脸红、举起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46483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缩回手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8"/>
          <p:cNvSpPr/>
          <p:nvPr/>
        </p:nvSpPr>
        <p:spPr>
          <a:xfrm>
            <a:off x="3429000" y="17524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9"/>
          <p:cNvSpPr/>
          <p:nvPr/>
        </p:nvSpPr>
        <p:spPr>
          <a:xfrm>
            <a:off x="2895480" y="35053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/>
          <p:cNvSpPr/>
          <p:nvPr/>
        </p:nvSpPr>
        <p:spPr>
          <a:xfrm>
            <a:off x="4343400" y="42670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2438280" y="266688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2"/>
          <p:cNvSpPr/>
          <p:nvPr/>
        </p:nvSpPr>
        <p:spPr>
          <a:xfrm>
            <a:off x="7010280" y="304920"/>
            <a:ext cx="1828800" cy="1981080"/>
          </a:xfrm>
          <a:prstGeom prst="wedgeRoundRectCallout">
            <a:avLst>
              <a:gd name="adj1" fmla="val -44532"/>
              <a:gd name="adj2" fmla="val 63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3"/>
          <p:cNvSpPr/>
          <p:nvPr/>
        </p:nvSpPr>
        <p:spPr>
          <a:xfrm>
            <a:off x="7010280" y="5335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只是微笑着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不是故意的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4"/>
          <p:cNvSpPr/>
          <p:nvPr/>
        </p:nvSpPr>
        <p:spPr>
          <a:xfrm>
            <a:off x="2666880" y="152280"/>
            <a:ext cx="1905120" cy="1371600"/>
          </a:xfrm>
          <a:prstGeom prst="wedgeRoundRectCallout">
            <a:avLst>
              <a:gd name="adj1" fmla="val -42750"/>
              <a:gd name="adj2" fmla="val 7164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5"/>
          <p:cNvSpPr/>
          <p:nvPr/>
        </p:nvSpPr>
        <p:spPr>
          <a:xfrm>
            <a:off x="259092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坐在旁边的克莱谛忽然碰到我的胳膊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6"/>
          <p:cNvSpPr/>
          <p:nvPr/>
        </p:nvSpPr>
        <p:spPr>
          <a:xfrm>
            <a:off x="228600" y="4648320"/>
            <a:ext cx="2514600" cy="1828800"/>
          </a:xfrm>
          <a:prstGeom prst="wedgeRoundRectCallout">
            <a:avLst>
              <a:gd name="adj1" fmla="val 31689"/>
              <a:gd name="adj2" fmla="val -644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7"/>
          <p:cNvSpPr/>
          <p:nvPr/>
        </p:nvSpPr>
        <p:spPr>
          <a:xfrm>
            <a:off x="304920" y="457200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他的笑让我很不高兴。我心想：</a:t>
            </a:r>
            <a:r>
              <a:rPr b="1" lang="zh-CN" sz="2400" spc="-1" strike="noStrike">
                <a:solidFill>
                  <a:srgbClr val="210377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哼，不就是得了奖，有什么了不起！</a:t>
            </a:r>
            <a:r>
              <a:rPr b="1" lang="zh-CN" sz="2400" spc="-1" strike="noStrike">
                <a:solidFill>
                  <a:srgbClr val="210377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28"/>
          <p:cNvSpPr/>
          <p:nvPr/>
        </p:nvSpPr>
        <p:spPr>
          <a:xfrm>
            <a:off x="6705720" y="2971800"/>
            <a:ext cx="2286000" cy="2209680"/>
          </a:xfrm>
          <a:prstGeom prst="wedgeRoundRectCallout">
            <a:avLst>
              <a:gd name="adj1" fmla="val -66875"/>
              <a:gd name="adj2" fmla="val -2342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9"/>
          <p:cNvSpPr/>
          <p:nvPr/>
        </p:nvSpPr>
        <p:spPr>
          <a:xfrm>
            <a:off x="67057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我想报复他。过了一会儿，我也碰了他一下，把他的本子也弄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0"/>
          <p:cNvSpPr/>
          <p:nvPr/>
        </p:nvSpPr>
        <p:spPr>
          <a:xfrm>
            <a:off x="6019920" y="4952880"/>
            <a:ext cx="2590560" cy="1600200"/>
          </a:xfrm>
          <a:prstGeom prst="wedgeRoundRectCallout">
            <a:avLst>
              <a:gd name="adj1" fmla="val -53245"/>
              <a:gd name="adj2" fmla="val -75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6095880" y="5029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气的脸都红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这是故意的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着就举起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4876920" y="0"/>
            <a:ext cx="2438280" cy="1066680"/>
          </a:xfrm>
          <a:prstGeom prst="wedgeRoundRectCallout">
            <a:avLst>
              <a:gd name="adj1" fmla="val -22787"/>
              <a:gd name="adj2" fmla="val 105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3"/>
          <p:cNvSpPr/>
          <p:nvPr/>
        </p:nvSpPr>
        <p:spPr>
          <a:xfrm>
            <a:off x="4952880" y="228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0377"/>
                </a:solidFill>
                <a:latin typeface="Arial"/>
              </a:rPr>
              <a:t>我火了，骂了他一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15238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嫉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5"/>
          <p:cNvSpPr/>
          <p:nvPr/>
        </p:nvSpPr>
        <p:spPr>
          <a:xfrm>
            <a:off x="2743200" y="5562720"/>
            <a:ext cx="2971800" cy="1295280"/>
          </a:xfrm>
          <a:prstGeom prst="wedgeRoundRectCallout">
            <a:avLst>
              <a:gd name="adj1" fmla="val 39421"/>
              <a:gd name="adj2" fmla="val -6715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6"/>
          <p:cNvSpPr/>
          <p:nvPr/>
        </p:nvSpPr>
        <p:spPr>
          <a:xfrm>
            <a:off x="2819520" y="567072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莱谛急忙缩回手去，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在外边等你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1114200" y="2997000"/>
            <a:ext cx="633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吵架的原因是克莱谛不小心把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的笔记本弄脏了，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</a:t>
            </a: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嫉妒他得奖，为了报复他，也故意弄脏了他的本子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" descr="018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115236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61128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619280" y="170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    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  <a:ea typeface="华文中宋"/>
              </a:rPr>
              <a:t>）“我”和克莱谛因为什么事而争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9"/>
          <p:cNvPicPr/>
          <p:nvPr/>
        </p:nvPicPr>
        <p:blipFill>
          <a:blip r:embed="rId2"/>
          <a:srcRect l="6200" t="9506" r="50750" b="988"/>
          <a:stretch/>
        </p:blipFill>
        <p:spPr>
          <a:xfrm>
            <a:off x="179280" y="1916280"/>
            <a:ext cx="1224000" cy="3384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9"/>
          <p:cNvPicPr/>
          <p:nvPr/>
        </p:nvPicPr>
        <p:blipFill>
          <a:blip r:embed="rId3"/>
          <a:srcRect l="54650" t="7654" r="5350" b="-802"/>
          <a:stretch/>
        </p:blipFill>
        <p:spPr>
          <a:xfrm>
            <a:off x="7596360" y="1916280"/>
            <a:ext cx="129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觉得很不安，气也全消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7T06:46:03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