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chimes.wav" ContentType="audio/x-wav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38ED-91BF-4377-934E-5A8C0DE3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6F4C-5B0B-40C3-A98B-9008ECAE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040D-22D6-4CFF-8449-3F15BB71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727E-1EAF-4316-B912-B0B0E8493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30D2-B087-44CB-962B-ACD8C06A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07A8-B4F2-4ACE-A201-320C54B2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3103-355D-48E1-9118-B4FD590F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67C4-7D5C-4BD8-AA82-48A8E9B9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8428-8BD9-4E49-96C7-A5E4C36C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45A6-A544-4FF4-A03A-F9F5AA3D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BDB8-28C6-479D-B078-BC0DD29A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7476-2B3E-4CAB-A7B9-DBB0D0B1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C7B6-343E-4B2B-955B-54372F6C7B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4.jpeg"/><Relationship Id="rId36" Type="http://schemas.openxmlformats.org/officeDocument/2006/relationships/image" Target="../media/image4.jpeg"/><Relationship Id="rId37" Type="http://schemas.openxmlformats.org/officeDocument/2006/relationships/image" Target="../media/image4.jpeg"/><Relationship Id="rId38" Type="http://schemas.openxmlformats.org/officeDocument/2006/relationships/image" Target="../media/image4.jpeg"/><Relationship Id="rId39" Type="http://schemas.openxmlformats.org/officeDocument/2006/relationships/image" Target="../media/image4.jpeg"/><Relationship Id="rId40" Type="http://schemas.openxmlformats.org/officeDocument/2006/relationships/image" Target="../media/image4.jpeg"/><Relationship Id="rId41" Type="http://schemas.openxmlformats.org/officeDocument/2006/relationships/image" Target="../media/image4.jpeg"/><Relationship Id="rId42" Type="http://schemas.openxmlformats.org/officeDocument/2006/relationships/image" Target="../media/image4.jpeg"/><Relationship Id="rId43" Type="http://schemas.openxmlformats.org/officeDocument/2006/relationships/image" Target="../media/image4.jpeg"/><Relationship Id="rId44" Type="http://schemas.openxmlformats.org/officeDocument/2006/relationships/image" Target="../media/image4.jpeg"/><Relationship Id="rId45" Type="http://schemas.openxmlformats.org/officeDocument/2006/relationships/image" Target="../media/image4.jpeg"/><Relationship Id="rId46" Type="http://schemas.openxmlformats.org/officeDocument/2006/relationships/image" Target="../media/image4.jpeg"/><Relationship Id="rId47" Type="http://schemas.openxmlformats.org/officeDocument/2006/relationships/image" Target="../media/image4.jpeg"/><Relationship Id="rId48" Type="http://schemas.openxmlformats.org/officeDocument/2006/relationships/image" Target="../media/image4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audio" Target="../media/chimes.wav"/><Relationship Id="rId5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4.jpeg"/><Relationship Id="rId36" Type="http://schemas.openxmlformats.org/officeDocument/2006/relationships/image" Target="../media/image4.jpeg"/><Relationship Id="rId37" Type="http://schemas.openxmlformats.org/officeDocument/2006/relationships/image" Target="../media/image4.jpeg"/><Relationship Id="rId38" Type="http://schemas.openxmlformats.org/officeDocument/2006/relationships/image" Target="../media/image4.jpeg"/><Relationship Id="rId39" Type="http://schemas.openxmlformats.org/officeDocument/2006/relationships/image" Target="../media/image4.jpeg"/><Relationship Id="rId40" Type="http://schemas.openxmlformats.org/officeDocument/2006/relationships/image" Target="../media/image4.jpeg"/><Relationship Id="rId41" Type="http://schemas.openxmlformats.org/officeDocument/2006/relationships/image" Target="../media/image4.jpeg"/><Relationship Id="rId42" Type="http://schemas.openxmlformats.org/officeDocument/2006/relationships/image" Target="../media/image4.jpeg"/><Relationship Id="rId43" Type="http://schemas.openxmlformats.org/officeDocument/2006/relationships/image" Target="../media/image4.jpeg"/><Relationship Id="rId44" Type="http://schemas.openxmlformats.org/officeDocument/2006/relationships/image" Target="../media/image4.jpeg"/><Relationship Id="rId45" Type="http://schemas.openxmlformats.org/officeDocument/2006/relationships/image" Target="../media/image4.jpeg"/><Relationship Id="rId46" Type="http://schemas.openxmlformats.org/officeDocument/2006/relationships/image" Target="../media/image4.jpeg"/><Relationship Id="rId47" Type="http://schemas.openxmlformats.org/officeDocument/2006/relationships/image" Target="../media/image4.jpeg"/><Relationship Id="rId48" Type="http://schemas.openxmlformats.org/officeDocument/2006/relationships/image" Target="../media/image4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audio" Target="../media/chimes.wav"/><Relationship Id="rId5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752480"/>
            <a:ext cx="8381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0920" y="2421000"/>
            <a:ext cx="43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平均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人教新课标版三年级数学下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974880" y="17175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林大勇看一本故事书，星期五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，星期六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，星期日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。他平均每天看多少页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971640" y="1544760"/>
            <a:ext cx="750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只列式不计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少先队员为敬老院做衣架，平均每人做几个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小华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小红和小强共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小芳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+8+7)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小华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小红和小强各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小芳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+8+8+7)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990720" y="1143000"/>
            <a:ext cx="7483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选择正确答案的算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验小学三年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班参加植树活动，第一天植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棵，第二天植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棵，第三天植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棵，平均每班植树多少棵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+20+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+20+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4356000" y="1197000"/>
            <a:ext cx="2776680" cy="1297080"/>
            <a:chOff x="4356000" y="1197000"/>
            <a:chExt cx="2776680" cy="1297080"/>
          </a:xfrm>
        </p:grpSpPr>
        <p:sp>
          <p:nvSpPr>
            <p:cNvPr id="431" name=""/>
            <p:cNvSpPr/>
            <p:nvPr/>
          </p:nvSpPr>
          <p:spPr>
            <a:xfrm>
              <a:off x="507672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1200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7708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39520" y="1274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星期四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150600" y="1270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星期五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48360" y="12970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56000" y="1479600"/>
              <a:ext cx="720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21240" y="19893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13240" y="198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37280" y="198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41" name=""/>
          <p:cNvGraphicFramePr/>
          <p:nvPr/>
        </p:nvGraphicFramePr>
        <p:xfrm>
          <a:off x="1403280" y="1197000"/>
          <a:ext cx="5473800" cy="1295280"/>
        </p:xfrm>
        <a:graphic>
          <a:graphicData uri="http://schemas.openxmlformats.org/drawingml/2006/table">
            <a:tbl>
              <a:tblPr/>
              <a:tblGrid>
                <a:gridCol w="865080"/>
                <a:gridCol w="935280"/>
                <a:gridCol w="936720"/>
                <a:gridCol w="2736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题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"/>
          <p:cNvSpPr/>
          <p:nvPr/>
        </p:nvSpPr>
        <p:spPr>
          <a:xfrm>
            <a:off x="4345560" y="1333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403280" y="4149720"/>
          <a:ext cx="5473800" cy="1295280"/>
        </p:xfrm>
        <a:graphic>
          <a:graphicData uri="http://schemas.openxmlformats.org/drawingml/2006/table">
            <a:tbl>
              <a:tblPr/>
              <a:tblGrid>
                <a:gridCol w="1008000"/>
                <a:gridCol w="936720"/>
                <a:gridCol w="936720"/>
                <a:gridCol w="25923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题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"/>
          <p:cNvSpPr/>
          <p:nvPr/>
        </p:nvSpPr>
        <p:spPr>
          <a:xfrm>
            <a:off x="507672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1200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708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3952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5060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56000" y="36399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1324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35060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1000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21036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2480" y="1628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李宝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8320" y="4430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岳峰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03480" y="29764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11000" y="2717640"/>
            <a:ext cx="495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李宝乐的平均成绩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6+18+30+30+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30 ÷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621080" y="5670720"/>
            <a:ext cx="42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岳峰的平均成绩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9+28+30+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12 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6813000" y="612792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008-----4------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16000" y="2349360"/>
            <a:ext cx="56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谢谢观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98560" y="4540320"/>
            <a:ext cx="247680" cy="736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838080" y="1142640"/>
            <a:ext cx="0" cy="42670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96600" y="5327640"/>
            <a:ext cx="6618600" cy="378720"/>
            <a:chOff x="696600" y="5327640"/>
            <a:chExt cx="6618600" cy="378720"/>
          </a:xfrm>
        </p:grpSpPr>
        <p:sp>
          <p:nvSpPr>
            <p:cNvPr id="47" name=""/>
            <p:cNvSpPr/>
            <p:nvPr/>
          </p:nvSpPr>
          <p:spPr>
            <a:xfrm>
              <a:off x="838080" y="5410080"/>
              <a:ext cx="64771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189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58112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461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619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73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0500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7004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5128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321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1304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97160" y="533088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751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56040" y="533088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3728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6600" y="536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77480" y="536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4900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2988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1112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9200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7288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2532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9684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9716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427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333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951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7640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664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63720" y="5359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181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914400" y="3629160"/>
            <a:ext cx="4057560" cy="749160"/>
            <a:chOff x="914400" y="3629160"/>
            <a:chExt cx="4057560" cy="74916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91440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129528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>
              <a:off x="167652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5"/>
            <a:stretch/>
          </p:blipFill>
          <p:spPr>
            <a:xfrm>
              <a:off x="205740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6"/>
            <a:stretch/>
          </p:blipFill>
          <p:spPr>
            <a:xfrm>
              <a:off x="243828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7"/>
            <a:stretch/>
          </p:blipFill>
          <p:spPr>
            <a:xfrm>
              <a:off x="281952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8"/>
            <a:stretch/>
          </p:blipFill>
          <p:spPr>
            <a:xfrm>
              <a:off x="320040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9"/>
            <a:stretch/>
          </p:blipFill>
          <p:spPr>
            <a:xfrm>
              <a:off x="3543480" y="3629160"/>
              <a:ext cx="24732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10"/>
            <a:stretch/>
          </p:blipFill>
          <p:spPr>
            <a:xfrm>
              <a:off x="3924360" y="3629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11"/>
            <a:stretch/>
          </p:blipFill>
          <p:spPr>
            <a:xfrm>
              <a:off x="431784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12"/>
            <a:stretch/>
          </p:blipFill>
          <p:spPr>
            <a:xfrm>
              <a:off x="472428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" descr=""/>
          <p:cNvPicPr/>
          <p:nvPr/>
        </p:nvPicPr>
        <p:blipFill>
          <a:blip r:embed="rId13"/>
          <a:stretch/>
        </p:blipFill>
        <p:spPr>
          <a:xfrm>
            <a:off x="12794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4"/>
          <a:stretch/>
        </p:blipFill>
        <p:spPr>
          <a:xfrm>
            <a:off x="1660680" y="454032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5"/>
          <a:stretch/>
        </p:blipFill>
        <p:spPr>
          <a:xfrm>
            <a:off x="204156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6"/>
          <a:stretch/>
        </p:blipFill>
        <p:spPr>
          <a:xfrm>
            <a:off x="23972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7"/>
          <a:stretch/>
        </p:blipFill>
        <p:spPr>
          <a:xfrm>
            <a:off x="277812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8"/>
          <a:stretch/>
        </p:blipFill>
        <p:spPr>
          <a:xfrm>
            <a:off x="315900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9"/>
          <a:stretch/>
        </p:blipFill>
        <p:spPr>
          <a:xfrm>
            <a:off x="35402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0"/>
          <a:stretch/>
        </p:blipFill>
        <p:spPr>
          <a:xfrm>
            <a:off x="392112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1"/>
          <a:stretch/>
        </p:blipFill>
        <p:spPr>
          <a:xfrm>
            <a:off x="430200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2"/>
          <a:stretch/>
        </p:blipFill>
        <p:spPr>
          <a:xfrm>
            <a:off x="4730760" y="4527720"/>
            <a:ext cx="247680" cy="73656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927000" y="2514600"/>
            <a:ext cx="4400640" cy="762120"/>
            <a:chOff x="927000" y="2514600"/>
            <a:chExt cx="4400640" cy="762120"/>
          </a:xfrm>
        </p:grpSpPr>
        <p:pic>
          <p:nvPicPr>
            <p:cNvPr id="102" name="" descr=""/>
            <p:cNvPicPr/>
            <p:nvPr/>
          </p:nvPicPr>
          <p:blipFill>
            <a:blip r:embed="rId23"/>
            <a:stretch/>
          </p:blipFill>
          <p:spPr>
            <a:xfrm>
              <a:off x="92700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24"/>
            <a:stretch/>
          </p:blipFill>
          <p:spPr>
            <a:xfrm>
              <a:off x="129528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5"/>
            <a:stretch/>
          </p:blipFill>
          <p:spPr>
            <a:xfrm>
              <a:off x="167652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6"/>
            <a:stretch/>
          </p:blipFill>
          <p:spPr>
            <a:xfrm>
              <a:off x="2044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7"/>
            <a:stretch/>
          </p:blipFill>
          <p:spPr>
            <a:xfrm>
              <a:off x="243828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8"/>
            <a:stretch/>
          </p:blipFill>
          <p:spPr>
            <a:xfrm>
              <a:off x="280656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9"/>
            <a:stretch/>
          </p:blipFill>
          <p:spPr>
            <a:xfrm>
              <a:off x="3187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0"/>
            <a:stretch/>
          </p:blipFill>
          <p:spPr>
            <a:xfrm>
              <a:off x="355608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31"/>
            <a:stretch/>
          </p:blipFill>
          <p:spPr>
            <a:xfrm>
              <a:off x="396252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2"/>
            <a:stretch/>
          </p:blipFill>
          <p:spPr>
            <a:xfrm>
              <a:off x="4330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33"/>
            <a:stretch/>
          </p:blipFill>
          <p:spPr>
            <a:xfrm>
              <a:off x="4711680" y="25146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34"/>
            <a:stretch/>
          </p:blipFill>
          <p:spPr>
            <a:xfrm>
              <a:off x="5079960" y="2514600"/>
              <a:ext cx="247680" cy="73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"/>
          <p:cNvSpPr/>
          <p:nvPr/>
        </p:nvSpPr>
        <p:spPr>
          <a:xfrm>
            <a:off x="16812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980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9800" y="266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9800" y="167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17400" y="5396040"/>
            <a:ext cx="7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数量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1573200"/>
            <a:ext cx="5114880" cy="736560"/>
            <a:chOff x="914400" y="1573200"/>
            <a:chExt cx="5114880" cy="736560"/>
          </a:xfrm>
        </p:grpSpPr>
        <p:pic>
          <p:nvPicPr>
            <p:cNvPr id="120" name="" descr=""/>
            <p:cNvPicPr/>
            <p:nvPr/>
          </p:nvPicPr>
          <p:blipFill>
            <a:blip r:embed="rId35"/>
            <a:stretch/>
          </p:blipFill>
          <p:spPr>
            <a:xfrm>
              <a:off x="91440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6"/>
            <a:stretch/>
          </p:blipFill>
          <p:spPr>
            <a:xfrm>
              <a:off x="128268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7"/>
            <a:stretch/>
          </p:blipFill>
          <p:spPr>
            <a:xfrm>
              <a:off x="167652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38"/>
            <a:stretch/>
          </p:blipFill>
          <p:spPr>
            <a:xfrm>
              <a:off x="204480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9"/>
            <a:stretch/>
          </p:blipFill>
          <p:spPr>
            <a:xfrm>
              <a:off x="242568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40"/>
            <a:stretch/>
          </p:blipFill>
          <p:spPr>
            <a:xfrm>
              <a:off x="279396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41"/>
            <a:stretch/>
          </p:blipFill>
          <p:spPr>
            <a:xfrm>
              <a:off x="318780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42"/>
            <a:stretch/>
          </p:blipFill>
          <p:spPr>
            <a:xfrm>
              <a:off x="355608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43"/>
            <a:stretch/>
          </p:blipFill>
          <p:spPr>
            <a:xfrm>
              <a:off x="394956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44"/>
            <a:stretch/>
          </p:blipFill>
          <p:spPr>
            <a:xfrm>
              <a:off x="431784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45"/>
            <a:stretch/>
          </p:blipFill>
          <p:spPr>
            <a:xfrm>
              <a:off x="471168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46"/>
            <a:stretch/>
          </p:blipFill>
          <p:spPr>
            <a:xfrm>
              <a:off x="507996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47"/>
            <a:stretch/>
          </p:blipFill>
          <p:spPr>
            <a:xfrm>
              <a:off x="546084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48"/>
            <a:stretch/>
          </p:blipFill>
          <p:spPr>
            <a:xfrm>
              <a:off x="5781600" y="1573200"/>
              <a:ext cx="247680" cy="73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"/>
          <p:cNvSpPr/>
          <p:nvPr/>
        </p:nvSpPr>
        <p:spPr>
          <a:xfrm>
            <a:off x="3630600" y="65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小组收集矿泉水瓶统计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9"/>
          <a:stretch/>
        </p:blipFill>
        <p:spPr>
          <a:xfrm>
            <a:off x="5097600" y="45435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0"/>
          <a:stretch/>
        </p:blipFill>
        <p:spPr>
          <a:xfrm>
            <a:off x="5435640" y="454968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1"/>
          <a:stretch/>
        </p:blipFill>
        <p:spPr>
          <a:xfrm>
            <a:off x="5829480" y="455148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2"/>
          <a:stretch/>
        </p:blipFill>
        <p:spPr>
          <a:xfrm>
            <a:off x="6238800" y="4535640"/>
            <a:ext cx="247680" cy="736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585120" y="0"/>
            <a:ext cx="2558880" cy="2049480"/>
          </a:xfrm>
          <a:prstGeom prst="cloudCallout">
            <a:avLst>
              <a:gd name="adj1" fmla="val -83500"/>
              <a:gd name="adj2" fmla="val 62240"/>
            </a:avLst>
          </a:prstGeom>
          <a:solidFill>
            <a:srgbClr val="ff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平均每人收集了多少个矿泉水瓶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98560" y="4540320"/>
            <a:ext cx="247680" cy="736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V="1">
            <a:off x="838080" y="1142640"/>
            <a:ext cx="0" cy="42670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96600" y="5327640"/>
            <a:ext cx="6618600" cy="378720"/>
            <a:chOff x="696600" y="5327640"/>
            <a:chExt cx="6618600" cy="378720"/>
          </a:xfrm>
        </p:grpSpPr>
        <p:sp>
          <p:nvSpPr>
            <p:cNvPr id="143" name=""/>
            <p:cNvSpPr/>
            <p:nvPr/>
          </p:nvSpPr>
          <p:spPr>
            <a:xfrm>
              <a:off x="838080" y="5410080"/>
              <a:ext cx="64771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189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8112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461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619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273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0500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7004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5128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321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1304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97160" y="533088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751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56040" y="533088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3728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6600" y="536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77480" y="536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4900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2988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1112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9200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7288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2532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9684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9716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427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333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951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7640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6664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63720" y="5359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181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1440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29528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67652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205740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243828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281952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320040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9"/>
          <a:stretch/>
        </p:blipFill>
        <p:spPr>
          <a:xfrm>
            <a:off x="3543480" y="362916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0"/>
          <a:stretch/>
        </p:blipFill>
        <p:spPr>
          <a:xfrm>
            <a:off x="3924360" y="36291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431784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472428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3"/>
          <a:stretch/>
        </p:blipFill>
        <p:spPr>
          <a:xfrm>
            <a:off x="12794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4"/>
          <a:stretch/>
        </p:blipFill>
        <p:spPr>
          <a:xfrm>
            <a:off x="1660680" y="454032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5"/>
          <a:stretch/>
        </p:blipFill>
        <p:spPr>
          <a:xfrm>
            <a:off x="204156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6"/>
          <a:stretch/>
        </p:blipFill>
        <p:spPr>
          <a:xfrm>
            <a:off x="23972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7"/>
          <a:stretch/>
        </p:blipFill>
        <p:spPr>
          <a:xfrm>
            <a:off x="277812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8"/>
          <a:stretch/>
        </p:blipFill>
        <p:spPr>
          <a:xfrm>
            <a:off x="315900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9"/>
          <a:stretch/>
        </p:blipFill>
        <p:spPr>
          <a:xfrm>
            <a:off x="35402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0"/>
          <a:stretch/>
        </p:blipFill>
        <p:spPr>
          <a:xfrm>
            <a:off x="392112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1"/>
          <a:stretch/>
        </p:blipFill>
        <p:spPr>
          <a:xfrm>
            <a:off x="430200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2"/>
          <a:stretch/>
        </p:blipFill>
        <p:spPr>
          <a:xfrm>
            <a:off x="4730760" y="4527720"/>
            <a:ext cx="247680" cy="73656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927000" y="2514600"/>
            <a:ext cx="4400640" cy="762120"/>
            <a:chOff x="927000" y="2514600"/>
            <a:chExt cx="4400640" cy="762120"/>
          </a:xfrm>
        </p:grpSpPr>
        <p:pic>
          <p:nvPicPr>
            <p:cNvPr id="197" name="" descr=""/>
            <p:cNvPicPr/>
            <p:nvPr/>
          </p:nvPicPr>
          <p:blipFill>
            <a:blip r:embed="rId23"/>
            <a:stretch/>
          </p:blipFill>
          <p:spPr>
            <a:xfrm>
              <a:off x="92700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4"/>
            <a:stretch/>
          </p:blipFill>
          <p:spPr>
            <a:xfrm>
              <a:off x="129528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25"/>
            <a:stretch/>
          </p:blipFill>
          <p:spPr>
            <a:xfrm>
              <a:off x="167652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26"/>
            <a:stretch/>
          </p:blipFill>
          <p:spPr>
            <a:xfrm>
              <a:off x="2044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27"/>
            <a:stretch/>
          </p:blipFill>
          <p:spPr>
            <a:xfrm>
              <a:off x="243828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8"/>
            <a:stretch/>
          </p:blipFill>
          <p:spPr>
            <a:xfrm>
              <a:off x="280656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29"/>
            <a:stretch/>
          </p:blipFill>
          <p:spPr>
            <a:xfrm>
              <a:off x="3187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30"/>
            <a:stretch/>
          </p:blipFill>
          <p:spPr>
            <a:xfrm>
              <a:off x="355608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31"/>
            <a:stretch/>
          </p:blipFill>
          <p:spPr>
            <a:xfrm>
              <a:off x="396252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32"/>
            <a:stretch/>
          </p:blipFill>
          <p:spPr>
            <a:xfrm>
              <a:off x="4330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33"/>
            <a:stretch/>
          </p:blipFill>
          <p:spPr>
            <a:xfrm>
              <a:off x="4711680" y="25146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34"/>
            <a:stretch/>
          </p:blipFill>
          <p:spPr>
            <a:xfrm>
              <a:off x="5079960" y="2514600"/>
              <a:ext cx="247680" cy="73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"/>
          <p:cNvSpPr/>
          <p:nvPr/>
        </p:nvSpPr>
        <p:spPr>
          <a:xfrm>
            <a:off x="16812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980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9800" y="266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9800" y="167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17400" y="5396040"/>
            <a:ext cx="7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数量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5"/>
          <a:stretch/>
        </p:blipFill>
        <p:spPr>
          <a:xfrm>
            <a:off x="91440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6"/>
          <a:stretch/>
        </p:blipFill>
        <p:spPr>
          <a:xfrm>
            <a:off x="128268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7"/>
          <a:stretch/>
        </p:blipFill>
        <p:spPr>
          <a:xfrm>
            <a:off x="167652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8"/>
          <a:stretch/>
        </p:blipFill>
        <p:spPr>
          <a:xfrm>
            <a:off x="204480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9"/>
          <a:stretch/>
        </p:blipFill>
        <p:spPr>
          <a:xfrm>
            <a:off x="242568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0"/>
          <a:stretch/>
        </p:blipFill>
        <p:spPr>
          <a:xfrm>
            <a:off x="279396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1"/>
          <a:stretch/>
        </p:blipFill>
        <p:spPr>
          <a:xfrm>
            <a:off x="318780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2"/>
          <a:stretch/>
        </p:blipFill>
        <p:spPr>
          <a:xfrm>
            <a:off x="355608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3"/>
          <a:stretch/>
        </p:blipFill>
        <p:spPr>
          <a:xfrm>
            <a:off x="394956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4"/>
          <a:stretch/>
        </p:blipFill>
        <p:spPr>
          <a:xfrm>
            <a:off x="431784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5"/>
          <a:stretch/>
        </p:blipFill>
        <p:spPr>
          <a:xfrm>
            <a:off x="471168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6"/>
          <a:stretch/>
        </p:blipFill>
        <p:spPr>
          <a:xfrm>
            <a:off x="507996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7"/>
          <a:stretch/>
        </p:blipFill>
        <p:spPr>
          <a:xfrm>
            <a:off x="546084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8"/>
          <a:stretch/>
        </p:blipFill>
        <p:spPr>
          <a:xfrm>
            <a:off x="5781600" y="1573200"/>
            <a:ext cx="247680" cy="7351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630600" y="65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小组收集矿泉水瓶统计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0"/>
            <a:ext cx="2558880" cy="2049480"/>
          </a:xfrm>
          <a:prstGeom prst="cloudCallout">
            <a:avLst>
              <a:gd name="adj1" fmla="val -83500"/>
              <a:gd name="adj2" fmla="val 62240"/>
            </a:avLst>
          </a:prstGeom>
          <a:solidFill>
            <a:srgbClr val="ff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平均每人收集了多少个矿泉水瓶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9"/>
          <a:stretch/>
        </p:blipFill>
        <p:spPr>
          <a:xfrm>
            <a:off x="5097600" y="45435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0"/>
          <a:stretch/>
        </p:blipFill>
        <p:spPr>
          <a:xfrm>
            <a:off x="5435640" y="454968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1"/>
          <a:stretch/>
        </p:blipFill>
        <p:spPr>
          <a:xfrm>
            <a:off x="5829480" y="455148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2"/>
          <a:stretch/>
        </p:blipFill>
        <p:spPr>
          <a:xfrm>
            <a:off x="6238800" y="4535640"/>
            <a:ext cx="247680" cy="7365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flipV="1">
            <a:off x="5724360" y="980640"/>
            <a:ext cx="0" cy="4824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526E-006 L -0.03559 0.14336 E">
                                      <p:cBhvr>
                                        <p:cTn id="90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46821E-007 L -0.125 -0.13087 E">
                                      <p:cBhvr>
                                        <p:cTn id="94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79191E-006 L -0.0408 -0.13318 E">
                                      <p:cBhvr>
                                        <p:cTn id="98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蓝猫专卖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0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~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四种书包销售统计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7280" y="134136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69000" y="351648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11800" y="351648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53160" y="351648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94160" y="3516480"/>
            <a:ext cx="459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36960" y="351648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78320" y="351648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87640" y="3516480"/>
            <a:ext cx="490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62120" y="3516480"/>
            <a:ext cx="4255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03480" y="351648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46280" y="351648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3516480"/>
            <a:ext cx="459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69000" y="3244680"/>
            <a:ext cx="4586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11800" y="3244680"/>
            <a:ext cx="45720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53160" y="3244680"/>
            <a:ext cx="4586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94160" y="3244680"/>
            <a:ext cx="45900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36960" y="3244680"/>
            <a:ext cx="45720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62120" y="3244680"/>
            <a:ext cx="425520" cy="271800"/>
          </a:xfrm>
          <a:prstGeom prst="rect">
            <a:avLst/>
          </a:prstGeom>
          <a:solidFill>
            <a:srgbClr val="dbe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03480" y="3244680"/>
            <a:ext cx="458640" cy="271800"/>
          </a:xfrm>
          <a:prstGeom prst="rect">
            <a:avLst/>
          </a:prstGeom>
          <a:solidFill>
            <a:srgbClr val="dbe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46280" y="3244680"/>
            <a:ext cx="457200" cy="271800"/>
          </a:xfrm>
          <a:prstGeom prst="rect">
            <a:avLst/>
          </a:prstGeom>
          <a:solidFill>
            <a:srgbClr val="dbe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87280" y="3244680"/>
            <a:ext cx="459000" cy="271800"/>
          </a:xfrm>
          <a:prstGeom prst="rect">
            <a:avLst/>
          </a:prstGeom>
          <a:solidFill>
            <a:srgbClr val="dbe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69000" y="29732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11800" y="29732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53160" y="29732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94160" y="297324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36960" y="29732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78320" y="29732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87640" y="2973240"/>
            <a:ext cx="49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62120" y="2973240"/>
            <a:ext cx="425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03480" y="29732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46280" y="29732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297324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69000" y="27018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11800" y="270180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78320" y="2701800"/>
            <a:ext cx="45864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87640" y="2701800"/>
            <a:ext cx="49068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62120" y="2701800"/>
            <a:ext cx="42552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03480" y="2701800"/>
            <a:ext cx="45864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46280" y="2701800"/>
            <a:ext cx="45720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87280" y="2701800"/>
            <a:ext cx="45900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69000" y="242892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11800" y="242892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53160" y="242892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94160" y="2428920"/>
            <a:ext cx="459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36960" y="242892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78320" y="242892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87640" y="2428920"/>
            <a:ext cx="490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62120" y="2428920"/>
            <a:ext cx="4255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03480" y="242892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46280" y="242892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87280" y="2428920"/>
            <a:ext cx="459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69000" y="215748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11800" y="215748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53160" y="215748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94160" y="215748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36960" y="215748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78320" y="215748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62120" y="2133720"/>
            <a:ext cx="1865520" cy="295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03480" y="2157480"/>
            <a:ext cx="458640" cy="2714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46280" y="2157480"/>
            <a:ext cx="457200" cy="2714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87280" y="2157480"/>
            <a:ext cx="459000" cy="2714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69000" y="18860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11800" y="18860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53160" y="18860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94160" y="188604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36960" y="18860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78320" y="18860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87640" y="1886040"/>
            <a:ext cx="49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62120" y="1886040"/>
            <a:ext cx="425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03480" y="18860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46280" y="18860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188604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69000" y="16146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11800" y="161460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53160" y="16146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94160" y="161460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36960" y="161460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78320" y="16146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87640" y="1614600"/>
            <a:ext cx="49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62120" y="1614600"/>
            <a:ext cx="425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03480" y="16146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46280" y="1628640"/>
            <a:ext cx="909720" cy="2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87280" y="1614600"/>
            <a:ext cx="459000" cy="271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69000" y="134136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11800" y="1341360"/>
            <a:ext cx="457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53160" y="134136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94160" y="1341360"/>
            <a:ext cx="459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36960" y="1341360"/>
            <a:ext cx="457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78320" y="134136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87640" y="1341360"/>
            <a:ext cx="4906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62120" y="1341360"/>
            <a:ext cx="425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03480" y="134136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46280" y="1341360"/>
            <a:ext cx="457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1341360"/>
            <a:ext cx="459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187280" y="134136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87280" y="378936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8728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2764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87280" y="161460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4628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0348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6212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7832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3696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2764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5316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1180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6900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87280" y="188604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87280" y="213372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87280" y="242892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87280" y="270180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87280" y="297324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324468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87280" y="351648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826920" y="1557360"/>
            <a:ext cx="647640" cy="2067840"/>
            <a:chOff x="826920" y="1557360"/>
            <a:chExt cx="647640" cy="2067840"/>
          </a:xfrm>
        </p:grpSpPr>
        <p:sp>
          <p:nvSpPr>
            <p:cNvPr id="353" name=""/>
            <p:cNvSpPr/>
            <p:nvPr/>
          </p:nvSpPr>
          <p:spPr>
            <a:xfrm>
              <a:off x="826920" y="31654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6920" y="26294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26920" y="20923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26920" y="1557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 flipV="1">
            <a:off x="1187280" y="1052640"/>
            <a:ext cx="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19160" y="378936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4529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101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4180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5004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529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5804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8968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515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249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82160" y="3789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59520" y="378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29560" y="3763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2200" y="47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08560" y="530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27480" y="436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82400" y="4587840"/>
            <a:ext cx="44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算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种书包的平均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1219320"/>
            <a:ext cx="1447920" cy="175248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77760" y="1676520"/>
            <a:ext cx="546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66680" y="2057400"/>
            <a:ext cx="381240" cy="304920"/>
          </a:xfrm>
          <a:custGeom>
            <a:avLst/>
            <a:gdLst>
              <a:gd name="textAreaLeft" fmla="*/ 89640 w 381240"/>
              <a:gd name="textAreaRight" fmla="*/ 291600 w 381240"/>
              <a:gd name="textAreaTop" fmla="*/ 35640 h 304920"/>
              <a:gd name="textAreaBottom" fmla="*/ 191160 h 304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93600" y="2362320"/>
            <a:ext cx="546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133720" y="609480"/>
            <a:ext cx="7010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实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个年级举行献爱心捐款活动，第一天捐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48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第二天捐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第三天捐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2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第四天捐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5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平均每个年级捐款多少元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14600" y="19051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43000" y="1371600"/>
            <a:ext cx="533520" cy="7632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5800" y="32767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面的列式你认为正确的是：（          ）说说你的想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43000" y="403848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80+500+520+5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80+500+520+5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÷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627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311120" y="49212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-843480" y="1096920"/>
            <a:ext cx="777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临河地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的最高平均气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℃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的最高气温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6 ℃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能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095560" y="627120"/>
            <a:ext cx="4632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老师随机测量了班上五位同学的身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单位：厘米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4   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先估一估下面的哪一个数最有可能是他们的平均身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4      140      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66760" y="620640"/>
            <a:ext cx="7077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763640" y="4581360"/>
          <a:ext cx="5327640" cy="1657440"/>
        </p:xfrm>
        <a:graphic>
          <a:graphicData uri="http://schemas.openxmlformats.org/drawingml/2006/table">
            <a:tbl>
              <a:tblPr/>
              <a:tblGrid>
                <a:gridCol w="1775880"/>
                <a:gridCol w="1775520"/>
                <a:gridCol w="177624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1600200" y="40575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35280" y="3860640"/>
            <a:ext cx="49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儿童身高的正常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70240" y="4832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男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927760" y="4832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女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93200" y="4832280"/>
            <a:ext cx="9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身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4356000" y="1197000"/>
            <a:ext cx="2776680" cy="1297080"/>
            <a:chOff x="4356000" y="1197000"/>
            <a:chExt cx="2776680" cy="1297080"/>
          </a:xfrm>
        </p:grpSpPr>
        <p:sp>
          <p:nvSpPr>
            <p:cNvPr id="396" name=""/>
            <p:cNvSpPr/>
            <p:nvPr/>
          </p:nvSpPr>
          <p:spPr>
            <a:xfrm>
              <a:off x="507672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1200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87708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39520" y="1274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星期四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150600" y="1270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星期五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948360" y="12970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56000" y="1479600"/>
              <a:ext cx="720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21240" y="19893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13240" y="198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37280" y="198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06" name=""/>
          <p:cNvGraphicFramePr/>
          <p:nvPr/>
        </p:nvGraphicFramePr>
        <p:xfrm>
          <a:off x="1403280" y="1197000"/>
          <a:ext cx="5473800" cy="1295280"/>
        </p:xfrm>
        <a:graphic>
          <a:graphicData uri="http://schemas.openxmlformats.org/drawingml/2006/table">
            <a:tbl>
              <a:tblPr/>
              <a:tblGrid>
                <a:gridCol w="865080"/>
                <a:gridCol w="935280"/>
                <a:gridCol w="936720"/>
                <a:gridCol w="2736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题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4345560" y="1333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403280" y="4149720"/>
          <a:ext cx="5473800" cy="1295280"/>
        </p:xfrm>
        <a:graphic>
          <a:graphicData uri="http://schemas.openxmlformats.org/drawingml/2006/table">
            <a:tbl>
              <a:tblPr/>
              <a:tblGrid>
                <a:gridCol w="1008000"/>
                <a:gridCol w="936720"/>
                <a:gridCol w="936720"/>
                <a:gridCol w="25923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题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"/>
          <p:cNvSpPr/>
          <p:nvPr/>
        </p:nvSpPr>
        <p:spPr>
          <a:xfrm>
            <a:off x="507672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1200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7708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952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15060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56000" y="36399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1324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5060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1000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21036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2600" y="1628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王丹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96160" y="4430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郭媛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103480" y="29764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40440" y="2717640"/>
            <a:ext cx="47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李乐的平均成绩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6+18+30+30+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30 ÷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21080" y="5670720"/>
            <a:ext cx="42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岳峰的平均成绩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9+28+30+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12 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628640" y="1238400"/>
            <a:ext cx="54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 .   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三个数的平均数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71640" y="2209680"/>
            <a:ext cx="717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还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再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再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还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这时三个数的平均数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90720" y="3809880"/>
            <a:ext cx="6933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用先合后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+10+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1÷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07:52:04Z</dcterms:created>
  <dc:creator>绿色圃中小学教育网http://www.lspjy.com</dc:creator>
  <dc:description/>
  <cp:keywords>绿色圃中小学教育网http://www.lspjy.com</cp:keywords>
  <dc:language>en-US</dc:language>
  <cp:lastModifiedBy>admin</cp:lastModifiedBy>
  <dcterms:modified xsi:type="dcterms:W3CDTF">2015-01-30T09:21:58Z</dcterms:modified>
  <cp:revision>95</cp:revision>
  <dc:subject/>
  <dc:title>绿色圃中小学教育网http://www.lspjy.com</dc:title>
</cp:coreProperties>
</file>