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chimes.wav" ContentType="audio/x-wav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2E85-78BD-4B86-90F4-A7B205277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612F-EAEB-48D8-9C51-89FB61E07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F0E4-D9DE-4B50-B717-0C24F9437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C968-C6A8-4294-9E8D-22CA3647E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8358-1BA2-4ECE-AA17-A586F79E0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55BA-EBC9-413D-A622-4D78F59F6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5560-0B7B-4E09-9AB3-D01F3FA7F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1A6E-F303-44B6-AED4-8E35EB6D6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6C11-F319-4D4F-8A8F-37A2624C0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7167-13E8-4E30-8565-0143421AD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37ED-A046-48D4-A13F-67DDD8D1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9CEA-1B30-4117-AFE6-5D6E9322F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00ffff"/>
            </a:gs>
            <a:gs pos="100000">
              <a:srgbClr val="33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0A403-197E-475E-A1DB-00F05392080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image" Target="../media/image1.jpeg"/><Relationship Id="rId18" Type="http://schemas.openxmlformats.org/officeDocument/2006/relationships/image" Target="../media/image1.jpeg"/><Relationship Id="rId19" Type="http://schemas.openxmlformats.org/officeDocument/2006/relationships/image" Target="../media/image1.jpeg"/><Relationship Id="rId20" Type="http://schemas.openxmlformats.org/officeDocument/2006/relationships/image" Target="../media/image1.jpeg"/><Relationship Id="rId21" Type="http://schemas.openxmlformats.org/officeDocument/2006/relationships/image" Target="../media/image1.jpeg"/><Relationship Id="rId22" Type="http://schemas.openxmlformats.org/officeDocument/2006/relationships/image" Target="../media/image1.jpeg"/><Relationship Id="rId23" Type="http://schemas.openxmlformats.org/officeDocument/2006/relationships/image" Target="../media/image3.jpeg"/><Relationship Id="rId24" Type="http://schemas.openxmlformats.org/officeDocument/2006/relationships/image" Target="../media/image3.jpeg"/><Relationship Id="rId25" Type="http://schemas.openxmlformats.org/officeDocument/2006/relationships/image" Target="../media/image3.jpeg"/><Relationship Id="rId26" Type="http://schemas.openxmlformats.org/officeDocument/2006/relationships/image" Target="../media/image3.jpeg"/><Relationship Id="rId27" Type="http://schemas.openxmlformats.org/officeDocument/2006/relationships/image" Target="../media/image3.jpeg"/><Relationship Id="rId28" Type="http://schemas.openxmlformats.org/officeDocument/2006/relationships/image" Target="../media/image3.jpeg"/><Relationship Id="rId29" Type="http://schemas.openxmlformats.org/officeDocument/2006/relationships/image" Target="../media/image3.jpeg"/><Relationship Id="rId30" Type="http://schemas.openxmlformats.org/officeDocument/2006/relationships/image" Target="../media/image3.jpeg"/><Relationship Id="rId31" Type="http://schemas.openxmlformats.org/officeDocument/2006/relationships/image" Target="../media/image3.jpeg"/><Relationship Id="rId32" Type="http://schemas.openxmlformats.org/officeDocument/2006/relationships/image" Target="../media/image3.jpeg"/><Relationship Id="rId33" Type="http://schemas.openxmlformats.org/officeDocument/2006/relationships/image" Target="../media/image3.jpeg"/><Relationship Id="rId34" Type="http://schemas.openxmlformats.org/officeDocument/2006/relationships/image" Target="../media/image3.jpeg"/><Relationship Id="rId35" Type="http://schemas.openxmlformats.org/officeDocument/2006/relationships/image" Target="../media/image4.jpeg"/><Relationship Id="rId36" Type="http://schemas.openxmlformats.org/officeDocument/2006/relationships/image" Target="../media/image4.jpeg"/><Relationship Id="rId37" Type="http://schemas.openxmlformats.org/officeDocument/2006/relationships/image" Target="../media/image4.jpeg"/><Relationship Id="rId38" Type="http://schemas.openxmlformats.org/officeDocument/2006/relationships/image" Target="../media/image4.jpeg"/><Relationship Id="rId39" Type="http://schemas.openxmlformats.org/officeDocument/2006/relationships/image" Target="../media/image4.jpeg"/><Relationship Id="rId40" Type="http://schemas.openxmlformats.org/officeDocument/2006/relationships/image" Target="../media/image4.jpeg"/><Relationship Id="rId41" Type="http://schemas.openxmlformats.org/officeDocument/2006/relationships/image" Target="../media/image4.jpeg"/><Relationship Id="rId42" Type="http://schemas.openxmlformats.org/officeDocument/2006/relationships/image" Target="../media/image4.jpeg"/><Relationship Id="rId43" Type="http://schemas.openxmlformats.org/officeDocument/2006/relationships/image" Target="../media/image4.jpeg"/><Relationship Id="rId44" Type="http://schemas.openxmlformats.org/officeDocument/2006/relationships/image" Target="../media/image4.jpeg"/><Relationship Id="rId45" Type="http://schemas.openxmlformats.org/officeDocument/2006/relationships/image" Target="../media/image4.jpeg"/><Relationship Id="rId46" Type="http://schemas.openxmlformats.org/officeDocument/2006/relationships/image" Target="../media/image4.jpeg"/><Relationship Id="rId47" Type="http://schemas.openxmlformats.org/officeDocument/2006/relationships/image" Target="../media/image4.jpeg"/><Relationship Id="rId48" Type="http://schemas.openxmlformats.org/officeDocument/2006/relationships/image" Target="../media/image4.jpeg"/><Relationship Id="rId49" Type="http://schemas.openxmlformats.org/officeDocument/2006/relationships/image" Target="../media/image1.jpeg"/><Relationship Id="rId50" Type="http://schemas.openxmlformats.org/officeDocument/2006/relationships/image" Target="../media/image1.jpeg"/><Relationship Id="rId51" Type="http://schemas.openxmlformats.org/officeDocument/2006/relationships/image" Target="../media/image1.jpeg"/><Relationship Id="rId52" Type="http://schemas.openxmlformats.org/officeDocument/2006/relationships/image" Target="../media/image1.jpeg"/><Relationship Id="rId53" Type="http://schemas.openxmlformats.org/officeDocument/2006/relationships/audio" Target="../media/chimes.wav"/><Relationship Id="rId5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image" Target="../media/image1.jpeg"/><Relationship Id="rId18" Type="http://schemas.openxmlformats.org/officeDocument/2006/relationships/image" Target="../media/image1.jpeg"/><Relationship Id="rId19" Type="http://schemas.openxmlformats.org/officeDocument/2006/relationships/image" Target="../media/image1.jpeg"/><Relationship Id="rId20" Type="http://schemas.openxmlformats.org/officeDocument/2006/relationships/image" Target="../media/image1.jpeg"/><Relationship Id="rId21" Type="http://schemas.openxmlformats.org/officeDocument/2006/relationships/image" Target="../media/image1.jpeg"/><Relationship Id="rId22" Type="http://schemas.openxmlformats.org/officeDocument/2006/relationships/image" Target="../media/image1.jpeg"/><Relationship Id="rId23" Type="http://schemas.openxmlformats.org/officeDocument/2006/relationships/image" Target="../media/image3.jpeg"/><Relationship Id="rId24" Type="http://schemas.openxmlformats.org/officeDocument/2006/relationships/image" Target="../media/image3.jpeg"/><Relationship Id="rId25" Type="http://schemas.openxmlformats.org/officeDocument/2006/relationships/image" Target="../media/image3.jpeg"/><Relationship Id="rId26" Type="http://schemas.openxmlformats.org/officeDocument/2006/relationships/image" Target="../media/image3.jpeg"/><Relationship Id="rId27" Type="http://schemas.openxmlformats.org/officeDocument/2006/relationships/image" Target="../media/image3.jpeg"/><Relationship Id="rId28" Type="http://schemas.openxmlformats.org/officeDocument/2006/relationships/image" Target="../media/image3.jpeg"/><Relationship Id="rId29" Type="http://schemas.openxmlformats.org/officeDocument/2006/relationships/image" Target="../media/image3.jpeg"/><Relationship Id="rId30" Type="http://schemas.openxmlformats.org/officeDocument/2006/relationships/image" Target="../media/image3.jpeg"/><Relationship Id="rId31" Type="http://schemas.openxmlformats.org/officeDocument/2006/relationships/image" Target="../media/image3.jpeg"/><Relationship Id="rId32" Type="http://schemas.openxmlformats.org/officeDocument/2006/relationships/image" Target="../media/image3.jpeg"/><Relationship Id="rId33" Type="http://schemas.openxmlformats.org/officeDocument/2006/relationships/image" Target="../media/image3.jpeg"/><Relationship Id="rId34" Type="http://schemas.openxmlformats.org/officeDocument/2006/relationships/image" Target="../media/image3.jpeg"/><Relationship Id="rId35" Type="http://schemas.openxmlformats.org/officeDocument/2006/relationships/image" Target="../media/image4.jpeg"/><Relationship Id="rId36" Type="http://schemas.openxmlformats.org/officeDocument/2006/relationships/image" Target="../media/image4.jpeg"/><Relationship Id="rId37" Type="http://schemas.openxmlformats.org/officeDocument/2006/relationships/image" Target="../media/image4.jpeg"/><Relationship Id="rId38" Type="http://schemas.openxmlformats.org/officeDocument/2006/relationships/image" Target="../media/image4.jpeg"/><Relationship Id="rId39" Type="http://schemas.openxmlformats.org/officeDocument/2006/relationships/image" Target="../media/image4.jpeg"/><Relationship Id="rId40" Type="http://schemas.openxmlformats.org/officeDocument/2006/relationships/image" Target="../media/image4.jpeg"/><Relationship Id="rId41" Type="http://schemas.openxmlformats.org/officeDocument/2006/relationships/image" Target="../media/image4.jpeg"/><Relationship Id="rId42" Type="http://schemas.openxmlformats.org/officeDocument/2006/relationships/image" Target="../media/image4.jpeg"/><Relationship Id="rId43" Type="http://schemas.openxmlformats.org/officeDocument/2006/relationships/image" Target="../media/image4.jpeg"/><Relationship Id="rId44" Type="http://schemas.openxmlformats.org/officeDocument/2006/relationships/image" Target="../media/image4.jpeg"/><Relationship Id="rId45" Type="http://schemas.openxmlformats.org/officeDocument/2006/relationships/image" Target="../media/image4.jpeg"/><Relationship Id="rId46" Type="http://schemas.openxmlformats.org/officeDocument/2006/relationships/image" Target="../media/image4.jpeg"/><Relationship Id="rId47" Type="http://schemas.openxmlformats.org/officeDocument/2006/relationships/image" Target="../media/image4.jpeg"/><Relationship Id="rId48" Type="http://schemas.openxmlformats.org/officeDocument/2006/relationships/image" Target="../media/image4.jpeg"/><Relationship Id="rId49" Type="http://schemas.openxmlformats.org/officeDocument/2006/relationships/image" Target="../media/image1.jpeg"/><Relationship Id="rId50" Type="http://schemas.openxmlformats.org/officeDocument/2006/relationships/image" Target="../media/image1.jpeg"/><Relationship Id="rId51" Type="http://schemas.openxmlformats.org/officeDocument/2006/relationships/image" Target="../media/image1.jpeg"/><Relationship Id="rId52" Type="http://schemas.openxmlformats.org/officeDocument/2006/relationships/image" Target="../media/image1.jpeg"/><Relationship Id="rId53" Type="http://schemas.openxmlformats.org/officeDocument/2006/relationships/audio" Target="../media/chimes.wav"/><Relationship Id="rId5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00ffff"/>
            </a:gs>
            <a:gs pos="100000">
              <a:srgbClr val="33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1752480"/>
            <a:ext cx="83818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0920" y="2421000"/>
            <a:ext cx="439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</a:rPr>
              <a:t>平均数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58920" y="47628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人教新课标版三年级数学下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00ffff"/>
            </a:gs>
            <a:gs pos="100000">
              <a:srgbClr val="33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974880" y="1717560"/>
            <a:ext cx="75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林大勇看一本故事书，星期五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页，星期六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页，星期日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页。他平均每天看多少页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00ffff"/>
            </a:gs>
            <a:gs pos="100000">
              <a:srgbClr val="33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971640" y="1544760"/>
            <a:ext cx="7502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只列式不计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少先队员为敬老院做衣架，平均每人做几个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小华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，小红和小强共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，小芳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5+8+7)÷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小华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，小红和小强各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，小芳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5+8+8+7)÷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00ffff"/>
            </a:gs>
            <a:gs pos="100000">
              <a:srgbClr val="33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990720" y="1143000"/>
            <a:ext cx="7483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选择正确答案的算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实验小学三年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班参加植树活动，第一天植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棵，第二天植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棵，第三天植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棵，平均每班植树多少棵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8+20+2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÷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8+20+2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÷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00ffff"/>
            </a:gs>
            <a:gs pos="100000">
              <a:srgbClr val="33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"/>
          <p:cNvGrpSpPr/>
          <p:nvPr/>
        </p:nvGrpSpPr>
        <p:grpSpPr>
          <a:xfrm>
            <a:off x="4356000" y="1197000"/>
            <a:ext cx="2776680" cy="1297080"/>
            <a:chOff x="4356000" y="1197000"/>
            <a:chExt cx="2776680" cy="1297080"/>
          </a:xfrm>
        </p:grpSpPr>
        <p:sp>
          <p:nvSpPr>
            <p:cNvPr id="431" name=""/>
            <p:cNvSpPr/>
            <p:nvPr/>
          </p:nvSpPr>
          <p:spPr>
            <a:xfrm>
              <a:off x="5076720" y="1197000"/>
              <a:ext cx="0" cy="12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012000" y="1197000"/>
              <a:ext cx="0" cy="12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877080" y="1197000"/>
              <a:ext cx="0" cy="12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339520" y="12747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星期四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150600" y="12700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星期五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948360" y="1297080"/>
              <a:ext cx="1843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356000" y="1479600"/>
              <a:ext cx="720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521240" y="19893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13240" y="19828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137280" y="19828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41" name=""/>
          <p:cNvGraphicFramePr/>
          <p:nvPr/>
        </p:nvGraphicFramePr>
        <p:xfrm>
          <a:off x="1403280" y="1197000"/>
          <a:ext cx="5473800" cy="1295280"/>
        </p:xfrm>
        <a:graphic>
          <a:graphicData uri="http://schemas.openxmlformats.org/drawingml/2006/table">
            <a:tbl>
              <a:tblPr/>
              <a:tblGrid>
                <a:gridCol w="865080"/>
                <a:gridCol w="935280"/>
                <a:gridCol w="936720"/>
                <a:gridCol w="2736720"/>
              </a:tblGrid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日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星期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星期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题   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"/>
          <p:cNvSpPr/>
          <p:nvPr/>
        </p:nvSpPr>
        <p:spPr>
          <a:xfrm>
            <a:off x="4345560" y="13334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星期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3" name=""/>
          <p:cNvGraphicFramePr/>
          <p:nvPr/>
        </p:nvGraphicFramePr>
        <p:xfrm>
          <a:off x="1403280" y="4149720"/>
          <a:ext cx="5473800" cy="1295280"/>
        </p:xfrm>
        <a:graphic>
          <a:graphicData uri="http://schemas.openxmlformats.org/drawingml/2006/table">
            <a:tbl>
              <a:tblPr/>
              <a:tblGrid>
                <a:gridCol w="1008000"/>
                <a:gridCol w="936720"/>
                <a:gridCol w="936720"/>
                <a:gridCol w="2592360"/>
              </a:tblGrid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日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星期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星期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题   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4" name=""/>
          <p:cNvSpPr/>
          <p:nvPr/>
        </p:nvSpPr>
        <p:spPr>
          <a:xfrm>
            <a:off x="5076720" y="414828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012000" y="414828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877080" y="414828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339520" y="4292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星期四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150600" y="4292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星期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356000" y="3639960"/>
            <a:ext cx="72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313240" y="4933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350600" y="4292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星期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410000" y="4933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210360" y="4933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92480" y="1628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李宝乐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98320" y="44308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岳峰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103480" y="297648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611000" y="2717640"/>
            <a:ext cx="495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李宝乐的平均成绩：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6+18+30+30+2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÷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130 ÷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621080" y="5670720"/>
            <a:ext cx="428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岳峰的平均成绩：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9+28+30+2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÷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112 ÷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/>
          <p:nvPr/>
        </p:nvSpPr>
        <p:spPr>
          <a:xfrm>
            <a:off x="6813000" y="6127920"/>
            <a:ext cx="201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2008-----4------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116000" y="2349360"/>
            <a:ext cx="568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zh-CN" sz="9600" spc="-1" strike="noStrike">
                <a:solidFill>
                  <a:srgbClr val="ff0000"/>
                </a:solidFill>
                <a:latin typeface="Times New Roman"/>
              </a:rPr>
              <a:t>谢谢观看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00ffff"/>
            </a:gs>
            <a:gs pos="100000">
              <a:srgbClr val="33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98560" y="4540320"/>
            <a:ext cx="247680" cy="736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 flipV="1">
            <a:off x="838080" y="1142640"/>
            <a:ext cx="0" cy="426708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696600" y="5327640"/>
            <a:ext cx="6618600" cy="378720"/>
            <a:chOff x="696600" y="5327640"/>
            <a:chExt cx="6618600" cy="378720"/>
          </a:xfrm>
        </p:grpSpPr>
        <p:sp>
          <p:nvSpPr>
            <p:cNvPr id="47" name=""/>
            <p:cNvSpPr/>
            <p:nvPr/>
          </p:nvSpPr>
          <p:spPr>
            <a:xfrm>
              <a:off x="838080" y="5410080"/>
              <a:ext cx="647712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21896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58112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946160" y="5327640"/>
              <a:ext cx="0" cy="763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36196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27360" y="5327640"/>
              <a:ext cx="0" cy="763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0500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7004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851280" y="5327640"/>
              <a:ext cx="0" cy="763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232160" y="5327640"/>
              <a:ext cx="0" cy="763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61304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997160" y="5330880"/>
              <a:ext cx="0" cy="763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37516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756040" y="5330880"/>
              <a:ext cx="0" cy="763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13728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96600" y="536256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77480" y="536256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449000" y="5359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829880" y="5359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211120" y="5359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592000" y="5359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972880" y="5359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325320" y="536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696840" y="536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097160" y="536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42760" y="53690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833360" y="53690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195160" y="53690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576400" y="53690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66640" y="53690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363720" y="53593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51816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914400" y="3629160"/>
            <a:ext cx="4057560" cy="749160"/>
            <a:chOff x="914400" y="3629160"/>
            <a:chExt cx="4057560" cy="749160"/>
          </a:xfrm>
        </p:grpSpPr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914400" y="36417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1295280" y="36417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" descr=""/>
            <p:cNvPicPr/>
            <p:nvPr/>
          </p:nvPicPr>
          <p:blipFill>
            <a:blip r:embed="rId4"/>
            <a:stretch/>
          </p:blipFill>
          <p:spPr>
            <a:xfrm>
              <a:off x="1676520" y="36417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5"/>
            <a:stretch/>
          </p:blipFill>
          <p:spPr>
            <a:xfrm>
              <a:off x="2057400" y="36417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" descr=""/>
            <p:cNvPicPr/>
            <p:nvPr/>
          </p:nvPicPr>
          <p:blipFill>
            <a:blip r:embed="rId6"/>
            <a:stretch/>
          </p:blipFill>
          <p:spPr>
            <a:xfrm>
              <a:off x="2438280" y="36417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7"/>
            <a:stretch/>
          </p:blipFill>
          <p:spPr>
            <a:xfrm>
              <a:off x="2819520" y="36417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8"/>
            <a:stretch/>
          </p:blipFill>
          <p:spPr>
            <a:xfrm>
              <a:off x="3200400" y="36417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9"/>
            <a:stretch/>
          </p:blipFill>
          <p:spPr>
            <a:xfrm>
              <a:off x="3543480" y="3629160"/>
              <a:ext cx="24732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10"/>
            <a:stretch/>
          </p:blipFill>
          <p:spPr>
            <a:xfrm>
              <a:off x="3924360" y="36291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11"/>
            <a:stretch/>
          </p:blipFill>
          <p:spPr>
            <a:xfrm>
              <a:off x="4317840" y="36417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12"/>
            <a:stretch/>
          </p:blipFill>
          <p:spPr>
            <a:xfrm>
              <a:off x="4724280" y="3641760"/>
              <a:ext cx="247680" cy="736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1" name="" descr=""/>
          <p:cNvPicPr/>
          <p:nvPr/>
        </p:nvPicPr>
        <p:blipFill>
          <a:blip r:embed="rId13"/>
          <a:stretch/>
        </p:blipFill>
        <p:spPr>
          <a:xfrm>
            <a:off x="1279440" y="454032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14"/>
          <a:stretch/>
        </p:blipFill>
        <p:spPr>
          <a:xfrm>
            <a:off x="1660680" y="4540320"/>
            <a:ext cx="247320" cy="7365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5"/>
          <a:stretch/>
        </p:blipFill>
        <p:spPr>
          <a:xfrm>
            <a:off x="2041560" y="454032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6"/>
          <a:stretch/>
        </p:blipFill>
        <p:spPr>
          <a:xfrm>
            <a:off x="2397240" y="454032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7"/>
          <a:stretch/>
        </p:blipFill>
        <p:spPr>
          <a:xfrm>
            <a:off x="2778120" y="454032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8"/>
          <a:stretch/>
        </p:blipFill>
        <p:spPr>
          <a:xfrm>
            <a:off x="3159000" y="454032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9"/>
          <a:stretch/>
        </p:blipFill>
        <p:spPr>
          <a:xfrm>
            <a:off x="3540240" y="454032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0"/>
          <a:stretch/>
        </p:blipFill>
        <p:spPr>
          <a:xfrm>
            <a:off x="3921120" y="454032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1"/>
          <a:stretch/>
        </p:blipFill>
        <p:spPr>
          <a:xfrm>
            <a:off x="4302000" y="454032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2"/>
          <a:stretch/>
        </p:blipFill>
        <p:spPr>
          <a:xfrm>
            <a:off x="4730760" y="4527720"/>
            <a:ext cx="247680" cy="73656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927000" y="2514600"/>
            <a:ext cx="4400640" cy="762120"/>
            <a:chOff x="927000" y="2514600"/>
            <a:chExt cx="4400640" cy="762120"/>
          </a:xfrm>
        </p:grpSpPr>
        <p:pic>
          <p:nvPicPr>
            <p:cNvPr id="102" name="" descr=""/>
            <p:cNvPicPr/>
            <p:nvPr/>
          </p:nvPicPr>
          <p:blipFill>
            <a:blip r:embed="rId23"/>
            <a:stretch/>
          </p:blipFill>
          <p:spPr>
            <a:xfrm>
              <a:off x="927000" y="25401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24"/>
            <a:stretch/>
          </p:blipFill>
          <p:spPr>
            <a:xfrm>
              <a:off x="1295280" y="25401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25"/>
            <a:stretch/>
          </p:blipFill>
          <p:spPr>
            <a:xfrm>
              <a:off x="1676520" y="252720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26"/>
            <a:stretch/>
          </p:blipFill>
          <p:spPr>
            <a:xfrm>
              <a:off x="2044800" y="252720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27"/>
            <a:stretch/>
          </p:blipFill>
          <p:spPr>
            <a:xfrm>
              <a:off x="2438280" y="25401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28"/>
            <a:stretch/>
          </p:blipFill>
          <p:spPr>
            <a:xfrm>
              <a:off x="2806560" y="25401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29"/>
            <a:stretch/>
          </p:blipFill>
          <p:spPr>
            <a:xfrm>
              <a:off x="3187800" y="252720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30"/>
            <a:stretch/>
          </p:blipFill>
          <p:spPr>
            <a:xfrm>
              <a:off x="3556080" y="252720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/>
            <p:cNvPicPr/>
            <p:nvPr/>
          </p:nvPicPr>
          <p:blipFill>
            <a:blip r:embed="rId31"/>
            <a:stretch/>
          </p:blipFill>
          <p:spPr>
            <a:xfrm>
              <a:off x="3962520" y="252720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32"/>
            <a:stretch/>
          </p:blipFill>
          <p:spPr>
            <a:xfrm>
              <a:off x="4330800" y="252720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33"/>
            <a:stretch/>
          </p:blipFill>
          <p:spPr>
            <a:xfrm>
              <a:off x="4711680" y="251460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" descr=""/>
            <p:cNvPicPr/>
            <p:nvPr/>
          </p:nvPicPr>
          <p:blipFill>
            <a:blip r:embed="rId34"/>
            <a:stretch/>
          </p:blipFill>
          <p:spPr>
            <a:xfrm>
              <a:off x="5079960" y="2514600"/>
              <a:ext cx="247680" cy="73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" name=""/>
          <p:cNvSpPr/>
          <p:nvPr/>
        </p:nvSpPr>
        <p:spPr>
          <a:xfrm>
            <a:off x="168120" y="4724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9800" y="3733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9800" y="2666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9800" y="1676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917400" y="5396040"/>
            <a:ext cx="7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数量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个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914400" y="1573200"/>
            <a:ext cx="5114880" cy="736560"/>
            <a:chOff x="914400" y="1573200"/>
            <a:chExt cx="5114880" cy="736560"/>
          </a:xfrm>
        </p:grpSpPr>
        <p:pic>
          <p:nvPicPr>
            <p:cNvPr id="120" name="" descr=""/>
            <p:cNvPicPr/>
            <p:nvPr/>
          </p:nvPicPr>
          <p:blipFill>
            <a:blip r:embed="rId35"/>
            <a:stretch/>
          </p:blipFill>
          <p:spPr>
            <a:xfrm>
              <a:off x="914400" y="1574640"/>
              <a:ext cx="247680" cy="73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36"/>
            <a:stretch/>
          </p:blipFill>
          <p:spPr>
            <a:xfrm>
              <a:off x="1282680" y="1574640"/>
              <a:ext cx="247680" cy="73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" descr=""/>
            <p:cNvPicPr/>
            <p:nvPr/>
          </p:nvPicPr>
          <p:blipFill>
            <a:blip r:embed="rId37"/>
            <a:stretch/>
          </p:blipFill>
          <p:spPr>
            <a:xfrm>
              <a:off x="1676520" y="1574640"/>
              <a:ext cx="247680" cy="73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38"/>
            <a:stretch/>
          </p:blipFill>
          <p:spPr>
            <a:xfrm>
              <a:off x="2044800" y="1574640"/>
              <a:ext cx="247680" cy="73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39"/>
            <a:stretch/>
          </p:blipFill>
          <p:spPr>
            <a:xfrm>
              <a:off x="2425680" y="1574640"/>
              <a:ext cx="247680" cy="73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40"/>
            <a:stretch/>
          </p:blipFill>
          <p:spPr>
            <a:xfrm>
              <a:off x="2793960" y="1574640"/>
              <a:ext cx="247680" cy="73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41"/>
            <a:stretch/>
          </p:blipFill>
          <p:spPr>
            <a:xfrm>
              <a:off x="3187800" y="1574640"/>
              <a:ext cx="247680" cy="73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42"/>
            <a:stretch/>
          </p:blipFill>
          <p:spPr>
            <a:xfrm>
              <a:off x="3556080" y="1574640"/>
              <a:ext cx="247680" cy="73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" descr=""/>
            <p:cNvPicPr/>
            <p:nvPr/>
          </p:nvPicPr>
          <p:blipFill>
            <a:blip r:embed="rId43"/>
            <a:stretch/>
          </p:blipFill>
          <p:spPr>
            <a:xfrm>
              <a:off x="3949560" y="1574640"/>
              <a:ext cx="247680" cy="73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" descr=""/>
            <p:cNvPicPr/>
            <p:nvPr/>
          </p:nvPicPr>
          <p:blipFill>
            <a:blip r:embed="rId44"/>
            <a:stretch/>
          </p:blipFill>
          <p:spPr>
            <a:xfrm>
              <a:off x="4317840" y="1574640"/>
              <a:ext cx="247680" cy="73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45"/>
            <a:stretch/>
          </p:blipFill>
          <p:spPr>
            <a:xfrm>
              <a:off x="4711680" y="1574640"/>
              <a:ext cx="247680" cy="73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46"/>
            <a:stretch/>
          </p:blipFill>
          <p:spPr>
            <a:xfrm>
              <a:off x="5079960" y="1574640"/>
              <a:ext cx="247680" cy="73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47"/>
            <a:stretch/>
          </p:blipFill>
          <p:spPr>
            <a:xfrm>
              <a:off x="5460840" y="1574640"/>
              <a:ext cx="247680" cy="73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48"/>
            <a:stretch/>
          </p:blipFill>
          <p:spPr>
            <a:xfrm>
              <a:off x="5781600" y="1573200"/>
              <a:ext cx="247680" cy="735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" name=""/>
          <p:cNvSpPr/>
          <p:nvPr/>
        </p:nvSpPr>
        <p:spPr>
          <a:xfrm>
            <a:off x="3630600" y="658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一小组收集矿泉水瓶统计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9"/>
          <a:stretch/>
        </p:blipFill>
        <p:spPr>
          <a:xfrm>
            <a:off x="5097600" y="454356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0"/>
          <a:stretch/>
        </p:blipFill>
        <p:spPr>
          <a:xfrm>
            <a:off x="5435640" y="454968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1"/>
          <a:stretch/>
        </p:blipFill>
        <p:spPr>
          <a:xfrm>
            <a:off x="5829480" y="4551480"/>
            <a:ext cx="247320" cy="736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2"/>
          <a:stretch/>
        </p:blipFill>
        <p:spPr>
          <a:xfrm>
            <a:off x="6238800" y="4535640"/>
            <a:ext cx="247680" cy="7365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585120" y="0"/>
            <a:ext cx="2558880" cy="2049480"/>
          </a:xfrm>
          <a:prstGeom prst="cloudCallout">
            <a:avLst>
              <a:gd name="adj1" fmla="val -83500"/>
              <a:gd name="adj2" fmla="val 62240"/>
            </a:avLst>
          </a:prstGeom>
          <a:solidFill>
            <a:srgbClr val="ff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平均每人收集了多少个矿泉水瓶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500"/>
                            </p:stCondLst>
                            <p:childTnLst>
                              <p:par>
                                <p:cTn id="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500"/>
                            </p:stCondLst>
                            <p:childTnLst>
                              <p:par>
                                <p:cTn id="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6000"/>
                            </p:stCondLst>
                            <p:childTnLst>
                              <p:par>
                                <p:cTn id="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500"/>
                            </p:stCondLst>
                            <p:childTnLst>
                              <p:par>
                                <p:cTn id="5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7000"/>
                            </p:stCondLst>
                            <p:childTnLst>
                              <p:par>
                                <p:cTn id="6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00ffff"/>
            </a:gs>
            <a:gs pos="100000">
              <a:srgbClr val="33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898560" y="4540320"/>
            <a:ext cx="247680" cy="7365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 flipV="1">
            <a:off x="838080" y="1142640"/>
            <a:ext cx="0" cy="426708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696600" y="5327640"/>
            <a:ext cx="6618600" cy="378720"/>
            <a:chOff x="696600" y="5327640"/>
            <a:chExt cx="6618600" cy="378720"/>
          </a:xfrm>
        </p:grpSpPr>
        <p:sp>
          <p:nvSpPr>
            <p:cNvPr id="143" name=""/>
            <p:cNvSpPr/>
            <p:nvPr/>
          </p:nvSpPr>
          <p:spPr>
            <a:xfrm>
              <a:off x="838080" y="5410080"/>
              <a:ext cx="647712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1896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8112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46160" y="5327640"/>
              <a:ext cx="0" cy="763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36196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727360" y="5327640"/>
              <a:ext cx="0" cy="763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0500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7004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51280" y="5327640"/>
              <a:ext cx="0" cy="763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232160" y="5327640"/>
              <a:ext cx="0" cy="763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61304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997160" y="5330880"/>
              <a:ext cx="0" cy="763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37516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756040" y="5330880"/>
              <a:ext cx="0" cy="763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3728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6600" y="536256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077480" y="536256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449000" y="5359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829880" y="5359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211120" y="5359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92000" y="5359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972880" y="5359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325320" y="536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96840" y="536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97160" y="536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442760" y="53690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833360" y="53690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195160" y="53690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576400" y="53690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966640" y="53690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363720" y="53593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51816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914400" y="364176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1295280" y="364176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1676520" y="364176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5"/>
          <a:stretch/>
        </p:blipFill>
        <p:spPr>
          <a:xfrm>
            <a:off x="2057400" y="364176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6"/>
          <a:stretch/>
        </p:blipFill>
        <p:spPr>
          <a:xfrm>
            <a:off x="2438280" y="364176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7"/>
          <a:stretch/>
        </p:blipFill>
        <p:spPr>
          <a:xfrm>
            <a:off x="2819520" y="364176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8"/>
          <a:stretch/>
        </p:blipFill>
        <p:spPr>
          <a:xfrm>
            <a:off x="3200400" y="364176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9"/>
          <a:stretch/>
        </p:blipFill>
        <p:spPr>
          <a:xfrm>
            <a:off x="3543480" y="3629160"/>
            <a:ext cx="247320" cy="7365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10"/>
          <a:stretch/>
        </p:blipFill>
        <p:spPr>
          <a:xfrm>
            <a:off x="3924360" y="362916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11"/>
          <a:stretch/>
        </p:blipFill>
        <p:spPr>
          <a:xfrm>
            <a:off x="4317840" y="364176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12"/>
          <a:stretch/>
        </p:blipFill>
        <p:spPr>
          <a:xfrm>
            <a:off x="4724280" y="364176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13"/>
          <a:stretch/>
        </p:blipFill>
        <p:spPr>
          <a:xfrm>
            <a:off x="1279440" y="454032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14"/>
          <a:stretch/>
        </p:blipFill>
        <p:spPr>
          <a:xfrm>
            <a:off x="1660680" y="4540320"/>
            <a:ext cx="247320" cy="7365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15"/>
          <a:stretch/>
        </p:blipFill>
        <p:spPr>
          <a:xfrm>
            <a:off x="2041560" y="454032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16"/>
          <a:stretch/>
        </p:blipFill>
        <p:spPr>
          <a:xfrm>
            <a:off x="2397240" y="454032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17"/>
          <a:stretch/>
        </p:blipFill>
        <p:spPr>
          <a:xfrm>
            <a:off x="2778120" y="454032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18"/>
          <a:stretch/>
        </p:blipFill>
        <p:spPr>
          <a:xfrm>
            <a:off x="3159000" y="454032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19"/>
          <a:stretch/>
        </p:blipFill>
        <p:spPr>
          <a:xfrm>
            <a:off x="3540240" y="454032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0"/>
          <a:stretch/>
        </p:blipFill>
        <p:spPr>
          <a:xfrm>
            <a:off x="3921120" y="454032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1"/>
          <a:stretch/>
        </p:blipFill>
        <p:spPr>
          <a:xfrm>
            <a:off x="4302000" y="454032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2"/>
          <a:stretch/>
        </p:blipFill>
        <p:spPr>
          <a:xfrm>
            <a:off x="4730760" y="4527720"/>
            <a:ext cx="247680" cy="736560"/>
          </a:xfrm>
          <a:prstGeom prst="rect">
            <a:avLst/>
          </a:prstGeom>
          <a:ln w="0">
            <a:noFill/>
          </a:ln>
        </p:spPr>
      </p:pic>
      <p:grpSp>
        <p:nvGrpSpPr>
          <p:cNvPr id="196" name=""/>
          <p:cNvGrpSpPr/>
          <p:nvPr/>
        </p:nvGrpSpPr>
        <p:grpSpPr>
          <a:xfrm>
            <a:off x="927000" y="2514600"/>
            <a:ext cx="4400640" cy="762120"/>
            <a:chOff x="927000" y="2514600"/>
            <a:chExt cx="4400640" cy="762120"/>
          </a:xfrm>
        </p:grpSpPr>
        <p:pic>
          <p:nvPicPr>
            <p:cNvPr id="197" name="" descr=""/>
            <p:cNvPicPr/>
            <p:nvPr/>
          </p:nvPicPr>
          <p:blipFill>
            <a:blip r:embed="rId23"/>
            <a:stretch/>
          </p:blipFill>
          <p:spPr>
            <a:xfrm>
              <a:off x="927000" y="25401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" descr=""/>
            <p:cNvPicPr/>
            <p:nvPr/>
          </p:nvPicPr>
          <p:blipFill>
            <a:blip r:embed="rId24"/>
            <a:stretch/>
          </p:blipFill>
          <p:spPr>
            <a:xfrm>
              <a:off x="1295280" y="25401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" descr=""/>
            <p:cNvPicPr/>
            <p:nvPr/>
          </p:nvPicPr>
          <p:blipFill>
            <a:blip r:embed="rId25"/>
            <a:stretch/>
          </p:blipFill>
          <p:spPr>
            <a:xfrm>
              <a:off x="1676520" y="252720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" descr=""/>
            <p:cNvPicPr/>
            <p:nvPr/>
          </p:nvPicPr>
          <p:blipFill>
            <a:blip r:embed="rId26"/>
            <a:stretch/>
          </p:blipFill>
          <p:spPr>
            <a:xfrm>
              <a:off x="2044800" y="252720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27"/>
            <a:stretch/>
          </p:blipFill>
          <p:spPr>
            <a:xfrm>
              <a:off x="2438280" y="25401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" descr=""/>
            <p:cNvPicPr/>
            <p:nvPr/>
          </p:nvPicPr>
          <p:blipFill>
            <a:blip r:embed="rId28"/>
            <a:stretch/>
          </p:blipFill>
          <p:spPr>
            <a:xfrm>
              <a:off x="2806560" y="25401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" descr=""/>
            <p:cNvPicPr/>
            <p:nvPr/>
          </p:nvPicPr>
          <p:blipFill>
            <a:blip r:embed="rId29"/>
            <a:stretch/>
          </p:blipFill>
          <p:spPr>
            <a:xfrm>
              <a:off x="3187800" y="252720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" descr=""/>
            <p:cNvPicPr/>
            <p:nvPr/>
          </p:nvPicPr>
          <p:blipFill>
            <a:blip r:embed="rId30"/>
            <a:stretch/>
          </p:blipFill>
          <p:spPr>
            <a:xfrm>
              <a:off x="3556080" y="252720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" descr=""/>
            <p:cNvPicPr/>
            <p:nvPr/>
          </p:nvPicPr>
          <p:blipFill>
            <a:blip r:embed="rId31"/>
            <a:stretch/>
          </p:blipFill>
          <p:spPr>
            <a:xfrm>
              <a:off x="3962520" y="252720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" descr=""/>
            <p:cNvPicPr/>
            <p:nvPr/>
          </p:nvPicPr>
          <p:blipFill>
            <a:blip r:embed="rId32"/>
            <a:stretch/>
          </p:blipFill>
          <p:spPr>
            <a:xfrm>
              <a:off x="4330800" y="252720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" descr=""/>
            <p:cNvPicPr/>
            <p:nvPr/>
          </p:nvPicPr>
          <p:blipFill>
            <a:blip r:embed="rId33"/>
            <a:stretch/>
          </p:blipFill>
          <p:spPr>
            <a:xfrm>
              <a:off x="4711680" y="251460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34"/>
            <a:stretch/>
          </p:blipFill>
          <p:spPr>
            <a:xfrm>
              <a:off x="5079960" y="2514600"/>
              <a:ext cx="247680" cy="73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9" name=""/>
          <p:cNvSpPr/>
          <p:nvPr/>
        </p:nvSpPr>
        <p:spPr>
          <a:xfrm>
            <a:off x="168120" y="4724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99800" y="3733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99800" y="2666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9800" y="1676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917400" y="5396040"/>
            <a:ext cx="7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数量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个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35"/>
          <a:stretch/>
        </p:blipFill>
        <p:spPr>
          <a:xfrm>
            <a:off x="914400" y="1574640"/>
            <a:ext cx="247680" cy="7351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6"/>
          <a:stretch/>
        </p:blipFill>
        <p:spPr>
          <a:xfrm>
            <a:off x="1282680" y="1574640"/>
            <a:ext cx="247680" cy="7351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7"/>
          <a:stretch/>
        </p:blipFill>
        <p:spPr>
          <a:xfrm>
            <a:off x="1676520" y="1574640"/>
            <a:ext cx="247680" cy="7351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8"/>
          <a:stretch/>
        </p:blipFill>
        <p:spPr>
          <a:xfrm>
            <a:off x="2044800" y="1574640"/>
            <a:ext cx="247680" cy="7351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9"/>
          <a:stretch/>
        </p:blipFill>
        <p:spPr>
          <a:xfrm>
            <a:off x="2425680" y="1574640"/>
            <a:ext cx="247680" cy="7351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40"/>
          <a:stretch/>
        </p:blipFill>
        <p:spPr>
          <a:xfrm>
            <a:off x="2793960" y="1574640"/>
            <a:ext cx="247680" cy="7351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41"/>
          <a:stretch/>
        </p:blipFill>
        <p:spPr>
          <a:xfrm>
            <a:off x="3187800" y="1574640"/>
            <a:ext cx="247680" cy="7351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2"/>
          <a:stretch/>
        </p:blipFill>
        <p:spPr>
          <a:xfrm>
            <a:off x="3556080" y="1574640"/>
            <a:ext cx="247680" cy="7351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43"/>
          <a:stretch/>
        </p:blipFill>
        <p:spPr>
          <a:xfrm>
            <a:off x="3949560" y="1574640"/>
            <a:ext cx="247680" cy="7351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44"/>
          <a:stretch/>
        </p:blipFill>
        <p:spPr>
          <a:xfrm>
            <a:off x="4317840" y="1574640"/>
            <a:ext cx="247680" cy="7351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5"/>
          <a:stretch/>
        </p:blipFill>
        <p:spPr>
          <a:xfrm>
            <a:off x="4711680" y="1574640"/>
            <a:ext cx="247680" cy="7351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46"/>
          <a:stretch/>
        </p:blipFill>
        <p:spPr>
          <a:xfrm>
            <a:off x="5079960" y="1574640"/>
            <a:ext cx="247680" cy="7351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47"/>
          <a:stretch/>
        </p:blipFill>
        <p:spPr>
          <a:xfrm>
            <a:off x="5460840" y="1574640"/>
            <a:ext cx="247680" cy="7351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48"/>
          <a:stretch/>
        </p:blipFill>
        <p:spPr>
          <a:xfrm>
            <a:off x="5781600" y="1573200"/>
            <a:ext cx="247680" cy="7351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3630600" y="658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一小组收集矿泉水瓶统计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585120" y="0"/>
            <a:ext cx="2558880" cy="2049480"/>
          </a:xfrm>
          <a:prstGeom prst="cloudCallout">
            <a:avLst>
              <a:gd name="adj1" fmla="val -83500"/>
              <a:gd name="adj2" fmla="val 62240"/>
            </a:avLst>
          </a:prstGeom>
          <a:solidFill>
            <a:srgbClr val="ff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平均每人收集了多少个矿泉水瓶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9"/>
          <a:stretch/>
        </p:blipFill>
        <p:spPr>
          <a:xfrm>
            <a:off x="5097600" y="454356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0"/>
          <a:stretch/>
        </p:blipFill>
        <p:spPr>
          <a:xfrm>
            <a:off x="5435640" y="454968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51"/>
          <a:stretch/>
        </p:blipFill>
        <p:spPr>
          <a:xfrm>
            <a:off x="5829480" y="4551480"/>
            <a:ext cx="247320" cy="7365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52"/>
          <a:stretch/>
        </p:blipFill>
        <p:spPr>
          <a:xfrm>
            <a:off x="6238800" y="4535640"/>
            <a:ext cx="247680" cy="73656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 flipV="1">
            <a:off x="5724360" y="980640"/>
            <a:ext cx="0" cy="48243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3526E-006 L -0.03559 0.14336 E">
                                      <p:cBhvr>
                                        <p:cTn id="90" dur="2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46821E-007 L -0.125 -0.13087 E">
                                      <p:cBhvr>
                                        <p:cTn id="94" dur="2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1.79191E-006 L -0.0408 -0.13318 E">
                                      <p:cBhvr>
                                        <p:cTn id="98" dur="2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00ffff"/>
            </a:gs>
            <a:gs pos="100000">
              <a:srgbClr val="33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某蓝猫专卖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00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~1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四种书包销售统计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87280" y="1341360"/>
            <a:ext cx="66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769000" y="3516480"/>
            <a:ext cx="4586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311800" y="3516480"/>
            <a:ext cx="4572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53160" y="3516480"/>
            <a:ext cx="4586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394160" y="3516480"/>
            <a:ext cx="4590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936960" y="3516480"/>
            <a:ext cx="4572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78320" y="3516480"/>
            <a:ext cx="4586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987640" y="3516480"/>
            <a:ext cx="4906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73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562120" y="3516480"/>
            <a:ext cx="4255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57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103480" y="3516480"/>
            <a:ext cx="4586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46280" y="3516480"/>
            <a:ext cx="4572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87280" y="3516480"/>
            <a:ext cx="4590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769000" y="3244680"/>
            <a:ext cx="45864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311800" y="3244680"/>
            <a:ext cx="45720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53160" y="3244680"/>
            <a:ext cx="45864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394160" y="3244680"/>
            <a:ext cx="45900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936960" y="3244680"/>
            <a:ext cx="45720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562120" y="3244680"/>
            <a:ext cx="425520" cy="271800"/>
          </a:xfrm>
          <a:prstGeom prst="rect">
            <a:avLst/>
          </a:prstGeom>
          <a:solidFill>
            <a:srgbClr val="dbe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57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103480" y="3244680"/>
            <a:ext cx="458640" cy="271800"/>
          </a:xfrm>
          <a:prstGeom prst="rect">
            <a:avLst/>
          </a:prstGeom>
          <a:solidFill>
            <a:srgbClr val="dbe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46280" y="3244680"/>
            <a:ext cx="457200" cy="271800"/>
          </a:xfrm>
          <a:prstGeom prst="rect">
            <a:avLst/>
          </a:prstGeom>
          <a:solidFill>
            <a:srgbClr val="dbe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187280" y="3244680"/>
            <a:ext cx="459000" cy="271800"/>
          </a:xfrm>
          <a:prstGeom prst="rect">
            <a:avLst/>
          </a:prstGeom>
          <a:solidFill>
            <a:srgbClr val="dbe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769000" y="297324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311800" y="2973240"/>
            <a:ext cx="45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853160" y="297324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394160" y="2973240"/>
            <a:ext cx="459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936960" y="2973240"/>
            <a:ext cx="45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478320" y="297324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987640" y="2973240"/>
            <a:ext cx="490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73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62120" y="2973240"/>
            <a:ext cx="425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57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103480" y="297324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46280" y="2973240"/>
            <a:ext cx="45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2973240"/>
            <a:ext cx="459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769000" y="270180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311800" y="2701800"/>
            <a:ext cx="45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478320" y="2701800"/>
            <a:ext cx="458640" cy="271440"/>
          </a:xfrm>
          <a:prstGeom prst="rect">
            <a:avLst/>
          </a:prstGeom>
          <a:solidFill>
            <a:srgbClr val="a21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987640" y="2701800"/>
            <a:ext cx="490680" cy="271440"/>
          </a:xfrm>
          <a:prstGeom prst="rect">
            <a:avLst/>
          </a:prstGeom>
          <a:solidFill>
            <a:srgbClr val="a21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73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562120" y="2701800"/>
            <a:ext cx="425520" cy="271440"/>
          </a:xfrm>
          <a:prstGeom prst="rect">
            <a:avLst/>
          </a:prstGeom>
          <a:solidFill>
            <a:srgbClr val="a21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57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03480" y="2701800"/>
            <a:ext cx="458640" cy="271440"/>
          </a:xfrm>
          <a:prstGeom prst="rect">
            <a:avLst/>
          </a:prstGeom>
          <a:solidFill>
            <a:srgbClr val="a21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646280" y="2701800"/>
            <a:ext cx="457200" cy="271440"/>
          </a:xfrm>
          <a:prstGeom prst="rect">
            <a:avLst/>
          </a:prstGeom>
          <a:solidFill>
            <a:srgbClr val="a21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187280" y="2701800"/>
            <a:ext cx="459000" cy="271440"/>
          </a:xfrm>
          <a:prstGeom prst="rect">
            <a:avLst/>
          </a:prstGeom>
          <a:solidFill>
            <a:srgbClr val="a21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769000" y="2428920"/>
            <a:ext cx="4586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11800" y="2428920"/>
            <a:ext cx="4572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853160" y="2428920"/>
            <a:ext cx="4586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394160" y="2428920"/>
            <a:ext cx="4590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936960" y="2428920"/>
            <a:ext cx="4572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478320" y="2428920"/>
            <a:ext cx="4586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987640" y="2428920"/>
            <a:ext cx="4906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73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62120" y="2428920"/>
            <a:ext cx="4255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57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103480" y="2428920"/>
            <a:ext cx="4586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646280" y="2428920"/>
            <a:ext cx="4572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187280" y="2428920"/>
            <a:ext cx="4590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769000" y="215748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311800" y="2157480"/>
            <a:ext cx="45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853160" y="215748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394160" y="2157480"/>
            <a:ext cx="459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36960" y="2157480"/>
            <a:ext cx="45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478320" y="215748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562120" y="2133720"/>
            <a:ext cx="1865520" cy="2952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103480" y="2157480"/>
            <a:ext cx="458640" cy="27144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646280" y="2157480"/>
            <a:ext cx="457200" cy="27144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187280" y="2157480"/>
            <a:ext cx="459000" cy="27144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769000" y="188604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311800" y="1886040"/>
            <a:ext cx="45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853160" y="188604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394160" y="1886040"/>
            <a:ext cx="459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936960" y="1886040"/>
            <a:ext cx="45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478320" y="188604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987640" y="1886040"/>
            <a:ext cx="490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73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62120" y="1886040"/>
            <a:ext cx="425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57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103480" y="188604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646280" y="1886040"/>
            <a:ext cx="45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187280" y="1886040"/>
            <a:ext cx="459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769000" y="161460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311800" y="1614600"/>
            <a:ext cx="45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853160" y="161460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94160" y="1614600"/>
            <a:ext cx="459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936960" y="1614600"/>
            <a:ext cx="45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478320" y="161460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987640" y="1614600"/>
            <a:ext cx="490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73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562120" y="1614600"/>
            <a:ext cx="425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57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103480" y="161460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646280" y="1628640"/>
            <a:ext cx="909720" cy="257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187280" y="1614600"/>
            <a:ext cx="459000" cy="271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69000" y="1341360"/>
            <a:ext cx="4586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311800" y="1341360"/>
            <a:ext cx="4572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853160" y="1341360"/>
            <a:ext cx="4586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394160" y="1341360"/>
            <a:ext cx="4590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936960" y="1341360"/>
            <a:ext cx="4572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478320" y="1341360"/>
            <a:ext cx="4586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987640" y="1341360"/>
            <a:ext cx="49068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73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562120" y="1341360"/>
            <a:ext cx="4255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57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103480" y="1341360"/>
            <a:ext cx="4586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646280" y="1341360"/>
            <a:ext cx="4572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187280" y="1341360"/>
            <a:ext cx="4590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187280" y="1341360"/>
            <a:ext cx="5040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187280" y="3789360"/>
            <a:ext cx="5040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187280" y="1341360"/>
            <a:ext cx="0" cy="2448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227640" y="1341360"/>
            <a:ext cx="0" cy="2448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187280" y="1614600"/>
            <a:ext cx="5040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646280" y="1341360"/>
            <a:ext cx="0" cy="2448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103480" y="1341360"/>
            <a:ext cx="0" cy="2448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562120" y="1341360"/>
            <a:ext cx="0" cy="2448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987640" y="1341360"/>
            <a:ext cx="0" cy="2448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478320" y="1341360"/>
            <a:ext cx="0" cy="2448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936960" y="1341360"/>
            <a:ext cx="0" cy="2448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427640" y="1341360"/>
            <a:ext cx="0" cy="2448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853160" y="1341360"/>
            <a:ext cx="0" cy="2448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311800" y="1341360"/>
            <a:ext cx="0" cy="2448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769000" y="1341360"/>
            <a:ext cx="0" cy="2448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187280" y="1886040"/>
            <a:ext cx="5040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187280" y="2133720"/>
            <a:ext cx="5040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187280" y="2428920"/>
            <a:ext cx="5040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187280" y="2701800"/>
            <a:ext cx="5040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187280" y="2973240"/>
            <a:ext cx="5040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187280" y="3244680"/>
            <a:ext cx="5040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187280" y="3516480"/>
            <a:ext cx="5040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826920" y="1557360"/>
            <a:ext cx="647640" cy="2067840"/>
            <a:chOff x="826920" y="1557360"/>
            <a:chExt cx="647640" cy="2067840"/>
          </a:xfrm>
        </p:grpSpPr>
        <p:sp>
          <p:nvSpPr>
            <p:cNvPr id="353" name=""/>
            <p:cNvSpPr/>
            <p:nvPr/>
          </p:nvSpPr>
          <p:spPr>
            <a:xfrm>
              <a:off x="826920" y="316548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26920" y="262944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26920" y="209232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26920" y="155736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" name=""/>
          <p:cNvSpPr/>
          <p:nvPr/>
        </p:nvSpPr>
        <p:spPr>
          <a:xfrm flipV="1">
            <a:off x="1187280" y="1052640"/>
            <a:ext cx="0" cy="296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019160" y="3789360"/>
            <a:ext cx="35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452960" y="3789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910160" y="3789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341800" y="3789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750040" y="3789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252960" y="3789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758040" y="3789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189680" y="3789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651560" y="3789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124960" y="3789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582160" y="37893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059520" y="37893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929560" y="3763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92200" y="4724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408560" y="5300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127480" y="4363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382400" y="4587840"/>
            <a:ext cx="448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算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四种书包的平均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9.7"/>
                                  </p:iterate>
                                  <p:childTnLst>
                                    <p:set>
                                      <p:cBhvr>
                                        <p:cTn id="10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9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00ffff"/>
            </a:gs>
            <a:gs pos="100000">
              <a:srgbClr val="33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685800" y="1219320"/>
            <a:ext cx="1447920" cy="1752480"/>
          </a:xfrm>
          <a:prstGeom prst="cube">
            <a:avLst>
              <a:gd name="adj" fmla="val 2500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977760" y="1676520"/>
            <a:ext cx="546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066680" y="2057400"/>
            <a:ext cx="381240" cy="304920"/>
          </a:xfrm>
          <a:custGeom>
            <a:avLst/>
            <a:gdLst>
              <a:gd name="textAreaLeft" fmla="*/ 89640 w 381240"/>
              <a:gd name="textAreaRight" fmla="*/ 291600 w 381240"/>
              <a:gd name="textAreaTop" fmla="*/ 35640 h 304920"/>
              <a:gd name="textAreaBottom" fmla="*/ 191160 h 3049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993600" y="2362320"/>
            <a:ext cx="546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133720" y="609480"/>
            <a:ext cx="70102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实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小学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个年级举行献爱心捐款活动，第一天捐了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48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元，第二天捐了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50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元，第三天捐了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52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元，第四天捐了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55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元，平均每个年级捐款多少元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514600" y="190512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143000" y="1371600"/>
            <a:ext cx="533520" cy="76320"/>
          </a:xfrm>
          <a:prstGeom prst="cube">
            <a:avLst>
              <a:gd name="adj" fmla="val 2500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85800" y="32767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面的列式你认为正确的是：（          ）说说你的想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143000" y="4038480"/>
            <a:ext cx="5334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80+500+520+55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÷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80+500+520+55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÷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562720" y="3276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00ffff"/>
            </a:gs>
            <a:gs pos="100000">
              <a:srgbClr val="33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1311120" y="492120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-843480" y="1096920"/>
            <a:ext cx="7778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临河地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---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日的最高平均气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1℃,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日的最高气温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6 ℃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可能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00ffff"/>
            </a:gs>
            <a:gs pos="100000">
              <a:srgbClr val="33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2095560" y="627120"/>
            <a:ext cx="46321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老师随机测量了班上五位同学的身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单位：厘米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3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4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3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34   14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先估一估下面的哪一个数最有可能是他们的平均身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34      140      14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066760" y="620640"/>
            <a:ext cx="70772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1763640" y="4581360"/>
          <a:ext cx="5327640" cy="1657440"/>
        </p:xfrm>
        <a:graphic>
          <a:graphicData uri="http://schemas.openxmlformats.org/drawingml/2006/table">
            <a:tbl>
              <a:tblPr/>
              <a:tblGrid>
                <a:gridCol w="1775880"/>
                <a:gridCol w="1775520"/>
                <a:gridCol w="1776240"/>
              </a:tblGrid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</a:tbl>
          </a:graphicData>
        </a:graphic>
      </p:graphicFrame>
      <p:sp>
        <p:nvSpPr>
          <p:cNvPr id="390" name=""/>
          <p:cNvSpPr/>
          <p:nvPr/>
        </p:nvSpPr>
        <p:spPr>
          <a:xfrm>
            <a:off x="1600200" y="405756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835280" y="3860640"/>
            <a:ext cx="49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国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岁儿童身高的正常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170240" y="48322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男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927760" y="48322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女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293200" y="4832280"/>
            <a:ext cx="98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身高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厘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00ffff"/>
            </a:gs>
            <a:gs pos="100000">
              <a:srgbClr val="33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"/>
          <p:cNvGrpSpPr/>
          <p:nvPr/>
        </p:nvGrpSpPr>
        <p:grpSpPr>
          <a:xfrm>
            <a:off x="4356000" y="1197000"/>
            <a:ext cx="2776680" cy="1297080"/>
            <a:chOff x="4356000" y="1197000"/>
            <a:chExt cx="2776680" cy="1297080"/>
          </a:xfrm>
        </p:grpSpPr>
        <p:sp>
          <p:nvSpPr>
            <p:cNvPr id="396" name=""/>
            <p:cNvSpPr/>
            <p:nvPr/>
          </p:nvSpPr>
          <p:spPr>
            <a:xfrm>
              <a:off x="5076720" y="1197000"/>
              <a:ext cx="0" cy="12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012000" y="1197000"/>
              <a:ext cx="0" cy="12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877080" y="1197000"/>
              <a:ext cx="0" cy="12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339520" y="12747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星期四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150600" y="12700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星期五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948360" y="1297080"/>
              <a:ext cx="1843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356000" y="1479600"/>
              <a:ext cx="720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521240" y="19893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313240" y="19828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137280" y="19828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06" name=""/>
          <p:cNvGraphicFramePr/>
          <p:nvPr/>
        </p:nvGraphicFramePr>
        <p:xfrm>
          <a:off x="1403280" y="1197000"/>
          <a:ext cx="5473800" cy="1295280"/>
        </p:xfrm>
        <a:graphic>
          <a:graphicData uri="http://schemas.openxmlformats.org/drawingml/2006/table">
            <a:tbl>
              <a:tblPr/>
              <a:tblGrid>
                <a:gridCol w="865080"/>
                <a:gridCol w="935280"/>
                <a:gridCol w="936720"/>
                <a:gridCol w="2736720"/>
              </a:tblGrid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日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星期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星期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题   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7" name=""/>
          <p:cNvSpPr/>
          <p:nvPr/>
        </p:nvSpPr>
        <p:spPr>
          <a:xfrm>
            <a:off x="4345560" y="13334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星期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1403280" y="4149720"/>
          <a:ext cx="5473800" cy="1295280"/>
        </p:xfrm>
        <a:graphic>
          <a:graphicData uri="http://schemas.openxmlformats.org/drawingml/2006/table">
            <a:tbl>
              <a:tblPr/>
              <a:tblGrid>
                <a:gridCol w="1008000"/>
                <a:gridCol w="936720"/>
                <a:gridCol w="936720"/>
                <a:gridCol w="2592360"/>
              </a:tblGrid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日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星期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星期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题   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"/>
          <p:cNvSpPr/>
          <p:nvPr/>
        </p:nvSpPr>
        <p:spPr>
          <a:xfrm>
            <a:off x="5076720" y="414828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012000" y="414828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877080" y="414828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339520" y="4292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星期四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150600" y="4292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星期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356000" y="3639960"/>
            <a:ext cx="72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313240" y="4933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50600" y="4292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星期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410000" y="4933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210360" y="4933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62600" y="1628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王丹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96160" y="44308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郭媛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103480" y="297648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540440" y="2717640"/>
            <a:ext cx="47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李乐的平均成绩：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6+18+30+30+2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÷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130 ÷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621080" y="5670720"/>
            <a:ext cx="428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岳峰的平均成绩：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9+28+30+2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÷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112 ÷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00ffff"/>
            </a:gs>
            <a:gs pos="100000">
              <a:srgbClr val="33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1628640" y="1238400"/>
            <a:ext cx="54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 .   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三个数的平均数是多少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971640" y="2209680"/>
            <a:ext cx="717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给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还剩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再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给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再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给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还剩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这时三个数的平均数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990720" y="3809880"/>
            <a:ext cx="69339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用先合后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+10+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÷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21÷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0T07:52:04Z</dcterms:created>
  <dc:creator>绿色圃中小学教育网http://www.lspjy.com</dc:creator>
  <dc:description/>
  <cp:keywords>绿色圃中小学教育网http://www.lspjy.com</cp:keywords>
  <dc:language>en-US</dc:language>
  <cp:lastModifiedBy>admin</cp:lastModifiedBy>
  <dcterms:modified xsi:type="dcterms:W3CDTF">2015-01-30T09:21:58Z</dcterms:modified>
  <cp:revision>95</cp:revision>
  <dc:subject/>
  <dc:title>绿色圃中小学教育网http://www.lspjy.com</dc:title>
</cp:coreProperties>
</file>