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81E-FBF1-43E6-80B9-3DAFDDA6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3BB-AF58-4830-B651-2D1C10A6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1F4-A4FD-4E5F-9F2B-299976E3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B28-9FD4-476B-8A0B-B8FAA4C8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B66-696E-4512-B0EF-30BA1798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DED-1375-4070-8305-7863AA77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81A-0FDF-4258-BD3D-FA29FCA5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882-0C32-42CA-A614-A64265A1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CC1-A5F0-4733-B131-E57E8EFD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43B-C0F7-424A-BC53-1E170FC6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BDE-9565-4D6A-883F-61B2FB1C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E19-14D2-41CA-89EF-DA412869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D255-7462-4801-8482-6B1A21BB17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75248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42100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平均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74880" y="17175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林大勇看一本故事书，星期五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六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日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。他平均每天看多少页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71640" y="1544760"/>
            <a:ext cx="750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只列式不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少先队员为敬老院做衣架，平均每人做几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共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各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1143000"/>
            <a:ext cx="748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选择正确答案的算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验小学三年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班参加植树活动，第一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二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三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平均每班植树多少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431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1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248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李宝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832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岳峰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11000" y="2717640"/>
            <a:ext cx="49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宝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813000" y="612792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08-----4-----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2349360"/>
            <a:ext cx="56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谢谢观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47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14400" y="3629160"/>
            <a:ext cx="4057560" cy="749160"/>
            <a:chOff x="914400" y="3629160"/>
            <a:chExt cx="4057560" cy="7491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14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95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1676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2057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2438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2819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3200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3543480" y="3629160"/>
              <a:ext cx="2473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3924360" y="3629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>
              <a:off x="431784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>
              <a:off x="4724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02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1573200"/>
            <a:ext cx="5114880" cy="736560"/>
            <a:chOff x="914400" y="1573200"/>
            <a:chExt cx="5114880" cy="736560"/>
          </a:xfrm>
        </p:grpSpPr>
        <p:pic>
          <p:nvPicPr>
            <p:cNvPr id="120" name="" descr=""/>
            <p:cNvPicPr/>
            <p:nvPr/>
          </p:nvPicPr>
          <p:blipFill>
            <a:blip r:embed="rId35"/>
            <a:stretch/>
          </p:blipFill>
          <p:spPr>
            <a:xfrm>
              <a:off x="9144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6"/>
            <a:stretch/>
          </p:blipFill>
          <p:spPr>
            <a:xfrm>
              <a:off x="1282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7"/>
            <a:stretch/>
          </p:blipFill>
          <p:spPr>
            <a:xfrm>
              <a:off x="167652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8"/>
            <a:stretch/>
          </p:blipFill>
          <p:spPr>
            <a:xfrm>
              <a:off x="2044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9"/>
            <a:stretch/>
          </p:blipFill>
          <p:spPr>
            <a:xfrm>
              <a:off x="2425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0"/>
            <a:stretch/>
          </p:blipFill>
          <p:spPr>
            <a:xfrm>
              <a:off x="2793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1"/>
            <a:stretch/>
          </p:blipFill>
          <p:spPr>
            <a:xfrm>
              <a:off x="3187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2"/>
            <a:stretch/>
          </p:blipFill>
          <p:spPr>
            <a:xfrm>
              <a:off x="35560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3"/>
            <a:stretch/>
          </p:blipFill>
          <p:spPr>
            <a:xfrm>
              <a:off x="39495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4"/>
            <a:stretch/>
          </p:blipFill>
          <p:spPr>
            <a:xfrm>
              <a:off x="4317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5"/>
            <a:stretch/>
          </p:blipFill>
          <p:spPr>
            <a:xfrm>
              <a:off x="4711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6"/>
            <a:stretch/>
          </p:blipFill>
          <p:spPr>
            <a:xfrm>
              <a:off x="5079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7"/>
            <a:stretch/>
          </p:blipFill>
          <p:spPr>
            <a:xfrm>
              <a:off x="5460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8"/>
            <a:stretch/>
          </p:blipFill>
          <p:spPr>
            <a:xfrm>
              <a:off x="5781600" y="1573200"/>
              <a:ext cx="247680" cy="7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143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95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76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057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438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819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3200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3543480" y="362916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3924360" y="36291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431784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4724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97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5"/>
          <a:stretch/>
        </p:blipFill>
        <p:spPr>
          <a:xfrm>
            <a:off x="9144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6"/>
          <a:stretch/>
        </p:blipFill>
        <p:spPr>
          <a:xfrm>
            <a:off x="1282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7"/>
          <a:stretch/>
        </p:blipFill>
        <p:spPr>
          <a:xfrm>
            <a:off x="167652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8"/>
          <a:stretch/>
        </p:blipFill>
        <p:spPr>
          <a:xfrm>
            <a:off x="2044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9"/>
          <a:stretch/>
        </p:blipFill>
        <p:spPr>
          <a:xfrm>
            <a:off x="2425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0"/>
          <a:stretch/>
        </p:blipFill>
        <p:spPr>
          <a:xfrm>
            <a:off x="2793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1"/>
          <a:stretch/>
        </p:blipFill>
        <p:spPr>
          <a:xfrm>
            <a:off x="3187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2"/>
          <a:stretch/>
        </p:blipFill>
        <p:spPr>
          <a:xfrm>
            <a:off x="35560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3"/>
          <a:stretch/>
        </p:blipFill>
        <p:spPr>
          <a:xfrm>
            <a:off x="39495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4"/>
          <a:stretch/>
        </p:blipFill>
        <p:spPr>
          <a:xfrm>
            <a:off x="4317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5"/>
          <a:stretch/>
        </p:blipFill>
        <p:spPr>
          <a:xfrm>
            <a:off x="4711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6"/>
          <a:stretch/>
        </p:blipFill>
        <p:spPr>
          <a:xfrm>
            <a:off x="5079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7"/>
          <a:stretch/>
        </p:blipFill>
        <p:spPr>
          <a:xfrm>
            <a:off x="5460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8"/>
          <a:stretch/>
        </p:blipFill>
        <p:spPr>
          <a:xfrm>
            <a:off x="5781600" y="1573200"/>
            <a:ext cx="247680" cy="73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5724360" y="980640"/>
            <a:ext cx="0" cy="482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526E-006 L -0.03559 0.14336 E">
                                      <p:cBhvr>
                                        <p:cTn id="9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6821E-007 L -0.125 -0.13087 E">
                                      <p:cBhvr>
                                        <p:cTn id="9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191E-006 L -0.0408 -0.13318 E">
                                      <p:cBhvr>
                                        <p:cTn id="9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蓝猫专卖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四种书包销售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6900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1180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316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9416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696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51648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2120" y="351648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0348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900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180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5316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94160" y="3244680"/>
            <a:ext cx="4590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3696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2120" y="3244680"/>
            <a:ext cx="42552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3480" y="3244680"/>
            <a:ext cx="45864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6280" y="3244680"/>
            <a:ext cx="4572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3244680"/>
            <a:ext cx="4590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900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1180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5316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9416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3696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832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29732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62120" y="29732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348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4628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69000" y="27018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11800" y="27018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832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2701800"/>
            <a:ext cx="49068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62120" y="2701800"/>
            <a:ext cx="42552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0348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46280" y="2701800"/>
            <a:ext cx="4572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2701800"/>
            <a:ext cx="4590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6900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1180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5316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9416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3696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7832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242892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62120" y="242892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0348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4628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8728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6900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1180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5316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94160" y="215748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696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7832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62120" y="2133720"/>
            <a:ext cx="1865520" cy="295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03480" y="2157480"/>
            <a:ext cx="45864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46280" y="2157480"/>
            <a:ext cx="4572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157480"/>
            <a:ext cx="4590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6900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1180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316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9416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696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832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18860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62120" y="18860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348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4628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1180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5316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94160" y="161460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3696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7832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7640" y="161460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62120" y="161460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0348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6280" y="1628640"/>
            <a:ext cx="909720" cy="2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1614600"/>
            <a:ext cx="459000" cy="271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6900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1180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5316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9416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3696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7832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640" y="1341360"/>
            <a:ext cx="490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62120" y="1341360"/>
            <a:ext cx="425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0348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4628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341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3789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87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16146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46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034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621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783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369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531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118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690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18860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21337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4289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7018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29732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32446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35164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1557360"/>
            <a:ext cx="647640" cy="2067840"/>
            <a:chOff x="826920" y="1557360"/>
            <a:chExt cx="647640" cy="2067840"/>
          </a:xfrm>
        </p:grpSpPr>
        <p:sp>
          <p:nvSpPr>
            <p:cNvPr id="353" name=""/>
            <p:cNvSpPr/>
            <p:nvPr/>
          </p:nvSpPr>
          <p:spPr>
            <a:xfrm>
              <a:off x="826920" y="3165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6920" y="2629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6920" y="20923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6920" y="1557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1187280" y="105264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19160" y="3789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0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1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50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58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8968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515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21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5952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29560" y="3763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20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08560" y="530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2748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2400" y="4587840"/>
            <a:ext cx="44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种书包的平均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1219320"/>
            <a:ext cx="1447920" cy="17524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7760" y="16765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2057400"/>
            <a:ext cx="381240" cy="304920"/>
          </a:xfrm>
          <a:custGeom>
            <a:avLst/>
            <a:gdLst>
              <a:gd name="textAreaLeft" fmla="*/ 89640 w 381240"/>
              <a:gd name="textAreaRight" fmla="*/ 291600 w 381240"/>
              <a:gd name="textAreaTop" fmla="*/ 35640 h 304920"/>
              <a:gd name="textAreaBottom" fmla="*/ 191160 h 304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3600" y="23623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609480"/>
            <a:ext cx="701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年级举行献爱心捐款活动，第一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8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二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三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四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平均每个年级捐款多少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1905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1371600"/>
            <a:ext cx="533520" cy="7632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3276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的列式你认为正确的是：（          ）说说你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40384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11120" y="4921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843480" y="1096920"/>
            <a:ext cx="77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河地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平均气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℃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气温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 ℃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095560" y="627120"/>
            <a:ext cx="463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老师随机测量了班上五位同学的身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单位：厘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先估一估下面的哪一个数最有可能是他们的平均身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   140   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66760" y="620640"/>
            <a:ext cx="707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63640" y="4581360"/>
          <a:ext cx="5327640" cy="1657440"/>
        </p:xfrm>
        <a:graphic>
          <a:graphicData uri="http://schemas.openxmlformats.org/drawingml/2006/table">
            <a:tbl>
              <a:tblPr/>
              <a:tblGrid>
                <a:gridCol w="1775880"/>
                <a:gridCol w="1775520"/>
                <a:gridCol w="17762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600200" y="4057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3860640"/>
            <a:ext cx="49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儿童身高的正常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024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2776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93200" y="483228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身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396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2600" y="162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王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616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郭媛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0440" y="2717640"/>
            <a:ext cx="47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628640" y="1238400"/>
            <a:ext cx="54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.  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三个数的平均数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220968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时三个数的平均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80988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先合后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+10+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1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7:52:04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0T09:21:58Z</dcterms:modified>
  <cp:revision>95</cp:revision>
  <dc:subject/>
  <dc:title>绿色圃中小学教育网http://www.lspjy.com</dc:title>
</cp:coreProperties>
</file>