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4F4-9BBA-4DEB-8666-0A7E8D2B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C52-6196-4C35-892C-5732BC06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3F3-2280-401F-96B6-3841B106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003-09CA-4F22-952B-458BC261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2FB-A55B-4B8C-A46B-C9478C3C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DFB-4092-4D9F-855F-D2339292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225-A5C9-4FA6-B0FA-BB5D7DC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E2D-8A1A-49A1-8B42-3F7B9B54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45C-418F-4F54-AA39-AD6FA4AB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310-AA9F-444C-9AEC-FA60A4A9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303-1880-457E-A6B0-59353B55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38E-FFF1-446E-A80B-3B1EEFD8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2B84-4EB3-4E2A-9CED-872F4E5754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421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74880" y="17175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林大勇看一本故事书，星期五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六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日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。他平均每天看多少页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71640" y="1544760"/>
            <a:ext cx="750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只列式不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先队员为敬老院做衣架，平均每人做几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共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各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1143000"/>
            <a:ext cx="748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选择正确答案的算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验小学三年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班参加植树活动，第一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二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三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平均每班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431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248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李宝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832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岳峰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000" y="2717640"/>
            <a:ext cx="49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宝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13000" y="61279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8-----4-----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34936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47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14400" y="3629160"/>
            <a:ext cx="4057560" cy="749160"/>
            <a:chOff x="914400" y="3629160"/>
            <a:chExt cx="4057560" cy="7491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14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95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676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2057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2438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2819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3200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3543480" y="3629160"/>
              <a:ext cx="2473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3924360" y="3629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>
              <a:off x="431784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>
              <a:off x="4724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02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1573200"/>
            <a:ext cx="5114880" cy="736560"/>
            <a:chOff x="914400" y="1573200"/>
            <a:chExt cx="5114880" cy="736560"/>
          </a:xfrm>
        </p:grpSpPr>
        <p:pic>
          <p:nvPicPr>
            <p:cNvPr id="120" name="" descr=""/>
            <p:cNvPicPr/>
            <p:nvPr/>
          </p:nvPicPr>
          <p:blipFill>
            <a:blip r:embed="rId35"/>
            <a:stretch/>
          </p:blipFill>
          <p:spPr>
            <a:xfrm>
              <a:off x="9144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6"/>
            <a:stretch/>
          </p:blipFill>
          <p:spPr>
            <a:xfrm>
              <a:off x="1282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7"/>
            <a:stretch/>
          </p:blipFill>
          <p:spPr>
            <a:xfrm>
              <a:off x="167652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8"/>
            <a:stretch/>
          </p:blipFill>
          <p:spPr>
            <a:xfrm>
              <a:off x="2044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9"/>
            <a:stretch/>
          </p:blipFill>
          <p:spPr>
            <a:xfrm>
              <a:off x="2425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0"/>
            <a:stretch/>
          </p:blipFill>
          <p:spPr>
            <a:xfrm>
              <a:off x="2793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1"/>
            <a:stretch/>
          </p:blipFill>
          <p:spPr>
            <a:xfrm>
              <a:off x="3187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2"/>
            <a:stretch/>
          </p:blipFill>
          <p:spPr>
            <a:xfrm>
              <a:off x="35560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3"/>
            <a:stretch/>
          </p:blipFill>
          <p:spPr>
            <a:xfrm>
              <a:off x="39495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4"/>
            <a:stretch/>
          </p:blipFill>
          <p:spPr>
            <a:xfrm>
              <a:off x="4317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5"/>
            <a:stretch/>
          </p:blipFill>
          <p:spPr>
            <a:xfrm>
              <a:off x="4711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6"/>
            <a:stretch/>
          </p:blipFill>
          <p:spPr>
            <a:xfrm>
              <a:off x="5079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7"/>
            <a:stretch/>
          </p:blipFill>
          <p:spPr>
            <a:xfrm>
              <a:off x="5460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8"/>
            <a:stretch/>
          </p:blipFill>
          <p:spPr>
            <a:xfrm>
              <a:off x="5781600" y="1573200"/>
              <a:ext cx="24768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143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95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76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7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438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819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00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543480" y="362916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3924360" y="36291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431784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4724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97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5"/>
          <a:stretch/>
        </p:blipFill>
        <p:spPr>
          <a:xfrm>
            <a:off x="9144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6"/>
          <a:stretch/>
        </p:blipFill>
        <p:spPr>
          <a:xfrm>
            <a:off x="1282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7"/>
          <a:stretch/>
        </p:blipFill>
        <p:spPr>
          <a:xfrm>
            <a:off x="167652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8"/>
          <a:stretch/>
        </p:blipFill>
        <p:spPr>
          <a:xfrm>
            <a:off x="2044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9"/>
          <a:stretch/>
        </p:blipFill>
        <p:spPr>
          <a:xfrm>
            <a:off x="2425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0"/>
          <a:stretch/>
        </p:blipFill>
        <p:spPr>
          <a:xfrm>
            <a:off x="2793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1"/>
          <a:stretch/>
        </p:blipFill>
        <p:spPr>
          <a:xfrm>
            <a:off x="3187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2"/>
          <a:stretch/>
        </p:blipFill>
        <p:spPr>
          <a:xfrm>
            <a:off x="35560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3"/>
          <a:stretch/>
        </p:blipFill>
        <p:spPr>
          <a:xfrm>
            <a:off x="39495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4"/>
          <a:stretch/>
        </p:blipFill>
        <p:spPr>
          <a:xfrm>
            <a:off x="4317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5"/>
          <a:stretch/>
        </p:blipFill>
        <p:spPr>
          <a:xfrm>
            <a:off x="4711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6"/>
          <a:stretch/>
        </p:blipFill>
        <p:spPr>
          <a:xfrm>
            <a:off x="5079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7"/>
          <a:stretch/>
        </p:blipFill>
        <p:spPr>
          <a:xfrm>
            <a:off x="5460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8"/>
          <a:stretch/>
        </p:blipFill>
        <p:spPr>
          <a:xfrm>
            <a:off x="5781600" y="1573200"/>
            <a:ext cx="247680" cy="73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5724360" y="980640"/>
            <a:ext cx="0" cy="482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L -0.03559 0.14336 E">
                                      <p:cBhvr>
                                        <p:cTn id="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6821E-007 L -0.125 -0.13087 E">
                                      <p:cBhvr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191E-006 L -0.0408 -0.13318 E">
                                      <p:cBhvr>
                                        <p:cTn id="9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蓝猫专卖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四种书包销售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1180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316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416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696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51648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2120" y="351648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0348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900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180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316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94160" y="3244680"/>
            <a:ext cx="4590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3696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2120" y="3244680"/>
            <a:ext cx="42552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3480" y="3244680"/>
            <a:ext cx="45864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3244680"/>
            <a:ext cx="4572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244680"/>
            <a:ext cx="4590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900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180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5316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696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832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29732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62120" y="29732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348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628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69000" y="27018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1800" y="27018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832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2701800"/>
            <a:ext cx="49068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2701800"/>
            <a:ext cx="42552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0348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6280" y="2701800"/>
            <a:ext cx="4572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701800"/>
            <a:ext cx="4590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6900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1180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5316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9416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3696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7832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242892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62120" y="242892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0348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4628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8728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6900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1180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5316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94160" y="215748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7832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62120" y="2133720"/>
            <a:ext cx="1865520" cy="295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03480" y="2157480"/>
            <a:ext cx="45864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46280" y="2157480"/>
            <a:ext cx="4572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157480"/>
            <a:ext cx="4590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900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1180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316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9416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696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18860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62120" y="18860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348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4628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180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5316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4160" y="161460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3696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7832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7640" y="161460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2120" y="16146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348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6280" y="1628640"/>
            <a:ext cx="909720" cy="2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1614600"/>
            <a:ext cx="459000" cy="27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6900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1180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5316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9416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696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7832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1341360"/>
            <a:ext cx="490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62120" y="1341360"/>
            <a:ext cx="425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0348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628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341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3789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87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16146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34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621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783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369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531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118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690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8860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21337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4289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7018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29732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2446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35164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1557360"/>
            <a:ext cx="647640" cy="2067840"/>
            <a:chOff x="826920" y="1557360"/>
            <a:chExt cx="647640" cy="2067840"/>
          </a:xfrm>
        </p:grpSpPr>
        <p:sp>
          <p:nvSpPr>
            <p:cNvPr id="353" name=""/>
            <p:cNvSpPr/>
            <p:nvPr/>
          </p:nvSpPr>
          <p:spPr>
            <a:xfrm>
              <a:off x="826920" y="3165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6920" y="2629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6920" y="2092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920" y="1557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1187280" y="105264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9160" y="3789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0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1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50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58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8968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515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2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5952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9560" y="3763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2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0856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748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2400" y="4587840"/>
            <a:ext cx="44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书包的平均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1219320"/>
            <a:ext cx="1447920" cy="17524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7760" y="16765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057400"/>
            <a:ext cx="381240" cy="304920"/>
          </a:xfrm>
          <a:custGeom>
            <a:avLst/>
            <a:gdLst>
              <a:gd name="textAreaLeft" fmla="*/ 89640 w 381240"/>
              <a:gd name="textAreaRight" fmla="*/ 291600 w 38124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3600" y="23623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60948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年级举行献爱心捐款活动，第一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二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三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四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平均每个年级捐款多少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905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371600"/>
            <a:ext cx="533520" cy="763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列式你认为正确的是：（          ）说说你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40384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11120" y="4921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843480" y="109692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河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平均气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℃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气温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 ℃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95560" y="627120"/>
            <a:ext cx="463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老师随机测量了班上五位同学的身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单位：厘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先估一估下面的哪一个数最有可能是他们的平均身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   140   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66760" y="620640"/>
            <a:ext cx="707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63640" y="4581360"/>
          <a:ext cx="5327640" cy="1657440"/>
        </p:xfrm>
        <a:graphic>
          <a:graphicData uri="http://schemas.openxmlformats.org/drawingml/2006/table">
            <a:tbl>
              <a:tblPr/>
              <a:tblGrid>
                <a:gridCol w="1775880"/>
                <a:gridCol w="1775520"/>
                <a:gridCol w="17762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600200" y="4057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386064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儿童身高的正常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024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2776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3200" y="483228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身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396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2600" y="162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王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16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郭媛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0440" y="2717640"/>
            <a:ext cx="47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28640" y="1238400"/>
            <a:ext cx="54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.  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三个数的平均数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2096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时三个数的平均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8098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先合后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+10+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7:52:04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21:58Z</dcterms:modified>
  <cp:revision>95</cp:revision>
  <dc:subject/>
  <dc:title>绿色圃中小学教育网http://www.lspjy.com</dc:title>
</cp:coreProperties>
</file>