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683-FCC4-4069-A303-DFF4501A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0DE-EA21-443D-97D5-E2C14729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FBB1D-A2C3-4143-8FD2-C0C46AA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006A4-E688-4512-BDB3-5C23B638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01DB4-A40F-44DB-AB36-D66A20DC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C3FDD-E74A-488C-ADE8-B13A175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3CEA9-EB25-445F-B9AB-AD97F290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7E7DB-EE56-4E28-B373-9F29391E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3504F-F161-43F6-82CC-68EA485F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0F0DD-3F52-4E05-B89E-F0CA5A64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5EF82-A7C4-4899-9EE2-B25A5A19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64856-4ABE-46D4-A89B-A77218B3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B56-3B9E-4E1C-B509-E9A6676B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286BA-9117-4557-B6DC-3187EF4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BD01E-3BBD-4BCF-A01E-59432147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19257-ADE8-452F-99A2-0DE12284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DBDD4-965A-43C2-9375-ED5026D2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9FC8A-7930-4409-8EA8-E4500CE9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2723C-035A-4BD3-AB90-C3215ABD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F01F4-A061-4200-B690-5C74F723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5D0A2-142F-40FD-AC87-496D0AAD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2A5EF-91C6-414A-AAFD-93C333AA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2D1BB-E218-452A-841D-96164C58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DA3-A925-448F-AEAC-A33A5AEB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4C27A-827B-42C4-81E8-E7EA36EE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09137-4191-4A3A-A249-F25A30C0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0CEFD-7A43-4600-A199-0A993F7E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E6D90-2BF6-46C7-A8AF-09765E49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BB0C6-B542-4FAE-92EA-596D9DA8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B41C1-3E9F-4722-B224-388F7ED1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2FE03-6675-4DCA-8A34-8266FC3A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58240-59BC-4BD2-B018-9DE9274F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1D921-6A51-4459-8D83-EBA01BA5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08DB7-EA9D-477E-BED7-D1E2838B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5818-CCC4-48BB-A8D3-645F29B7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9C514-745E-4267-9AF7-9EE5B5A1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358E2-B45A-43ED-A421-7166DC1D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8B2A0-A998-4CFB-B4A5-7AB581D4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B11B1-2E84-4966-A1C5-DB642E8F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6F3C9-974F-4816-BF9D-85933EC1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D9E56-708B-44FE-B659-0D0A8327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D9F99-94A2-4625-A9E4-A4DE09AA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BFE54-1DE8-4E72-9394-8999FC1F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FCFB7-CBD6-4D63-8249-FD477361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90E2F-F788-4C2B-9DA6-10BA1FF1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5F48-08CE-495D-899B-6090CD13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7492C-63F5-4F3C-89B6-7AE9B475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C584F-A3F6-4C8D-9E0A-EA4A9B5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5FC32-7883-455D-AB07-F4886472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0FE0D-703A-423F-858A-A73A26C7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8FFAE-9EDD-43A7-AE13-D0676668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5E1D-AABA-4FB7-A967-688CA11F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8BB2-31D4-47E1-863F-67D91644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8FAC-C3F8-4419-BE7E-CDDA4D2C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07AF-43FC-4A43-9B50-710C3867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BEF1-DF13-4102-B2A8-B5B11EB5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212-436F-4B47-A1CA-AFD8222C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7E1B-F2E8-4943-9068-B5CF9F8B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5FB8-CE25-4D3C-B64C-C75A84D1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192-9C7E-4106-A90E-B8EDC94E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281D-DE78-447F-B5AD-AF361EE0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08E1-F5D0-4812-BA01-A9BA60EC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7A60-033F-4F44-8C34-C964B9C9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BECB-CAD7-4FB4-B917-925409F1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796B-2BA5-42F9-AF7A-D13284D4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C287-8C8E-46FC-8790-B5E008CE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2634-4FED-42B9-B519-1C8BBBA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853-F9E8-4459-9CC4-04CBC133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97F4-078A-48E6-B2E9-BC8E8C33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E328-49B7-4161-A5EF-8AC0EB48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3BD3-A3F9-4D90-990D-3B6CEF7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CB387-D2E4-444D-9974-B313CC5E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BD94-1D75-484D-8DB1-75003C0F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FC92-FB4C-4CC1-9F0A-6A01CBCB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C4EB-32CE-4399-91F1-67871C11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8B02-CDCC-4390-8748-7DA4E625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6BCA2-BEE5-494F-B4C9-39E38D4A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8C665-120E-49A6-8931-EFD6C07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1B0-198A-45B7-B304-1863FA7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F1EB-DBA2-482A-82A9-F5BD1D7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53B4-738A-4B13-B404-C4DE4E07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7DA43-FA71-490D-80FD-0A721477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0353C-37F1-49CB-930B-99B3908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0627-B61E-423E-80AD-86AAB9B1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C8B07-A5AA-4B17-AB3B-ACFB3B64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6339-53B1-470E-90D9-ECE8FEC4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C6E5-363E-49CD-B9A2-6A0256F5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3A5E-1BDF-4BFD-A6FD-2D8C168A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B01C-CF81-4133-9AB9-11BEC06D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682-CBD5-47C9-99C6-483ECD15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BFFD-AFAD-48AE-B17F-DD6786EC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AF523-D213-41E0-920C-D1C24B0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99203-1750-40B8-8C99-E573114A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DE12E-21B2-476A-886D-EAB1976D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6AF3-D522-46D5-96AC-80E4560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249CD-53D1-4A52-83C7-3BC1FDBB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CCAA6-0325-4128-AF19-210D7F15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2839D-140B-47B0-9563-EB1099C5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55DD5-1EAC-45E7-81EF-13F255C5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3CBA8-D331-4875-9712-43ABD2B0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2D3-DA19-4FF9-B1AF-B87EE90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51834-AE8C-497F-A0D4-83B78435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D27A-0C8C-4183-A15B-B8C6B9EC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2396-25AC-42B0-9A79-A6BDB6E7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27B9A-C825-40E1-84A7-844E0A1F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8655-E97C-4CAB-BCB3-0B36D272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F84DD-A5F3-49BA-9ECA-23164375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E1581-8315-4634-A815-49864934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9B461-2120-4CC9-BAA4-692FC252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538E2-3D72-4C89-A328-BCD8D837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A3415-7BF4-41D2-8E90-1C2AC7A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610-BDB5-4E46-8B47-99FD0E1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95E1E-B351-4C74-9919-BC80E6BB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9887-778D-476F-81C2-FD37298E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D0466-EEE2-4B11-8676-462583C6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5F0B8-CB0B-49F0-A13F-2C543CB4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73CF5-1552-4500-91E2-64FBD6BF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4D6A4-51FE-4A79-9A63-177BA44D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D17A7-FED7-4012-B485-A9A14B67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E4FF2-6822-42CB-977F-78F43679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1551-309D-42A9-B798-6D7712AE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455A3-62D5-4498-B9B2-62FE6625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53D-6EAF-49F0-A248-A02985D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C14B-024E-4801-9DDF-297520CC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C6B5-84A2-4A14-87C7-3DB881B4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7A1C3-0AFD-42EA-876A-97BA38DB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B801-A99F-4FFE-B7D6-8F4FA3B8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8BE2-3047-4CCB-AE13-5BCB1A83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766F5-06F3-4184-9435-925D094F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C9A3A-C155-4756-BD43-0C5C120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70EC8-E9D8-444E-A29D-CC71A6CE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3B8FD-77FB-4D6E-8890-28B72617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5F2B0-F863-47D4-BD1D-688FDDEC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A26-1289-4173-8231-C0A35B9F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25B3E-BA76-46C4-A79A-031E9D68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12B0E-51D2-4650-A4A7-081B855F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65A9-C463-4575-87B3-12E18A2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E3D4-2260-4C71-9275-2A9BFB1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1F04A-CD90-456E-A5ED-74E88346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9FC1D-8BD4-4D19-AAFD-4C23E05F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7FFB9-1554-4D2E-A1D8-765C5DF0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051E1-DE66-4AF2-BAD8-808F76A4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4326A-F680-4A1B-A906-D91B0593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8CB3E-9E7D-457A-BA21-C65DED4C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94D8-5F84-4741-8468-9D275E8CC7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BE98-7FE8-45DD-AF45-4951B4807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A67A-8948-413A-AC8C-31A6AF4B6D64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240A-B626-4507-91D5-8DAB793170B0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D764-9F25-458D-97DF-5702DEF4B29F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3118-98F2-42D7-ADE8-441A55B5EAD0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2BF5-0DEC-4234-BF73-A55D4F324345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2189-06FA-4FD5-B5F5-971242051244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77B4-A6D0-4411-AD13-F9FC728E87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1E43-1D1A-460D-A166-5D7904DC3A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7BA3-2ABA-4CD0-8357-B223D9578EF9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7AC3-4F0E-4370-948B-73BBC9FE8CED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AA89-4314-4035-B135-B2EB140A35A6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829C-43AF-42B4-A1DC-098BDD3EB117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1D13-3CEF-409D-9438-CF333B9CFE68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B778-004A-4BF1-A36A-C3F36AEC768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05C6-2245-4D9D-AE40-CE7908C9A26E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646B-0CF9-42BF-A2D8-6446BFE6516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44F4-CB52-4C55-B055-0BB31308CC9F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4E8C-B56C-47C2-A010-3865BEF0B9A2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50DF-8B1C-4D3D-B45F-F1A16C9F5091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FD0E-A7B3-471A-A819-4E8F3AD71120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4E88-DB70-4735-9564-196BB90C6287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9154-0FEC-4CBD-86C0-81C8D9D2EC50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5791320" y="457200"/>
          <a:ext cx="2965320" cy="485640"/>
        </p:xfrm>
        <a:graphic>
          <a:graphicData uri="http://schemas.openxmlformats.org/drawingml/2006/table">
            <a:tbl>
              <a:tblPr/>
              <a:tblGrid>
                <a:gridCol w="2965320"/>
              </a:tblGrid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6"/>
          <p:cNvSpPr/>
          <p:nvPr/>
        </p:nvSpPr>
        <p:spPr>
          <a:xfrm>
            <a:off x="4724280" y="15238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8" name="Picture 6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4038480" y="856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One purple flower.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wo yellow be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hree little blue bi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igh in the sk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our little brown  deer   smiling at m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little black fish               swimming in the se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1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WordArt 4"/>
          <p:cNvSpPr txBox="1"/>
          <p:nvPr/>
        </p:nvSpPr>
        <p:spPr>
          <a:xfrm>
            <a:off x="137160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380880" y="3209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Draw a picture and describe it to your par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7"/>
          <p:cNvSpPr/>
          <p:nvPr/>
        </p:nvSpPr>
        <p:spPr>
          <a:xfrm>
            <a:off x="1143000" y="3317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7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6094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Guess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04920" y="11430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n you guess my favourite colou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0" name="Picture 6" descr="DSC02925"/>
          <p:cNvPicPr/>
          <p:nvPr/>
        </p:nvPicPr>
        <p:blipFill>
          <a:blip r:embed="rId2"/>
          <a:srcRect l="23000" t="11974" r="38670" b="7648"/>
          <a:stretch/>
        </p:blipFill>
        <p:spPr>
          <a:xfrm>
            <a:off x="2631960" y="2666880"/>
            <a:ext cx="232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2" name="Picture 2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3"/>
          <p:cNvGrpSpPr/>
          <p:nvPr/>
        </p:nvGrpSpPr>
        <p:grpSpPr>
          <a:xfrm>
            <a:off x="1143000" y="3581280"/>
            <a:ext cx="6781680" cy="1313280"/>
            <a:chOff x="1143000" y="3581280"/>
            <a:chExt cx="6781680" cy="1313280"/>
          </a:xfrm>
        </p:grpSpPr>
        <p:sp>
          <p:nvSpPr>
            <p:cNvPr id="504" name="Oval 4"/>
            <p:cNvSpPr/>
            <p:nvPr/>
          </p:nvSpPr>
          <p:spPr>
            <a:xfrm>
              <a:off x="1143000" y="3581280"/>
              <a:ext cx="1371600" cy="1219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5" name="Text Box 5"/>
            <p:cNvSpPr/>
            <p:nvPr/>
          </p:nvSpPr>
          <p:spPr>
            <a:xfrm>
              <a:off x="2971800" y="37339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6" name="Oval 6"/>
            <p:cNvSpPr/>
            <p:nvPr/>
          </p:nvSpPr>
          <p:spPr>
            <a:xfrm>
              <a:off x="4038480" y="3657600"/>
              <a:ext cx="1219320" cy="1219320"/>
            </a:xfrm>
            <a:prstGeom prst="ellipse">
              <a:avLst/>
            </a:prstGeom>
            <a:solidFill>
              <a:srgbClr val="d5f2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 Box 7"/>
            <p:cNvSpPr/>
            <p:nvPr/>
          </p:nvSpPr>
          <p:spPr>
            <a:xfrm>
              <a:off x="5562720" y="38862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6705720" y="3657600"/>
              <a:ext cx="1218960" cy="1219320"/>
              <a:chOff x="6705720" y="3657600"/>
              <a:chExt cx="1218960" cy="1219320"/>
            </a:xfrm>
          </p:grpSpPr>
          <p:sp>
            <p:nvSpPr>
              <p:cNvPr id="509" name="Oval 8"/>
              <p:cNvSpPr/>
              <p:nvPr/>
            </p:nvSpPr>
            <p:spPr>
              <a:xfrm>
                <a:off x="6705720" y="3657600"/>
                <a:ext cx="1218960" cy="121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Text Box 10"/>
              <p:cNvSpPr/>
              <p:nvPr/>
            </p:nvSpPr>
            <p:spPr>
              <a:xfrm>
                <a:off x="6934320" y="37940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 Black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Text Box 14"/>
          <p:cNvSpPr/>
          <p:nvPr/>
        </p:nvSpPr>
        <p:spPr>
          <a:xfrm>
            <a:off x="1295280" y="1219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y favourite col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Oval 23"/>
          <p:cNvSpPr/>
          <p:nvPr/>
        </p:nvSpPr>
        <p:spPr>
          <a:xfrm>
            <a:off x="6705720" y="3657600"/>
            <a:ext cx="121896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638680" y="5486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4038480" y="22096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1293550109"/>
          <p:cNvPicPr/>
          <p:nvPr/>
        </p:nvPicPr>
        <p:blipFill>
          <a:blip r:embed="rId2"/>
          <a:srcRect l="6982" t="11522" r="0" b="24278"/>
          <a:stretch/>
        </p:blipFill>
        <p:spPr>
          <a:xfrm>
            <a:off x="2057400" y="917640"/>
            <a:ext cx="5334120" cy="52084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8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olour 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4" descr="sno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762120" y="1295280"/>
            <a:ext cx="7238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is the s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209680" y="2971800"/>
            <a:ext cx="312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’s whit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114800" y="358128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-h-i-t-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4" name="Oval 4"/>
          <p:cNvSpPr/>
          <p:nvPr/>
        </p:nvSpPr>
        <p:spPr>
          <a:xfrm>
            <a:off x="990720" y="2286000"/>
            <a:ext cx="129528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-l-a-c-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6T08:37:3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