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chimes.wav" ContentType="audio/x-wav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D255-F737-49A1-9C15-7D462E5A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E8C5-E671-4387-81FA-E1D00EA1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558EE-3389-4277-9640-100E16BF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124BE-337B-40CF-BF72-22FB746F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0C029-5540-47F9-85C3-DED304EE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B2953-7EE6-486C-9151-22A21DA6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5AF2E-BB53-4DD1-8D07-B436F16D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43DE7-FFB5-44C3-A1AA-F074BDBF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F6257-6790-48AB-A546-A9A0E4EF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68DBA-2891-4492-A69F-34157F81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ACB6E-0FAC-4FA8-99FD-696E2D53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D1187-B139-4E9E-AA0E-3CA46B5F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D62-9F0A-4A0C-9A81-FB24ABF9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DF045-9A47-41DE-8BD0-0B37B878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99C5D-56D9-451A-A2B2-7AD747FD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9F072-62D4-4C15-8E94-5F8DBBF1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13F0B-5F32-4BFC-86FE-5AB64DBA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F4252-1ADB-4C91-BC61-4AC35C3B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8FC6D-26C5-43DD-9149-1D5C67A9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52EBF-BE5E-470E-9BF5-B1C41742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D4DED-6D8B-42E1-A792-7C9918D0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AE809-8D8D-426C-BAAD-79FB4F49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E2A39-31CD-4FC3-987D-3057F6BA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822A-9F9B-4A4A-AB1B-CB76EF72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1BC07-BF74-4521-B176-CD712E1F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C4F78-B1E3-4EC9-905E-741D612D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F3857-2995-4BF4-BF60-022F9ED4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9BA0D-0664-4A37-BC0E-906014F3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C5C92-E216-4FF6-95A1-95B135DD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65FC8-13AF-40F6-982A-D5A81EA9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13870-2391-430C-B064-7A26AC54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76F51-62BA-4D64-84F6-46979586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E4B9D-D414-4AB5-90C9-0038E23E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5D12D-E7D2-4CB9-BA0D-81080AAA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0D17-64BE-4086-BD44-6F06D2D3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72D94-5BAB-4711-92B7-0C33AC7D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68CBC-6BE7-429B-805E-C2FE5B8C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88ACD-BAA6-4740-8203-21CDF674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82886-BD8B-41CB-A2EF-16CF9C59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C0C6B-4EE8-4950-9B2B-B54ADCE4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8ADFF-30AF-4245-BE73-CBBEC8FA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C24D4-F99B-4DBD-9181-6C29A906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78496-9CE1-496B-BAAD-EEC8E9A1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3D54F-38CD-4B38-8BD9-6D0E148C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9B3E2-5087-44FC-8884-167B8462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E984-2E20-40C4-B8CF-1EEF0E2D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04ED5-B626-4E7F-82D1-59B7D00D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A0E55-31B3-4152-B5F3-34156E78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3ED12-9E61-4D80-8983-4B239CA3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9BAE3-DB44-482E-9F00-E9677E6F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B5B4B-A575-47EF-A0E4-9D79A131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5B83-177B-463B-8330-A22402A8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A2D1-5BC1-4FE9-8409-F99E7D2E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B75B-E455-416F-BD80-994064E0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CC5E-7EFF-4357-9CEA-BE67965E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716D-41A1-4EDE-8A89-4528A001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1864-2E2D-40E6-A7EB-05BA5918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D661-03D9-4A12-8935-E35B07ED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2736-9F30-4913-A43F-5E0A3D81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D501-F920-4146-834D-5471C368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4DA8-76DC-408D-A8BA-0485AF1A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317C-E355-45C7-9517-14C57165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57CC0-25B9-4302-A405-E349ADD1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48AB7-459E-49B5-A344-6BA0295B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86054-8E67-479F-931B-B35DFFD1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A1312-A139-482B-A0EF-82BDF965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800AC-19D2-4397-9598-8DCFC14A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569D-0092-4F52-A2CA-94453B10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32C13-C3D4-4520-9089-A6A0DC4F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44C90-FFE7-44B2-A44C-C31F4B97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CFD92-FABF-42DA-A770-BDF343B8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5B85C-AF20-4448-9B6E-E3CA7369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64495-866C-469B-BCCE-704E9B82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5FEC5-B235-478A-B352-C34E048C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E2BD3-2109-4396-A74B-6F65D2DB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5F427-487C-4060-83E0-98736DC7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4AB71-2F7E-4AB8-8043-CC8C7953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F0B25-380F-418F-8CFD-DF1B1003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D9E7-7798-4BB0-9436-7ABA53C0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B7ADF-496A-4417-8C6C-62821916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2A12B-2CEE-419A-876F-F86F90D5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FDEE4-EEDA-49F7-BBD1-69F22869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29E8C-7CD1-4BD1-B1A5-99B00F3B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69157-DD45-4F27-B491-74ABBB03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A7054-F56F-414F-A2A4-97BFC0F1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F5768-081A-42A3-8AE7-7BE5A599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B5017-A0A1-4DEF-95FF-3A9EEDD7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D427C-5667-4FA1-BCE3-FBBD5DCD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06BD2-9AB1-44C0-860C-5F36AD5D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066-000D-40BD-9BBB-E6F404BF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258E4-0BAF-47E0-AE8A-B9354DD8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2A16F-6111-4304-9415-E17BFA53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E54FD-78F7-4A14-9A64-5BB668A6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5E5A7-2711-4D7E-AB5E-E2C7859D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BDE13-9B28-4CBC-BBCA-433E2BE3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AB7BD-E9E0-47DF-8D46-A68D962A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DACF4-0ECD-49F0-917F-F78E7C13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5DFD5-0297-4B63-AD01-F1F857AD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E40DF-F0D4-4240-9380-CF31F5EB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BF7B9-5D2D-4D34-8B64-31A1A817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4AB5-F7BC-4E6A-9B26-D9EE7480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A4576-F80D-4459-8E7C-3459822E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95912-42C6-402B-A45E-C836D01C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1569B-31AF-45E8-833F-625C1132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1F9A2-1037-47B6-A03D-A46A6D75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3C238-43B9-425A-8563-0CE0C6E1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C0D40-4792-42A7-939C-FDC89922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80B42-4141-488C-8CAF-1D2D6883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13656-A848-4CF5-B196-72BB6901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F3E66-B5F4-4C27-ADDB-27C73239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8BD11-5964-46D5-BF68-3075C6A3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1338-7D84-4559-B7D3-CDFE035F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6980F-BFD1-443F-A2DD-EC82D994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10A08-FDC6-4631-B6CB-BB3FB248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9BCEC-44EC-4A8C-9343-6507AF23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9992E-091D-494E-9AB3-C982BF53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6DE02-0BE4-4844-846B-7A860FC0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DC84F-8A20-4F7C-BFBC-81DA7151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B2996-1480-415A-A9DF-39F9180D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AF17E-BF73-45EC-899A-206A3792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D7BB5-6625-495E-9914-93D24E23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C7154-CC0D-4996-84C3-4896A601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36B-D71D-4881-B307-189DC062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B1B80-A2E6-4066-8F30-9E9CDDA0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70EDE-997E-48FB-BEE6-AF82AD61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6C7C0-BDF7-4E5A-A4FF-0341D7CE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C5C93-33D9-4D90-8565-BA17EEC9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2E436-0E47-433E-B951-777C6AD0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C4F65-FEE9-4EB0-A055-6EA87302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2845A-5A68-453B-983E-BDF09E9D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D8D9B-2253-49E1-92D9-2ACDE130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85F38-E65D-4867-A41D-90B91F92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63806-F026-43A3-B7C3-C6432E2A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05B-6B1C-4D19-B6D0-317A21B7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050B3-EE38-49E3-AF59-9C83F272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5254F-65A3-47E0-9709-963F2611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8DD07-15B8-4285-9983-CD45C2AF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31E73-F407-41C5-B62D-48236706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49BB9-CEC4-424C-9EE6-4AAF0D54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EE176-78BE-4E7F-8831-9EE3F0C6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F4775-0BBE-47DD-B921-217A3268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2E2AA-DF5B-48FE-AF00-D78C269D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46A2D-9191-48DE-BC57-5B6625F2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109E4-8D2E-4F3D-95E0-CD8FE59C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39F4-9367-4377-A431-0B033EF326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E2F2-319E-44AC-AA2A-FAC1C06A3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E52B-A08C-4C5D-82A0-3664A789155E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1AB1-E9B3-4CA0-8221-56410A7CE1DA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6770-E236-4639-960C-EE7BCB19028B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EAA3-7DF9-41B8-8933-F0652880EAF4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CFB9-B1AF-4B91-ACEC-732F145CA9FD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CA48-754C-4F3D-B787-03595AAC9242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B753-71FF-4BAB-B8B7-F62C396BC11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3CB0-3406-4F6C-A1C1-C8EF1E60AD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0689-B729-4350-99D0-257163FFBE59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70BF-DBAB-42A0-8BE6-7F372D4004C8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6E3F-B7AE-492C-BF3B-412A2749CDBD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9ABE-1186-4075-8F5E-40755CDEB444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339E-B8CC-42E9-A8D6-A1812697B180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9600-5B4C-48EB-BDF8-F57FE89B9F67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585D-5094-4B6A-A0D1-E86AC927D857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597F-51A6-43C8-BB58-63639D3EC486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0EF2-DCB0-4587-9BE5-93BA08BFFCFF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DE3A-C1E6-48E3-97F9-050580FF96D1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F3E8-2AC1-4F93-A851-2CFB6294D40A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E525-8ABE-4EC3-827A-07AECB443097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E235-5430-45AB-8A2A-12F0DED44107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DDD1-769D-407F-8514-C2DED1B2DC8A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2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3" name=""/>
          <p:cNvGraphicFramePr/>
          <p:nvPr/>
        </p:nvGraphicFramePr>
        <p:xfrm>
          <a:off x="5791320" y="457200"/>
          <a:ext cx="2965320" cy="485640"/>
        </p:xfrm>
        <a:graphic>
          <a:graphicData uri="http://schemas.openxmlformats.org/drawingml/2006/table">
            <a:tbl>
              <a:tblPr/>
              <a:tblGrid>
                <a:gridCol w="2965320"/>
              </a:tblGrid>
              <a:tr h="48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2  Col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Rectangle 6"/>
          <p:cNvSpPr/>
          <p:nvPr/>
        </p:nvSpPr>
        <p:spPr>
          <a:xfrm>
            <a:off x="4724280" y="1523880"/>
            <a:ext cx="39290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第五课时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Oval 4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1" name="Oval 5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Oval 6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3" name="Oval 7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Oval 8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5" name="Oval 9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Oval 10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Oval 5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2" name="Oval 6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3" name="Oval 7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4" name="Oval 8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5" name="Oval 9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6" name="Oval 10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8" name="Picture 6" descr="[wall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7"/>
          <p:cNvSpPr/>
          <p:nvPr/>
        </p:nvSpPr>
        <p:spPr>
          <a:xfrm>
            <a:off x="4038480" y="85680"/>
            <a:ext cx="510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One purple flower.</a:t>
            </a: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wo yellow bees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Three little blue bi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high in the sky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Four little brown  deer   smiling at me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ve little black fish               swimming in the sea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1" name="Picture 6" descr="卡通绿色风景背景，绿色PPT背景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2"/>
          <p:cNvSpPr/>
          <p:nvPr/>
        </p:nvSpPr>
        <p:spPr>
          <a:xfrm>
            <a:off x="1066680" y="259092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3" name="WordArt 4"/>
          <p:cNvSpPr txBox="1"/>
          <p:nvPr/>
        </p:nvSpPr>
        <p:spPr>
          <a:xfrm>
            <a:off x="1371600" y="990720"/>
            <a:ext cx="6400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Homework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380880" y="32094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. Listen to and repeat “Let’s learn”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.Draw a picture and describe it to your parent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7"/>
          <p:cNvSpPr/>
          <p:nvPr/>
        </p:nvSpPr>
        <p:spPr>
          <a:xfrm>
            <a:off x="1143000" y="33177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7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4"/>
          <p:cNvSpPr/>
          <p:nvPr/>
        </p:nvSpPr>
        <p:spPr>
          <a:xfrm>
            <a:off x="609480" y="380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Guess 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304920" y="11430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n you guess my favourite colour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0" name="Picture 6" descr="DSC02925"/>
          <p:cNvPicPr/>
          <p:nvPr/>
        </p:nvPicPr>
        <p:blipFill>
          <a:blip r:embed="rId2"/>
          <a:srcRect l="23000" t="11974" r="38670" b="7648"/>
          <a:stretch/>
        </p:blipFill>
        <p:spPr>
          <a:xfrm>
            <a:off x="2631960" y="2666880"/>
            <a:ext cx="232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2" name="Picture 2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grpSp>
        <p:nvGrpSpPr>
          <p:cNvPr id="503" name="Group 13"/>
          <p:cNvGrpSpPr/>
          <p:nvPr/>
        </p:nvGrpSpPr>
        <p:grpSpPr>
          <a:xfrm>
            <a:off x="1143000" y="3581280"/>
            <a:ext cx="6781680" cy="1313280"/>
            <a:chOff x="1143000" y="3581280"/>
            <a:chExt cx="6781680" cy="1313280"/>
          </a:xfrm>
        </p:grpSpPr>
        <p:sp>
          <p:nvSpPr>
            <p:cNvPr id="504" name="Oval 4"/>
            <p:cNvSpPr/>
            <p:nvPr/>
          </p:nvSpPr>
          <p:spPr>
            <a:xfrm>
              <a:off x="1143000" y="3581280"/>
              <a:ext cx="1371600" cy="1219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5" name="Text Box 5"/>
            <p:cNvSpPr/>
            <p:nvPr/>
          </p:nvSpPr>
          <p:spPr>
            <a:xfrm>
              <a:off x="2971800" y="373392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6" name="Oval 6"/>
            <p:cNvSpPr/>
            <p:nvPr/>
          </p:nvSpPr>
          <p:spPr>
            <a:xfrm>
              <a:off x="4038480" y="3657600"/>
              <a:ext cx="1219320" cy="1219320"/>
            </a:xfrm>
            <a:prstGeom prst="ellipse">
              <a:avLst/>
            </a:prstGeom>
            <a:solidFill>
              <a:srgbClr val="d5f2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7" name="Text Box 7"/>
            <p:cNvSpPr/>
            <p:nvPr/>
          </p:nvSpPr>
          <p:spPr>
            <a:xfrm>
              <a:off x="5562720" y="388620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 Black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508" name="Group 11"/>
            <p:cNvGrpSpPr/>
            <p:nvPr/>
          </p:nvGrpSpPr>
          <p:grpSpPr>
            <a:xfrm>
              <a:off x="6705720" y="3657600"/>
              <a:ext cx="1218960" cy="1219320"/>
              <a:chOff x="6705720" y="3657600"/>
              <a:chExt cx="1218960" cy="1219320"/>
            </a:xfrm>
          </p:grpSpPr>
          <p:sp>
            <p:nvSpPr>
              <p:cNvPr id="509" name="Oval 8"/>
              <p:cNvSpPr/>
              <p:nvPr/>
            </p:nvSpPr>
            <p:spPr>
              <a:xfrm>
                <a:off x="6705720" y="3657600"/>
                <a:ext cx="1218960" cy="1219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0" name="Text Box 10"/>
              <p:cNvSpPr/>
              <p:nvPr/>
            </p:nvSpPr>
            <p:spPr>
              <a:xfrm>
                <a:off x="6934320" y="3794040"/>
                <a:ext cx="9144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000000"/>
                    </a:solidFill>
                    <a:latin typeface="Arial Black"/>
                  </a:rPr>
                  <a:t>？</a:t>
                </a:r>
                <a:endParaRPr b="0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11" name="Text Box 14"/>
          <p:cNvSpPr/>
          <p:nvPr/>
        </p:nvSpPr>
        <p:spPr>
          <a:xfrm>
            <a:off x="1295280" y="12193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y favourite colo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Oval 23"/>
          <p:cNvSpPr/>
          <p:nvPr/>
        </p:nvSpPr>
        <p:spPr>
          <a:xfrm>
            <a:off x="6705720" y="3657600"/>
            <a:ext cx="1218960" cy="121932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Text Box 24"/>
          <p:cNvSpPr/>
          <p:nvPr/>
        </p:nvSpPr>
        <p:spPr>
          <a:xfrm>
            <a:off x="5638680" y="54864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5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4"/>
          <p:cNvSpPr/>
          <p:nvPr/>
        </p:nvSpPr>
        <p:spPr>
          <a:xfrm>
            <a:off x="4038480" y="220968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or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7" name="Oval 5"/>
          <p:cNvSpPr/>
          <p:nvPr/>
        </p:nvSpPr>
        <p:spPr>
          <a:xfrm>
            <a:off x="1219320" y="2438280"/>
            <a:ext cx="1295280" cy="121932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4114800" y="35812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g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0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1293550109"/>
          <p:cNvPicPr/>
          <p:nvPr/>
        </p:nvPicPr>
        <p:blipFill>
          <a:blip r:embed="rId2"/>
          <a:srcRect l="6982" t="11522" r="0" b="24278"/>
          <a:stretch/>
        </p:blipFill>
        <p:spPr>
          <a:xfrm>
            <a:off x="2057400" y="917640"/>
            <a:ext cx="5334120" cy="520848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8"/>
          <p:cNvSpPr/>
          <p:nvPr/>
        </p:nvSpPr>
        <p:spPr>
          <a:xfrm>
            <a:off x="533520" y="5335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Colour i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4" name="Picture 4" descr="snow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5"/>
          <p:cNvSpPr/>
          <p:nvPr/>
        </p:nvSpPr>
        <p:spPr>
          <a:xfrm>
            <a:off x="762120" y="1295280"/>
            <a:ext cx="72388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colour is the snow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2209680" y="2971800"/>
            <a:ext cx="3124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t’s white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2"/>
          <p:cNvSpPr/>
          <p:nvPr/>
        </p:nvSpPr>
        <p:spPr>
          <a:xfrm>
            <a:off x="4343400" y="2209680"/>
            <a:ext cx="1905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hi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Oval 3"/>
          <p:cNvSpPr/>
          <p:nvPr/>
        </p:nvSpPr>
        <p:spPr>
          <a:xfrm>
            <a:off x="1219320" y="2438280"/>
            <a:ext cx="129528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4114800" y="3581280"/>
            <a:ext cx="25146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-h-i-t-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3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4" name="Oval 4"/>
          <p:cNvSpPr/>
          <p:nvPr/>
        </p:nvSpPr>
        <p:spPr>
          <a:xfrm>
            <a:off x="990720" y="2286000"/>
            <a:ext cx="1295280" cy="12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4267080" y="2209680"/>
            <a:ext cx="1905120" cy="7034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4114800" y="3581280"/>
            <a:ext cx="3809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-l-a-c-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4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Oval 6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1" name="Oval 7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Oval 8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3" name="Oval 9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Oval 10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Oval 12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1-26T08:37:32Z</dcterms:modified>
  <cp:revision>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