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chimes.wav" ContentType="audio/x-wav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19C-65CD-4939-AEFC-61C4AF08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B9E-22F4-4358-8973-FD0D1E2C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31B5A-C841-423B-9786-A3C3B0F4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5FC19-FF05-428F-842E-B44801F4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91C5E-6BA6-419B-A025-3C0C0CEE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48BCB-8D40-49AC-A22D-7A60FC95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71A63-DEA7-410F-921F-2E38C2F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DE395-23B4-4D3C-9EFF-12EFC9C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58361-E657-4AE9-8CEC-5C8C0FEE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4C269-F0A3-4FD2-ADB6-C0435E50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E9EEA-6904-48AB-9123-4B9912C6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0CD2B-2893-4DA3-B711-F6134776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0D7-648C-4A12-903F-4F9E030B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91675-B801-4CA1-9107-44F45D5A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47170-C78F-4125-9D5A-A6AFF82D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E1A34-6F69-40DE-941C-42559ED2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EE9E4-B8CF-452A-A6A5-AE2215BF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CFF47-A3A0-43D9-97DC-2280A57E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3D8CF-BD88-4A0E-A5DE-B9CCCA9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CC077-F604-4AEC-A1F2-56B8ABA2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66112-A226-402F-AB9E-83FBB18B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75D88-3FF8-4A37-91D7-C05C95BA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06C39-5BD4-4842-A88C-77AF49DD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C37-E512-4E81-A6AA-A872B2FB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F950F-EBED-478A-9BC3-CD2812A8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29755-F042-4C8F-8195-70D6E00B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17E57-456D-4FE8-BB67-E525AA55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B3372-A584-4D34-8315-A6887A70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C2D3C-564F-40B8-812F-FBDA0AA8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B8E7C-4C0C-41B6-A068-2CF0B86F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C6EA8-A3D7-406E-BB43-0CEB3641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D5728-AFD8-4460-8541-2FCAE2B3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4FED6-CB78-490D-9CA2-7A29FD14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EE7F7-DD03-4087-9073-24F4C954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C8E0-F2E8-44D7-B63F-EBDABBA0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01F6D-66DC-4528-BFFC-F3874E98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A2F28-3921-4AF7-82EE-D1721BAF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96F28-7B04-44A4-BCCE-92A457DE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0CB9A-6EB5-4295-A0BA-855C75BE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A3DE7-BECF-4DCB-A455-A8C52A83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14D2F-9FEE-4776-A9AF-282CC525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19259-AC6E-4DD2-BEA3-C678980C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C7786-8EDC-4C74-9D78-416964BD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EC3C7-9775-45D9-A47C-A5C90D82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27585-4FE8-4C11-AD4E-686B6088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241B-5110-4A37-8E5B-DEB9EADB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B0783-D811-459F-B5B2-BB40AC7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42085-181A-4100-B8A5-380D8C3A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A63AD-179C-43D6-8398-E6E4B223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E78FE-3855-4ACF-A9D5-F7B209A8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7FCAF-CB41-4E62-8D9A-3FECDA8A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875B-2629-43E0-A8AB-32D9FE16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0927-31A4-46AE-8825-73A3417C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DB20-3BF6-46D7-9BB3-E8CE948D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BF59-C237-401B-B288-950FE4D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1F40-B03A-48DA-BF27-9DE7F49C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81E-C918-4BBC-BB30-DC984715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1D62-A0B6-4FDB-B5B2-3971E85E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8F92-70DD-4001-9078-2E13B03B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36AC-18EF-46A9-B949-6216DB7C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8E25-86AE-440E-B341-2CDA48ED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DF48-6AEB-4F08-A428-10FBA93B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F3D54-F2B2-44A5-9BF2-C17837D5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69C5D-DA10-43AD-AC22-461BE12C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53876-A2BB-4141-BDE8-23BDA51D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ADA0-DD46-4DB5-B07A-09A1E846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0C154-F34F-41FA-9BE6-ABA0FDDB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5ED-D71E-4E89-8D4A-99E662E5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2134-E0F6-4E37-83AA-40E0122C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02831-A734-48CA-8E6F-36AAA09E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2459-C3BB-4B8C-AEE5-E7A73508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2E807-6A69-4B9F-BD20-5787202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3765-9AFE-4B8B-B827-736D32AE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A94F-640D-41EC-9219-A33F06FE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0A32-887C-4505-AA01-73C01B82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4239F-F63D-4631-86C3-D6B13F75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F6711-D5D8-49D9-B743-B4D729AB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FE75-920C-41B3-9CBD-EF31A8AE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A53-BF18-4255-A4D4-E57F8B4B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C15D-57CE-4755-A0AC-5378F1C8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1DE87-A30B-4E62-A96F-E402D726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6CE94-AD7F-489A-9C4D-96AFD206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D003-6B69-4C2A-AC52-2EDAF61B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E40CE-458F-4F8D-A4D9-F5505486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2EDB9-E453-4A48-A1BA-36D87F25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6E45E-2CD1-45B2-99D3-8996A06A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F691-D5BE-4D69-9F80-E892A70D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1B114-C382-42F1-848E-A43A5491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1EDD-36A9-499A-9C79-3B0F225D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35D-F921-424E-A1E5-D018B9D7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195BC-7EDB-4EEB-9DB2-5C4073CB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44FCE-007C-4015-BEC5-DD0F6492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04E3D-CD32-4425-8EFB-048EA207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AFB3A-CCDB-450D-B60E-CCDF251B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EA25F-9351-4B10-AEC1-338F2F5F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800F-A8F7-433E-87E6-29F87D22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73753-3439-4D7B-9CDC-6FFC92F5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FBA91-B77D-4E56-A7E7-F98538F7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5DBDA-1B79-4076-9CC8-9952A661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80736-1056-4A01-A555-2DB2E640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AF4-2CE8-480C-980E-23D6F38C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A8EF2-29E6-462D-A399-945D5916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CDE44-7042-407D-9FB9-5C4D3555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C4B86-E697-48DE-9CCB-B9EC8A01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2EAFE-DF1E-4960-82F3-B2AEE642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8CE7B-B3F0-48D3-A93B-FB0C6448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9DBFC-4CA7-4824-ADED-D7C5DECD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2FDE1-BFA5-407E-99B3-7C3976B9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DE007-244E-4C8D-9C78-C8821A4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98AAF-EC0C-4D2C-9C04-5A0DDC14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9FDF4-8FF3-49DA-A86D-DE4EDDA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BA6-BD1E-4B60-B988-C27CA62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C4D7D-D309-4F00-8A26-BE2BB77A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AE09E-70FD-4069-863E-1F5D0271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48E22-5E84-4B82-B2AD-31524895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AE1C9-E62F-4CDD-8487-A980A4E5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8468B-E11C-4F84-BB24-08CACD1F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AFF56-4DD9-4C6F-A37D-222560BC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9A577-758A-4739-80F4-FA0DD302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2233F-B3FD-4ADB-AD4E-452EAA9E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8EF2F-5C42-420C-82E1-236A0A40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644C1-7FB3-4360-81EC-CFCA17A4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901-AF7F-4BDF-A4BA-DCB294AC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BC284-CEA7-4BEF-A933-28567B93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C5A3B-668A-4CDA-94A6-11A06C17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CD3AE-7551-4960-B0CB-AEDBF433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038F2-DFC8-4D7B-8074-9B08936B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C5C3B-E01D-48A8-9FF7-C32D58AF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7555B-FEE1-478F-89F9-E83B28F9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6227-59B3-48D4-80C9-7799103C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BAE48-BB03-4291-9ADE-EAD5B8DE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81689-13C9-40C9-A834-C9FF0DB9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1F1C5-5DFA-4036-978A-716B6EDC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075-52F3-4880-86FE-162757CC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D0B11-66BE-4B88-B885-AC740699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34B26-E29B-4F9B-8DA5-FF6AF52D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1F33C-7E2C-4F38-9374-46B4C606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28C43-7305-48A7-B499-EDA6C93D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C2167-834B-41B8-8323-972D3E91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48CE8-102A-4FEC-80AB-3FC1A6DA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30752-B16E-4663-A535-8125060F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E621E-7B8C-4494-BD3C-D915602F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B2CC1-73C4-4691-B489-4C560C65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B9DF1-11B8-4906-BA9E-3AE94415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E01C-A049-4260-B5E8-6655944FBC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6C11-71B0-4C82-8353-43CA246F0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7372-DE3B-49E9-9DFD-5A3B6931355E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01B4-215B-4DC1-9727-B87773923089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BE53-6983-4E1B-909C-4A8B7050C8BD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C10F-FBDD-44B1-A982-32943BE332A3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86C0-C977-4348-97F2-D4E0FDDE315A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3988-5222-4725-8FB9-1E9396B78168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4619-8469-4FCB-822B-59A4F98539B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46C-5620-4ED5-8F9B-C29ADDAED1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5193-B011-4582-B456-C53A72EBC87B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5057-8C11-4EA2-917B-680D4E32AC04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EE21-5DA5-4828-B16C-6B66A59B4606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DE62-60A9-4CF4-AE24-A61BDBFF8F78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41DB-41B0-48BF-91B5-BFFCFF5F8F04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6839-091F-481E-92CB-92FC9D01AE33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57DB-3968-47BF-81AC-3EF015CDAB04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AD8E-87B6-4A36-A0E4-5BF3593FC8F2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9561-E364-476B-91F6-30DD12AC837F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E2AA-FE70-41F3-B656-2E6DE9902E4A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C4AD-5DF8-4E67-94D9-BD3F80466FE8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EB11-3ACD-41B4-8260-1E6861C36F0C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5199-6A30-493C-B90E-1EF572EC63FB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1AB5-E09D-4C0D-AA08-DD1644A7EE3E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3" name=""/>
          <p:cNvGraphicFramePr/>
          <p:nvPr/>
        </p:nvGraphicFramePr>
        <p:xfrm>
          <a:off x="5791320" y="457200"/>
          <a:ext cx="2965320" cy="485640"/>
        </p:xfrm>
        <a:graphic>
          <a:graphicData uri="http://schemas.openxmlformats.org/drawingml/2006/table">
            <a:tbl>
              <a:tblPr/>
              <a:tblGrid>
                <a:gridCol w="2965320"/>
              </a:tblGrid>
              <a:tr h="4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Rectangle 6"/>
          <p:cNvSpPr/>
          <p:nvPr/>
        </p:nvSpPr>
        <p:spPr>
          <a:xfrm>
            <a:off x="4724280" y="1523880"/>
            <a:ext cx="3929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五课时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8" name="Picture 6" descr="[wall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4038480" y="85680"/>
            <a:ext cx="51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One purple flower.</a:t>
            </a: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wo yellow be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hree little blue bi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high in the sky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Four little brown  deer   smiling at m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little black fish               swimming in the se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1" name="Picture 6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3" name="WordArt 4"/>
          <p:cNvSpPr txBox="1"/>
          <p:nvPr/>
        </p:nvSpPr>
        <p:spPr>
          <a:xfrm>
            <a:off x="1371600" y="9907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380880" y="3209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Draw a picture and describe it to your par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7"/>
          <p:cNvSpPr/>
          <p:nvPr/>
        </p:nvSpPr>
        <p:spPr>
          <a:xfrm>
            <a:off x="1143000" y="3317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7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"/>
          <p:cNvSpPr/>
          <p:nvPr/>
        </p:nvSpPr>
        <p:spPr>
          <a:xfrm>
            <a:off x="60948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Guess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304920" y="11430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n you guess my favourite colour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0" name="Picture 6" descr="DSC02925"/>
          <p:cNvPicPr/>
          <p:nvPr/>
        </p:nvPicPr>
        <p:blipFill>
          <a:blip r:embed="rId2"/>
          <a:srcRect l="23000" t="11974" r="38670" b="7648"/>
          <a:stretch/>
        </p:blipFill>
        <p:spPr>
          <a:xfrm>
            <a:off x="2631960" y="2666880"/>
            <a:ext cx="232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2" name="Picture 2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13"/>
          <p:cNvGrpSpPr/>
          <p:nvPr/>
        </p:nvGrpSpPr>
        <p:grpSpPr>
          <a:xfrm>
            <a:off x="1143000" y="3581280"/>
            <a:ext cx="6781680" cy="1313280"/>
            <a:chOff x="1143000" y="3581280"/>
            <a:chExt cx="6781680" cy="1313280"/>
          </a:xfrm>
        </p:grpSpPr>
        <p:sp>
          <p:nvSpPr>
            <p:cNvPr id="504" name="Oval 4"/>
            <p:cNvSpPr/>
            <p:nvPr/>
          </p:nvSpPr>
          <p:spPr>
            <a:xfrm>
              <a:off x="1143000" y="3581280"/>
              <a:ext cx="1371600" cy="1219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5" name="Text Box 5"/>
            <p:cNvSpPr/>
            <p:nvPr/>
          </p:nvSpPr>
          <p:spPr>
            <a:xfrm>
              <a:off x="2971800" y="373392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6" name="Oval 6"/>
            <p:cNvSpPr/>
            <p:nvPr/>
          </p:nvSpPr>
          <p:spPr>
            <a:xfrm>
              <a:off x="4038480" y="3657600"/>
              <a:ext cx="1219320" cy="1219320"/>
            </a:xfrm>
            <a:prstGeom prst="ellipse">
              <a:avLst/>
            </a:prstGeom>
            <a:solidFill>
              <a:srgbClr val="d5f2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7" name="Text Box 7"/>
            <p:cNvSpPr/>
            <p:nvPr/>
          </p:nvSpPr>
          <p:spPr>
            <a:xfrm>
              <a:off x="5562720" y="388620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08" name="Group 11"/>
            <p:cNvGrpSpPr/>
            <p:nvPr/>
          </p:nvGrpSpPr>
          <p:grpSpPr>
            <a:xfrm>
              <a:off x="6705720" y="3657600"/>
              <a:ext cx="1218960" cy="1219320"/>
              <a:chOff x="6705720" y="3657600"/>
              <a:chExt cx="1218960" cy="1219320"/>
            </a:xfrm>
          </p:grpSpPr>
          <p:sp>
            <p:nvSpPr>
              <p:cNvPr id="509" name="Oval 8"/>
              <p:cNvSpPr/>
              <p:nvPr/>
            </p:nvSpPr>
            <p:spPr>
              <a:xfrm>
                <a:off x="6705720" y="3657600"/>
                <a:ext cx="1218960" cy="121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0" name="Text Box 10"/>
              <p:cNvSpPr/>
              <p:nvPr/>
            </p:nvSpPr>
            <p:spPr>
              <a:xfrm>
                <a:off x="6934320" y="379404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 Black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1" name="Text Box 14"/>
          <p:cNvSpPr/>
          <p:nvPr/>
        </p:nvSpPr>
        <p:spPr>
          <a:xfrm>
            <a:off x="1295280" y="12193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y favourite colo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Oval 23"/>
          <p:cNvSpPr/>
          <p:nvPr/>
        </p:nvSpPr>
        <p:spPr>
          <a:xfrm>
            <a:off x="6705720" y="3657600"/>
            <a:ext cx="121896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5638680" y="5486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4038480" y="22096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0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1293550109"/>
          <p:cNvPicPr/>
          <p:nvPr/>
        </p:nvPicPr>
        <p:blipFill>
          <a:blip r:embed="rId2"/>
          <a:srcRect l="6982" t="11522" r="0" b="24278"/>
          <a:stretch/>
        </p:blipFill>
        <p:spPr>
          <a:xfrm>
            <a:off x="2057400" y="917640"/>
            <a:ext cx="5334120" cy="52084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8"/>
          <p:cNvSpPr/>
          <p:nvPr/>
        </p:nvSpPr>
        <p:spPr>
          <a:xfrm>
            <a:off x="533520" y="5335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olour 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4" name="Picture 4" descr="sno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762120" y="1295280"/>
            <a:ext cx="7238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is the snow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209680" y="2971800"/>
            <a:ext cx="3124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’s white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2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114800" y="3581280"/>
            <a:ext cx="25146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-h-i-t-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4" name="Oval 4"/>
          <p:cNvSpPr/>
          <p:nvPr/>
        </p:nvSpPr>
        <p:spPr>
          <a:xfrm>
            <a:off x="990720" y="2286000"/>
            <a:ext cx="129528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-l-a-c-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Oval 6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Oval 8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Oval 9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6T08:37:32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