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chimes.wav" ContentType="audio/x-wav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8B0-C8EF-4ACE-9B3C-DBE9E9C3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3A6-CDD4-46C3-87F3-625F9331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2B15C-A207-4521-A8EC-7FC1D59B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1AB99-9BDE-4DBF-A9EA-EEAC4473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E0CAA-2D42-467D-8229-440E83ED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40707-75AA-4C63-A066-F2BBCF82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11936-0DDB-4734-8672-5C862214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C8501-52CF-42D5-915F-27D66C1F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7C3F4-48C4-4741-9ABA-392A086E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8D07D-D6C1-4966-ACF7-CFDB2F4B8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7F994-24D8-4143-96E4-DAE7B2650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23E66-C251-4A51-A689-121A27D3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8ED4-88FB-4B65-8401-67A6B065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B42EF-4B82-4991-B2E7-774625AA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38E96B-7596-4489-9812-FDC5B067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E482F-58B7-4529-A249-CFC65AD3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75D86-0834-4C41-B154-6B7BEFC0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D4557-3E9F-4D3F-957C-D5F34227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CAEB8F-99C0-45F7-BA4A-924B5BF4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47621-BA15-45F7-9818-99325901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9B438-F312-420B-B4E9-FA2D2BEF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F26D8-6F9A-4382-B991-71E0D0B4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3F098-0A6D-45B5-B5B3-7EB7A5AC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587-EF16-466B-B397-01CD29433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820BD-2093-4F96-B18B-68CE2F7B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67102-D9F6-453A-B87A-1D2CDB3C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ADCEC-9246-4FF8-91C8-79ACBDB5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131EE-D272-4FE4-96E4-0C438B27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1D908-08EF-4E20-92D4-A208D6C9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A66C7-E7AD-42EE-BC8A-D7A517DC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DE324-A3C1-4099-BAEE-09307B52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EE595-E8A2-4F6D-859A-6D9B8864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17E34-E85C-4575-B7A7-3F239358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82AC5-BDAC-462E-AA38-3622A631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ADCC-541C-4E2D-B771-E4AD0FDC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B43F3-05A7-479F-ACC1-4EB73A46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C7D88-EC9F-4117-BAE5-B3A72435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A958C-9F17-4B63-AB4E-F6E85A1A3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97E42-4855-4B23-80B5-5D1E05F4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C8BC8-C4DE-4707-8F18-EE00192C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79374-A689-43E5-A1A5-FD9D5033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9CEC2D-0F52-4128-AD00-F8F010D6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1F2EF-3D4D-4E25-BE55-00B79C5C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CECDA-4EF3-4026-9B93-81B7FA9D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C1F01-844A-4996-B95D-2BE17E3C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A33D-B05C-4C6B-BD32-CD9346DE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B917D-B652-4CB9-8FA8-4982AB35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4544F-70A9-428D-9ED0-83658BF6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55882-A417-48EB-9636-DDB320FA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BF3DB-FEE0-413A-9913-865347AD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55407-5A88-4FAE-B539-FDABC68D2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7B9A-2BED-464C-8B5D-710E8115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8F62-B615-4F3B-A54A-051530E8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5C6F-2E47-4944-B6D5-C4A91794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0BA6-97FF-4990-B5E4-9E4E52B2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1A6F-EEB9-4B52-A578-4652F693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B2B-0686-4757-BD43-289ABEA9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0873-9897-4F0A-8106-1BD1BF98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0DE9-EA80-4700-9DC6-321F4FA6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4BBA-681F-42EE-A9BE-36669F15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D190-FC64-49E9-BD3B-B7C697DE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B92D-CBF7-4FB1-9CC1-555B19F8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3187-5AEF-4668-A2FA-71D49DB5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5A79B-9A2A-4E29-8831-724AC554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88755-E3F7-4CF1-8260-31FE5D6C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E78A1-DD9F-45F4-9513-209DFB21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6136F-5F55-4423-AB79-5B8A0887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79E-F9C2-42E0-BBE6-7F921FA6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B349A-053C-489C-ACEC-04296203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78CA0-17C9-4BF1-AAAA-FDFEDA64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413D8-07FB-4B16-8FBD-54DE72EE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3767B-0BA7-4A9D-99D1-FF596BF2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2B4C6-08D8-4B98-B658-55D78C59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58B04-2BE2-4B00-8648-978FBB76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0366F-48E0-4F81-B8E3-2EFF6B0F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B286-4416-4F93-88C0-337EC4F8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1399A-BC2F-491E-9C78-BAF2AC9B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FD601-0F09-407C-AA6D-80A86A4A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10E-65A2-4B97-AA83-F90F1D40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C4726-1AA2-42E6-95E7-505E58BD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5811A-2B85-4BA9-BF82-E0DC92A6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4CD0E-016C-4914-A5B8-BC096AD7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FCF5E-597F-478F-B14D-575C9504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E08E6-EB27-49BD-ADDE-F354061C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8AB24-6E68-4634-B838-E9E3D678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DCA48-65FB-458B-8BC2-EFE4938D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1C415-F4E6-4E87-9640-616308D8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24C47-ECE6-4241-8081-B92F8C4F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FE0A7-2B05-4CA7-9767-903FF410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265-3D66-4333-9F0D-39798B82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FB1B4-38BB-4CA4-98CE-A277864B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7B189-BFF2-4EE5-BA76-30104667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19621-6CFF-4644-BAB5-9416836C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691F0-67DA-4819-8691-B04E2150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86400-8940-4AFC-A851-695F078A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D4AAF-A525-4E2D-AF77-27296B20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E71CE-69E4-49A5-94C0-67921B6F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7F9C-D9EB-4E59-8C2E-CED2C976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74420-C4A3-4036-B08F-D77E1C93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9FEC2-57CB-49CC-961D-A58E0BA5E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72A-6279-4176-9239-752C86BF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3E6F7-CE1C-4150-8D4A-73E0DBB6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6D6FC-51FF-4C64-9FFD-C0AF9972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0A1AA-30E0-44E2-AD25-50C1501D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CE117-EA31-435F-BBA4-8A99AB8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A1B50-4465-436A-8260-7B5053AF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5A57D-778F-4878-A127-37086C2F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6C63B-CD28-4EFD-910E-1515527D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AAA42-281B-4BBB-9E32-96EC0ED0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B6D58-A353-4D82-93BB-30B5D0F0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45302-1F1B-4BFD-BB10-E9ED5280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3BD-FD69-4C7B-819E-029F4037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55A59-C191-4867-9F74-4D0FBBDE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388F0-77DD-4927-8E6F-EFF73804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A4705-8860-4BE1-B914-FE886A70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3E7D2-8BC7-4F2E-8B7E-3E0D24AE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25DAF-3693-4E7F-BA9D-AB068535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D067B-E081-4811-AF2B-9599A9F5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6CA2A-3D5A-4B1E-AC27-9303C2CA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950DB-9EE7-461D-822E-A51BE4BD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E2C42-6F37-4C83-94B5-B347B6F4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D7A8-1AB7-4388-882A-8E290E7E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098-FE6E-49B4-B983-C6DE442E0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49E65-7A87-4227-8185-573F13A2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79BB9-3160-4E74-8CD3-9D331BB8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88FF8-B856-410D-BBE5-679A7D02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2BF66-6786-4AA6-9D18-F20598323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B4A43-AD64-416C-B7AE-758708BE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9503C-6A28-471A-9095-CD1485E7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118E9-E2BD-47CD-8025-71E0B48D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FF27B-5C6B-4D19-BBDA-BD818A93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8784B-3F0B-4CB4-B6E2-C2E9CEFF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2ECE1-6529-4FE6-80E3-637F875F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C08-22DC-4409-81EC-AD617726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B266B-359D-4ECF-8824-6182EB63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33F26-69BF-441F-9014-9DD105DF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6D589-5291-4252-890B-F1EA90BE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EE989-AC31-4545-9FC6-6BFBD5D3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CE751-1393-480E-9746-A3B5ED9A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4133F-2842-4632-A9B1-78715642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8CA01-13D0-4AF9-9BC9-170A3A59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EE0B1-5C5E-41B3-9141-4A93FE38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BE518-388A-46B8-B371-13906862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F2E38-A5E9-4CA5-BE83-D3DDE7C5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ABEA-3017-4A64-80A5-85247BB761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3ED0-5D4B-44F3-BA71-4B8B27842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0658-C390-4F2D-B7DA-EA1C9A6186BF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3E10-23F7-40EA-9EE6-AEFE49D99F1C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37C7-3E2B-4F76-962C-A2BD8C7565C9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341C-834D-4B9B-8272-2E3D0EDC64EB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4198-0404-4F35-8844-79A5A78B67AB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620B-1450-4A69-B998-9F555CF61DF5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1A4A-B277-4F1B-8FD7-430A53D2465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85EC-1D40-4C68-9E2E-ADEA09CC01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6FF6-DECD-4FBD-92A4-1B9C17132A00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A0F9-8A01-4186-8566-FF730ACDFA32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0319-0F48-49DA-A4DA-9BC6CBAB7B98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DE52-E5CB-47EC-A27E-DBBF02CF5B51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2E97-9FD3-4961-8933-EB27544749CD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5948-3CAE-4658-AF41-39059EF9D268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682E-3AA4-498C-97F7-88AFE8DC30CD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E02F-5079-494A-A363-0F6204C9BE8A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B167-B816-4958-920D-D99A4B349B90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E181-056F-4413-B66A-0C921912CF54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2848-D453-43A6-9488-C9C6DE6C09E9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BAC9-D319-4DB2-B05A-E45FDD31EA43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F11F-1574-4091-B645-54A75D182325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5FD1-CAAD-4FA4-97A2-B71FFD176AE0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3" name=""/>
          <p:cNvGraphicFramePr/>
          <p:nvPr/>
        </p:nvGraphicFramePr>
        <p:xfrm>
          <a:off x="5791320" y="457200"/>
          <a:ext cx="2965320" cy="485640"/>
        </p:xfrm>
        <a:graphic>
          <a:graphicData uri="http://schemas.openxmlformats.org/drawingml/2006/table">
            <a:tbl>
              <a:tblPr/>
              <a:tblGrid>
                <a:gridCol w="2965320"/>
              </a:tblGrid>
              <a:tr h="4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Rectangle 6"/>
          <p:cNvSpPr/>
          <p:nvPr/>
        </p:nvSpPr>
        <p:spPr>
          <a:xfrm>
            <a:off x="4724280" y="1523880"/>
            <a:ext cx="3929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五课时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8" name="Picture 6" descr="[wall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7"/>
          <p:cNvSpPr/>
          <p:nvPr/>
        </p:nvSpPr>
        <p:spPr>
          <a:xfrm>
            <a:off x="4038480" y="85680"/>
            <a:ext cx="51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One purple flower.</a:t>
            </a: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wo yellow be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hree little blue bi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high in the sky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Four little brown  deer   smiling at m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little black fish               swimming in the sea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1" name="Picture 6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3" name="WordArt 4"/>
          <p:cNvSpPr txBox="1"/>
          <p:nvPr/>
        </p:nvSpPr>
        <p:spPr>
          <a:xfrm>
            <a:off x="1371600" y="99072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380880" y="3209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Listen to and repeat “Let’s learn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Draw a picture and describe it to your par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7"/>
          <p:cNvSpPr/>
          <p:nvPr/>
        </p:nvSpPr>
        <p:spPr>
          <a:xfrm>
            <a:off x="1143000" y="3317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7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4"/>
          <p:cNvSpPr/>
          <p:nvPr/>
        </p:nvSpPr>
        <p:spPr>
          <a:xfrm>
            <a:off x="60948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Guess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304920" y="11430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n you guess my favourite colour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0" name="Picture 6" descr="DSC02925"/>
          <p:cNvPicPr/>
          <p:nvPr/>
        </p:nvPicPr>
        <p:blipFill>
          <a:blip r:embed="rId2"/>
          <a:srcRect l="23000" t="11974" r="38670" b="7648"/>
          <a:stretch/>
        </p:blipFill>
        <p:spPr>
          <a:xfrm>
            <a:off x="2631960" y="2666880"/>
            <a:ext cx="232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2" name="Picture 2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13"/>
          <p:cNvGrpSpPr/>
          <p:nvPr/>
        </p:nvGrpSpPr>
        <p:grpSpPr>
          <a:xfrm>
            <a:off x="1143000" y="3581280"/>
            <a:ext cx="6781680" cy="1313280"/>
            <a:chOff x="1143000" y="3581280"/>
            <a:chExt cx="6781680" cy="1313280"/>
          </a:xfrm>
        </p:grpSpPr>
        <p:sp>
          <p:nvSpPr>
            <p:cNvPr id="504" name="Oval 4"/>
            <p:cNvSpPr/>
            <p:nvPr/>
          </p:nvSpPr>
          <p:spPr>
            <a:xfrm>
              <a:off x="1143000" y="3581280"/>
              <a:ext cx="1371600" cy="1219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5" name="Text Box 5"/>
            <p:cNvSpPr/>
            <p:nvPr/>
          </p:nvSpPr>
          <p:spPr>
            <a:xfrm>
              <a:off x="2971800" y="373392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6" name="Oval 6"/>
            <p:cNvSpPr/>
            <p:nvPr/>
          </p:nvSpPr>
          <p:spPr>
            <a:xfrm>
              <a:off x="4038480" y="3657600"/>
              <a:ext cx="1219320" cy="1219320"/>
            </a:xfrm>
            <a:prstGeom prst="ellipse">
              <a:avLst/>
            </a:prstGeom>
            <a:solidFill>
              <a:srgbClr val="d5f2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7" name="Text Box 7"/>
            <p:cNvSpPr/>
            <p:nvPr/>
          </p:nvSpPr>
          <p:spPr>
            <a:xfrm>
              <a:off x="5562720" y="388620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08" name="Group 11"/>
            <p:cNvGrpSpPr/>
            <p:nvPr/>
          </p:nvGrpSpPr>
          <p:grpSpPr>
            <a:xfrm>
              <a:off x="6705720" y="3657600"/>
              <a:ext cx="1218960" cy="1219320"/>
              <a:chOff x="6705720" y="3657600"/>
              <a:chExt cx="1218960" cy="1219320"/>
            </a:xfrm>
          </p:grpSpPr>
          <p:sp>
            <p:nvSpPr>
              <p:cNvPr id="509" name="Oval 8"/>
              <p:cNvSpPr/>
              <p:nvPr/>
            </p:nvSpPr>
            <p:spPr>
              <a:xfrm>
                <a:off x="6705720" y="3657600"/>
                <a:ext cx="1218960" cy="121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0" name="Text Box 10"/>
              <p:cNvSpPr/>
              <p:nvPr/>
            </p:nvSpPr>
            <p:spPr>
              <a:xfrm>
                <a:off x="6934320" y="379404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 Black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1" name="Text Box 14"/>
          <p:cNvSpPr/>
          <p:nvPr/>
        </p:nvSpPr>
        <p:spPr>
          <a:xfrm>
            <a:off x="1295280" y="12193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y favourite colo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Oval 23"/>
          <p:cNvSpPr/>
          <p:nvPr/>
        </p:nvSpPr>
        <p:spPr>
          <a:xfrm>
            <a:off x="6705720" y="3657600"/>
            <a:ext cx="121896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5638680" y="5486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5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4038480" y="22096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0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1293550109"/>
          <p:cNvPicPr/>
          <p:nvPr/>
        </p:nvPicPr>
        <p:blipFill>
          <a:blip r:embed="rId2"/>
          <a:srcRect l="6982" t="11522" r="0" b="24278"/>
          <a:stretch/>
        </p:blipFill>
        <p:spPr>
          <a:xfrm>
            <a:off x="2057400" y="917640"/>
            <a:ext cx="5334120" cy="52084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8"/>
          <p:cNvSpPr/>
          <p:nvPr/>
        </p:nvSpPr>
        <p:spPr>
          <a:xfrm>
            <a:off x="533520" y="5335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Colour 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4" name="Picture 4" descr="snow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762120" y="1295280"/>
            <a:ext cx="72388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is the snow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2209680" y="2971800"/>
            <a:ext cx="3124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t’s white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2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114800" y="3581280"/>
            <a:ext cx="25146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-h-i-t-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3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4" name="Oval 4"/>
          <p:cNvSpPr/>
          <p:nvPr/>
        </p:nvSpPr>
        <p:spPr>
          <a:xfrm>
            <a:off x="990720" y="2286000"/>
            <a:ext cx="129528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267080" y="2209680"/>
            <a:ext cx="1905120" cy="70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-l-a-c-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4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Oval 6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Oval 7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Oval 8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3" name="Oval 9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6T08:37:32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