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gif" ContentType="image/gif"/>
  <Override PartName="/ppt/media/image6.jpeg" ContentType="image/jpeg"/>
  <Override PartName="/ppt/media/chimes.wav" ContentType="audio/x-wav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5C47-7667-4188-ABB0-8BC5972C5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CA11-9F87-446D-AF9B-18ACEA1EA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B674495-B5DF-4208-9760-E48CE490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31E85DB-2BC1-4373-8CB2-77A7961D6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89B0B4-845E-4A92-A653-7EC9EB67A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6349C4-0859-4C65-BEC6-5A9E63EB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B1CAFC9-F2AE-4FFA-A607-0A2F4DE3F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943FE6-205E-4B9D-B462-0869337D6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81335B-1B71-4D67-B0BC-00A815C3C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5B3A28-A799-4692-8E5C-65FC8D87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2BC119-E8D9-428B-94AE-8645DE81A5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BF45D1-FE43-4FEB-A526-1ADEF9A25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6FF73-F018-4798-80F6-85106BF9BC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2F47B0-3616-4A4E-849F-2F9BBEE49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A7487D-46F2-47F6-AD1C-2FC748AA3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536BB-EC7C-44BC-B904-EF8AC6CED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B22BAD-5030-4794-AD4D-8437C3722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0FA823-7C2C-4331-86DC-A6EBFFBF1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1334B7-BBA9-478E-9556-9950BBBDE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8D1D2D-BA9F-450D-934C-668B95267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3609DC1-002A-4841-93D9-458E0766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A67CB16-B990-45FB-971C-24B176116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9E1997-34B9-4E3E-B910-F292E41146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C2DD3-D17E-4126-B67E-295546B09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89BFDBC-A81D-4A8C-A7F8-B4B90BC6F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A233CA-ADE6-4B3F-A6A3-8CAF2ACA2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FD0345-6B74-496E-AD51-9CD45A089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9E58C3-86A7-417A-B93E-1DC15F5C8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500F02-EE7F-4919-864E-BE90AAAEF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B7BF5B-0EF9-43A9-ADDE-FFECF9D92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D3F09-AC75-4745-A236-90C99E63A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AF0E86-B057-40B3-92A2-4AF4B6482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0E505-83A6-4012-BD93-FE264E23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EEA8E3-4D34-48D4-9480-FF904C6D6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EB7B1-0D49-404D-AC2D-1EAE55404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649A42C-8621-427B-9B9F-6AF417876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539E35-5686-4FED-9112-C27C7217D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D05DB-3948-4AC3-B0D1-D40DE9F43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9F61E8-B868-4731-B217-B32562787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AAA04B-CB23-400A-9142-2AF0F4567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FC7CF8-5361-4B7A-A349-B297C452B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B86769-61C6-4E20-83F6-4664B458F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2B9E3-73DC-49C4-8960-FC347BBBE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BB4EE8-23F2-4075-B658-A8ABF919C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7D286FA-D825-4919-8392-C5270B290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5FC54-9C49-4749-87AF-84BB840D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C06470-F8E8-47C5-8655-023C4867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ABC879C-148C-4636-B02E-4C44C0F5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714248-87D2-4728-8194-5D48E4D64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CCD3CF-321D-4A43-9331-7D573C6709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8ABEA8-D6A3-4B7B-A621-B11ECF2C0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9CBC56-1003-42A3-BFBB-0C28E11EA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4D054-57DB-4B31-B2C9-F54854389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72B29-5379-4A44-B33E-EB4EFDCF1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2971-6F9E-4554-9BEB-62A40503B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68771-2ECE-4519-ACCD-BDB3C7A32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9F7AD-BBE3-42C8-BBB2-1A2D368AC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F579-E33E-4BDC-9736-CCA46877B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2464B-4A14-4C74-A00A-4DBEFC58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434E1-8F11-41AE-93F3-086AE704E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C53A4-60D9-4991-86AA-F52E3397C1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22CE4-6D21-4186-BAE2-8E4C9E9F9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D8768B-70E4-4182-8F18-5BB674E70F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8A05B-5740-464D-8589-BDE853526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E163C7-94E4-48FB-9415-19BD0CF3D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397BF-9C75-4A92-8B8F-F77FCE1C2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822D6A-E67E-4A03-80ED-F23F509AA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4A9-AC60-4078-8AE1-2049CA2B8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B5572-5A36-4B48-ABA7-2881B518F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A0706B-A85A-48B2-BC80-AB26BEFCB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DDBE8-0828-42CD-90AC-2619F778A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C39D58-12D5-4F2A-981A-090B1C01D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1D9DBD-E44A-4490-8FB3-02E2E7B0C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D638EF-334E-4D73-91C5-E2E1B36A8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8427F7-5A3E-41B7-9FCA-D2AEC69DB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2195EB-BAD3-4D5E-A9B9-15EE17599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0B3BE7-08C3-40E9-BA3D-48F6CC1FF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D5312F-86A0-4928-A8A2-185F7AFC6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5C56B-5D7A-498C-AB69-C8EF2CFA0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AB45B0-48B2-47D3-9405-7928A31BA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89D602-5730-42F4-A36C-F7221B9F6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3D955D-988D-4318-A81A-5C4D8821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EBA446-C9B9-4944-BFE6-F3019C7C9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471E36-D522-4384-AB12-50E50E3AA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FBDC28-130F-4143-A28E-822B8AB56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0D2EEB-D8CF-4EC2-A96F-532D6D9936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D6566A-8B34-41C3-962D-4B036C60D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AFEEE7-42B8-46A0-9659-02131F424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C52224-A53A-4973-8CE4-723D52A74A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93B9-520A-4504-A528-C0CFB6494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9659C6-A829-49A6-8BA5-80A275F77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1EB152-995E-4C7D-903A-C887DBB2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2ACDEE-45BE-428A-9611-047A6CA5C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AA58EA-C196-4808-87AD-EFFE65EE2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C835C8-8A4A-450E-B899-08238DA0D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5E8F0-7A49-4EA0-9383-4207F53E6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D5BF45-0F16-4812-A394-6C99A6A17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D59845-E71D-4BA6-B92F-37112FA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D289D4-72CA-453D-8171-D557AF545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38D47D-505B-4259-B6ED-CDF0540C3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DE2F4-8E00-4A0C-BF42-14B59041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992854-5F30-45D0-A368-E91AFDCE9C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84B407-7836-457F-96C8-87A5B2B3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22A01C-71DA-42C9-9E16-E100144EA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42CF9D5-399C-45CA-9F1A-8AD828649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9EE5E09-85E9-49DF-8769-9BB604BB9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7237A0-3C4C-4C3D-8AF9-9DD743510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C1E14F-875D-4F07-91A5-7ED7023AB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7545C2-108E-4144-B6C8-63FBBA18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8AEFC-B92A-4357-A4CB-B4E9FBE8B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94987E-B979-4F2C-83A0-6E591B49E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18B87-E6CC-4829-8A56-02B0941B4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5881FC-C84E-40A2-8694-7672EA94E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3E991-334D-4E57-8902-C276FF1E7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DEE29A-2340-47CB-B695-CF1A2274E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0D184B-C270-4DEA-AF58-1AB195E43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F76BAF-D928-42C1-B5A2-A8CF7CC87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6E3736-92FD-419E-85A5-64B463CCF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E2CE5AB-58DB-4881-A9A9-8BC3F02B2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211F56-9F6B-491B-B36E-DA24F32E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3ED434-E8F4-4568-85B7-656845266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EA5704-A010-408D-A78B-C71865A7D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8E9E-129D-4AE0-9FDD-D5A6620EC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76AB59-2D09-4A41-BB0A-392491B7F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F90FFE-F85D-4CB8-B52A-25C3E1135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7B4E96-52C1-497F-8599-AA8A902DA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348B50-6491-4B10-89CD-4166758B1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3AABE4-F450-4099-90F6-1B4650A65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924DC2-CD7B-402C-8AE7-6646CCF41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B5B0BE-042F-4D5D-AF13-2F8799EA5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5356A53-1ED2-49E8-86FC-4D0DF258E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53B5A1-DCA5-4A65-A0EF-E5FD72AE8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FC957C-1849-4D1F-A4A7-A15D316F9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BA1B2-273B-470B-8717-361E37058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F9BA54-B463-4CC0-8EC0-9EAC13387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722CFE-5E6B-401B-9B8C-786239614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763049-5527-4E79-B8FA-9FA232A6A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4E3C65-ADD2-4A85-A6E2-A9BA5B95A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60DC02D-1298-42EE-80DC-D7912AF1D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9FA935-B501-42A8-B8B1-5BAD4F74F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E26353-0917-4ABD-8135-500E74FC5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85B9BA-D199-4332-ABD7-F5A2C9FC7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98C9323-D2FE-496C-BA1E-CF6B83E1D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89396B-0660-431C-A059-738D5331F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DA6F1-3FAF-4B02-A593-874B2107DF7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7A7703-81E0-49FE-8FB3-8A86211D8C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268134-6BEE-409D-ACB4-A7D67BC661B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ABD13-ED8A-4D49-B378-004213AAF967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7ABC3-0DBD-4795-8E23-735D888F4CD4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5624E-86F9-43EC-A90F-8444ABF09083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5A91-B3C1-4DCF-8405-BAB3B7CE0D9D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ACC52-6E03-4DB3-8597-499D99E9864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68624-5DD3-44DE-94AD-447FB3B0080C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392AFB-B6A7-4E32-AFE8-8A9F3E9EDEA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C748C-C4E8-4113-B239-4D6AA1CD7187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D858C-6EA2-4D78-9112-029770955268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6FB08-14FA-46F8-9D3D-5F7E612CFE68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77F35-55A7-47A4-8332-3A7F6DC4AE62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E91F9-B745-4C52-81D0-7C6441B4C03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7C1BF-09A1-448C-9BF2-BAFFB26A56CC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E135-9761-4F71-A567-AE0942A41D60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825D-76BF-429D-A733-667926FFD9B1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3638C-E38B-4B2D-9FF3-2C0FBB90252B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0C14D-CB1E-4421-BF82-AE73A24548B6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DEFAE-3F0D-4BB1-9A7A-EA8372ECC4E2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EB35D-8E7D-4C45-AF9E-F61485902E7B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167C7-0C4E-478A-A248-8088DC93F805}" type="datetime">
              <a:rPr b="0" lang="zh-CN" sz="1200" spc="-1" strike="noStrike">
                <a:solidFill>
                  <a:srgbClr val="898989"/>
                </a:solidFill>
                <a:latin typeface="Arial Black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 Black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73E4-AFB7-4270-9491-7586AFA7074F}" type="slidenum">
              <a:rPr b="0" lang="zh-CN" sz="1200" spc="-1" strike="noStrike">
                <a:solidFill>
                  <a:srgbClr val="898989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2" name="图片 2" descr="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3" name=""/>
          <p:cNvGraphicFramePr/>
          <p:nvPr/>
        </p:nvGraphicFramePr>
        <p:xfrm>
          <a:off x="5791320" y="457200"/>
          <a:ext cx="2965320" cy="485640"/>
        </p:xfrm>
        <a:graphic>
          <a:graphicData uri="http://schemas.openxmlformats.org/drawingml/2006/table">
            <a:tbl>
              <a:tblPr/>
              <a:tblGrid>
                <a:gridCol w="2965320"/>
              </a:tblGrid>
              <a:tr h="4856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Arial"/>
                          <a:ea typeface="黑体"/>
                        </a:rPr>
                        <a:t>Unit 2  Colour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 Black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94" name="Rectangle 6"/>
          <p:cNvSpPr/>
          <p:nvPr/>
        </p:nvSpPr>
        <p:spPr>
          <a:xfrm>
            <a:off x="4724280" y="1523880"/>
            <a:ext cx="392904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Arial"/>
              </a:rPr>
              <a:t>第五课时</a:t>
            </a:r>
            <a:endParaRPr b="0" lang="en-US" sz="7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4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7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58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59" name="Text Box 3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0" name="Oval 4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1" name="Oval 5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2" name="Oval 6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3" name="Oval 7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4" name="Oval 8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5" name="Oval 9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66" name="Oval 10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68" name="Picture 6" descr="[wall00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9" name="Text Box 7"/>
          <p:cNvSpPr/>
          <p:nvPr/>
        </p:nvSpPr>
        <p:spPr>
          <a:xfrm>
            <a:off x="4038480" y="85680"/>
            <a:ext cx="51055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ff"/>
                </a:solidFill>
                <a:latin typeface="Arial"/>
              </a:rPr>
              <a:t>One purple flower.</a:t>
            </a:r>
            <a:r>
              <a:rPr b="1" lang="en-US" sz="3600" spc="-1" strike="noStrike">
                <a:solidFill>
                  <a:srgbClr val="9900ff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</a:rPr>
              <a:t>Two yellow bees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Three little blue bi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</a:rPr>
              <a:t>high in the sky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33"/>
                </a:solidFill>
                <a:latin typeface="Arial"/>
              </a:rPr>
              <a:t>Four little brown  deer   smiling at me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ive little black fish               swimming in the sea.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71" name="Picture 6" descr="卡通绿色风景背景，绿色PPT背景图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2" name="Text Box 2"/>
          <p:cNvSpPr/>
          <p:nvPr/>
        </p:nvSpPr>
        <p:spPr>
          <a:xfrm>
            <a:off x="1066680" y="2590920"/>
            <a:ext cx="6553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73" name="WordArt 4"/>
          <p:cNvSpPr txBox="1"/>
          <p:nvPr/>
        </p:nvSpPr>
        <p:spPr>
          <a:xfrm>
            <a:off x="1371600" y="990720"/>
            <a:ext cx="64008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Homework 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74" name="Rectangle 5"/>
          <p:cNvSpPr/>
          <p:nvPr/>
        </p:nvSpPr>
        <p:spPr>
          <a:xfrm>
            <a:off x="380880" y="3209400"/>
            <a:ext cx="83059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1. Listen to and repeat “Let’s learn”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2.Draw a picture and describe it to your parents.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矩形 7"/>
          <p:cNvSpPr/>
          <p:nvPr/>
        </p:nvSpPr>
        <p:spPr>
          <a:xfrm>
            <a:off x="1143000" y="331776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 Black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6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497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498" name="Text Box 4"/>
          <p:cNvSpPr/>
          <p:nvPr/>
        </p:nvSpPr>
        <p:spPr>
          <a:xfrm>
            <a:off x="609480" y="38088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 Black"/>
              </a:rPr>
              <a:t>Guess </a:t>
            </a:r>
            <a:r>
              <a:rPr b="1" lang="zh-CN" sz="3200" spc="-1" strike="noStrike">
                <a:solidFill>
                  <a:srgbClr val="ff0000"/>
                </a:solidFill>
                <a:latin typeface="Arial Black"/>
              </a:rPr>
              <a:t>！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9" name="Text Box 5"/>
          <p:cNvSpPr/>
          <p:nvPr/>
        </p:nvSpPr>
        <p:spPr>
          <a:xfrm>
            <a:off x="304920" y="1143000"/>
            <a:ext cx="8839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Can you guess my favourite colour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0" name="Picture 6" descr="DSC02925"/>
          <p:cNvPicPr/>
          <p:nvPr/>
        </p:nvPicPr>
        <p:blipFill>
          <a:blip r:embed="rId2"/>
          <a:srcRect l="23000" t="11974" r="38670" b="7648"/>
          <a:stretch/>
        </p:blipFill>
        <p:spPr>
          <a:xfrm>
            <a:off x="2631960" y="2666880"/>
            <a:ext cx="232092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02" name="Picture 2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grpSp>
        <p:nvGrpSpPr>
          <p:cNvPr id="503" name="Group 13"/>
          <p:cNvGrpSpPr/>
          <p:nvPr/>
        </p:nvGrpSpPr>
        <p:grpSpPr>
          <a:xfrm>
            <a:off x="1143000" y="3581280"/>
            <a:ext cx="6781680" cy="1313280"/>
            <a:chOff x="1143000" y="3581280"/>
            <a:chExt cx="6781680" cy="1313280"/>
          </a:xfrm>
        </p:grpSpPr>
        <p:sp>
          <p:nvSpPr>
            <p:cNvPr id="504" name="Oval 4"/>
            <p:cNvSpPr/>
            <p:nvPr/>
          </p:nvSpPr>
          <p:spPr>
            <a:xfrm>
              <a:off x="1143000" y="3581280"/>
              <a:ext cx="1371600" cy="121932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5" name="Text Box 5"/>
            <p:cNvSpPr/>
            <p:nvPr/>
          </p:nvSpPr>
          <p:spPr>
            <a:xfrm>
              <a:off x="2971800" y="373392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+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6" name="Oval 6"/>
            <p:cNvSpPr/>
            <p:nvPr/>
          </p:nvSpPr>
          <p:spPr>
            <a:xfrm>
              <a:off x="4038480" y="3657600"/>
              <a:ext cx="1219320" cy="1219320"/>
            </a:xfrm>
            <a:prstGeom prst="ellipse">
              <a:avLst/>
            </a:prstGeom>
            <a:solidFill>
              <a:srgbClr val="d5f22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sp>
          <p:nvSpPr>
            <p:cNvPr id="507" name="Text Box 7"/>
            <p:cNvSpPr/>
            <p:nvPr/>
          </p:nvSpPr>
          <p:spPr>
            <a:xfrm>
              <a:off x="5562720" y="3886200"/>
              <a:ext cx="9144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0" spc="-1" strike="noStrike">
                  <a:solidFill>
                    <a:srgbClr val="000000"/>
                  </a:solidFill>
                  <a:latin typeface="Arial Black"/>
                </a:rPr>
                <a:t>=</a:t>
              </a:r>
              <a:endParaRPr b="0" lang="en-US" sz="6000" spc="-1" strike="noStrike">
                <a:solidFill>
                  <a:srgbClr val="000000"/>
                </a:solidFill>
                <a:latin typeface="Arial Black"/>
              </a:endParaRPr>
            </a:p>
          </p:txBody>
        </p:sp>
        <p:grpSp>
          <p:nvGrpSpPr>
            <p:cNvPr id="508" name="Group 11"/>
            <p:cNvGrpSpPr/>
            <p:nvPr/>
          </p:nvGrpSpPr>
          <p:grpSpPr>
            <a:xfrm>
              <a:off x="6705720" y="3657600"/>
              <a:ext cx="1218960" cy="1219320"/>
              <a:chOff x="6705720" y="3657600"/>
              <a:chExt cx="1218960" cy="1219320"/>
            </a:xfrm>
          </p:grpSpPr>
          <p:sp>
            <p:nvSpPr>
              <p:cNvPr id="509" name="Oval 8"/>
              <p:cNvSpPr/>
              <p:nvPr/>
            </p:nvSpPr>
            <p:spPr>
              <a:xfrm>
                <a:off x="6705720" y="3657600"/>
                <a:ext cx="1218960" cy="1219320"/>
              </a:xfrm>
              <a:prstGeom prst="ellipse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  <p:sp>
            <p:nvSpPr>
              <p:cNvPr id="510" name="Text Box 10"/>
              <p:cNvSpPr/>
              <p:nvPr/>
            </p:nvSpPr>
            <p:spPr>
              <a:xfrm>
                <a:off x="6934320" y="3794040"/>
                <a:ext cx="914400" cy="100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37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 Black"/>
                  </a:rPr>
                  <a:t>？</a:t>
                </a:r>
                <a:endParaRPr b="0" lang="en-US" sz="6000" spc="-1" strike="noStrike">
                  <a:solidFill>
                    <a:srgbClr val="000000"/>
                  </a:solidFill>
                  <a:latin typeface="Arial Black"/>
                </a:endParaRPr>
              </a:p>
            </p:txBody>
          </p:sp>
        </p:grpSp>
      </p:grpSp>
      <p:sp>
        <p:nvSpPr>
          <p:cNvPr id="511" name="Text Box 14"/>
          <p:cNvSpPr/>
          <p:nvPr/>
        </p:nvSpPr>
        <p:spPr>
          <a:xfrm>
            <a:off x="1295280" y="1219320"/>
            <a:ext cx="6705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My favourite colour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2" name="Oval 23"/>
          <p:cNvSpPr/>
          <p:nvPr/>
        </p:nvSpPr>
        <p:spPr>
          <a:xfrm>
            <a:off x="6705720" y="3657600"/>
            <a:ext cx="121896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3" name="Text Box 24"/>
          <p:cNvSpPr/>
          <p:nvPr/>
        </p:nvSpPr>
        <p:spPr>
          <a:xfrm>
            <a:off x="5638680" y="5486400"/>
            <a:ext cx="25146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15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16" name="Text Box 4"/>
          <p:cNvSpPr/>
          <p:nvPr/>
        </p:nvSpPr>
        <p:spPr>
          <a:xfrm>
            <a:off x="4038480" y="2209680"/>
            <a:ext cx="3810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7" name="Oval 5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8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o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r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n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g</a:t>
            </a: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-</a:t>
            </a:r>
            <a:r>
              <a:rPr b="1" lang="en-US" sz="4000" spc="-1" strike="noStrike">
                <a:solidFill>
                  <a:srgbClr val="ed9013"/>
                </a:solidFill>
                <a:latin typeface="Arial Black"/>
              </a:rPr>
              <a:t>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1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0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7" descr="1293550109"/>
          <p:cNvPicPr/>
          <p:nvPr/>
        </p:nvPicPr>
        <p:blipFill>
          <a:blip r:embed="rId2"/>
          <a:srcRect l="6982" t="11522" r="0" b="24278"/>
          <a:stretch/>
        </p:blipFill>
        <p:spPr>
          <a:xfrm>
            <a:off x="2057400" y="917640"/>
            <a:ext cx="5334120" cy="5208480"/>
          </a:xfrm>
          <a:prstGeom prst="rect">
            <a:avLst/>
          </a:prstGeom>
          <a:ln w="0">
            <a:noFill/>
          </a:ln>
        </p:spPr>
      </p:pic>
      <p:sp>
        <p:nvSpPr>
          <p:cNvPr id="522" name="Text Box 8"/>
          <p:cNvSpPr/>
          <p:nvPr/>
        </p:nvSpPr>
        <p:spPr>
          <a:xfrm>
            <a:off x="533520" y="533520"/>
            <a:ext cx="259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 Black"/>
              </a:rPr>
              <a:t>Colour it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4" name="Picture 4" descr="snow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5" name="Text Box 5"/>
          <p:cNvSpPr/>
          <p:nvPr/>
        </p:nvSpPr>
        <p:spPr>
          <a:xfrm>
            <a:off x="762120" y="1295280"/>
            <a:ext cx="7238880" cy="703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What colour is the snow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26" name="Text Box 6"/>
          <p:cNvSpPr/>
          <p:nvPr/>
        </p:nvSpPr>
        <p:spPr>
          <a:xfrm>
            <a:off x="2209680" y="2971800"/>
            <a:ext cx="312444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 Black"/>
              </a:rPr>
              <a:t>It’s white.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2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29" name="Text Box 2"/>
          <p:cNvSpPr/>
          <p:nvPr/>
        </p:nvSpPr>
        <p:spPr>
          <a:xfrm>
            <a:off x="4343400" y="2209680"/>
            <a:ext cx="1905120" cy="703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hit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1219320" y="2438280"/>
            <a:ext cx="1295280" cy="12193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1" name="Text Box 4"/>
          <p:cNvSpPr/>
          <p:nvPr/>
        </p:nvSpPr>
        <p:spPr>
          <a:xfrm>
            <a:off x="4114800" y="3581280"/>
            <a:ext cx="251460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 Black"/>
              </a:rPr>
              <a:t>w-h-i-t-e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5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3" name="Picture 7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4" name="Oval 4"/>
          <p:cNvSpPr/>
          <p:nvPr/>
        </p:nvSpPr>
        <p:spPr>
          <a:xfrm>
            <a:off x="990720" y="2286000"/>
            <a:ext cx="1295280" cy="12952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5" name="Text Box 5"/>
          <p:cNvSpPr/>
          <p:nvPr/>
        </p:nvSpPr>
        <p:spPr>
          <a:xfrm>
            <a:off x="4267080" y="2209680"/>
            <a:ext cx="1905120" cy="703440"/>
          </a:xfrm>
          <a:prstGeom prst="rect">
            <a:avLst/>
          </a:prstGeom>
          <a:solidFill>
            <a:srgbClr val="ffffff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lac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6" name="Text Box 6"/>
          <p:cNvSpPr/>
          <p:nvPr/>
        </p:nvSpPr>
        <p:spPr>
          <a:xfrm>
            <a:off x="4114800" y="3581280"/>
            <a:ext cx="380988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 Black"/>
              </a:rPr>
              <a:t>b-l-a-c-k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80"/>
                                        <p:tgtEl>
                                          <p:spTgt spid="5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Rectangle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538" name="Picture 5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65920"/>
          </a:xfrm>
          <a:prstGeom prst="rect">
            <a:avLst/>
          </a:prstGeom>
          <a:ln w="0">
            <a:noFill/>
          </a:ln>
        </p:spPr>
      </p:pic>
      <p:sp>
        <p:nvSpPr>
          <p:cNvPr id="539" name="Text Box 4"/>
          <p:cNvSpPr/>
          <p:nvPr/>
        </p:nvSpPr>
        <p:spPr>
          <a:xfrm>
            <a:off x="228600" y="304920"/>
            <a:ext cx="480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00"/>
                </a:solidFill>
                <a:latin typeface="Arial Black"/>
              </a:rPr>
              <a:t>What’s missing?</a:t>
            </a:r>
            <a:endParaRPr b="0" lang="en-US" sz="40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0" name="Oval 6"/>
          <p:cNvSpPr/>
          <p:nvPr/>
        </p:nvSpPr>
        <p:spPr>
          <a:xfrm>
            <a:off x="4191120" y="1828800"/>
            <a:ext cx="914400" cy="914400"/>
          </a:xfrm>
          <a:prstGeom prst="ellipse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1" name="Oval 7"/>
          <p:cNvSpPr/>
          <p:nvPr/>
        </p:nvSpPr>
        <p:spPr>
          <a:xfrm>
            <a:off x="2895480" y="3505320"/>
            <a:ext cx="990720" cy="9903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2" name="Oval 8"/>
          <p:cNvSpPr/>
          <p:nvPr/>
        </p:nvSpPr>
        <p:spPr>
          <a:xfrm>
            <a:off x="6248520" y="3276720"/>
            <a:ext cx="914400" cy="9144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3" name="Oval 9"/>
          <p:cNvSpPr/>
          <p:nvPr/>
        </p:nvSpPr>
        <p:spPr>
          <a:xfrm>
            <a:off x="1295280" y="1752480"/>
            <a:ext cx="914400" cy="914400"/>
          </a:xfrm>
          <a:prstGeom prst="ellipse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4" name="Oval 10"/>
          <p:cNvSpPr/>
          <p:nvPr/>
        </p:nvSpPr>
        <p:spPr>
          <a:xfrm>
            <a:off x="4876920" y="4952880"/>
            <a:ext cx="1143000" cy="1067040"/>
          </a:xfrm>
          <a:prstGeom prst="ellipse">
            <a:avLst/>
          </a:prstGeom>
          <a:solidFill>
            <a:srgbClr val="ed901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5" name="Oval 11"/>
          <p:cNvSpPr/>
          <p:nvPr/>
        </p:nvSpPr>
        <p:spPr>
          <a:xfrm>
            <a:off x="838080" y="3276720"/>
            <a:ext cx="914400" cy="838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46" name="Oval 12"/>
          <p:cNvSpPr/>
          <p:nvPr/>
        </p:nvSpPr>
        <p:spPr>
          <a:xfrm>
            <a:off x="1371600" y="4952880"/>
            <a:ext cx="990720" cy="990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dmin</cp:lastModifiedBy>
  <dcterms:modified xsi:type="dcterms:W3CDTF">2015-01-26T08:37:32Z</dcterms:modified>
  <cp:revision>3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