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chimes.wav" ContentType="audio/x-wav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0397-1A44-4EDF-B8B8-41509D3E7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C4EC-68BA-4A30-B9C3-43D2CA82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5732B1-D68A-4CD3-84E1-42B2A587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ED11B-DB69-4C72-9A74-C5AE410B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E0E99E-37D5-4406-87C8-15714D8C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D946AD-42A1-4EB4-AF23-EFBA2180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66BB9-0DF3-4883-907A-1269E8E2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79021D-F491-4515-B0F5-BCCAFAF2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3533C-C97D-4CA7-A982-3B6FC8F1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755F09-FC5D-44ED-8A0F-FEDF8AE21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D47A3A-435E-45C9-AE0C-FC957A191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9A0A69-7144-4944-8AE7-ABF27CE9A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D56B-9237-4779-AE97-7DB7ED725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6C0B14-47DC-4256-B043-5B07BC52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FF69CE-873D-4A6B-B7D5-2AF9C264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9C573A-9460-43C0-8B5E-7A55EB62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2F86E0-082D-4121-9B0B-7FD5DC92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9D3588-E6DA-4D2F-9F74-4E58F7A5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F86E11-4B8C-4076-9A18-A2AA815C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5D74A3-2655-4046-BF23-BF5D1433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01F584-DD8D-4587-B9C2-B2F9DC1B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0F2EDE-97DA-44E1-8B9F-28F929E9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2E6069-0609-4E32-81C3-9AFCAFF75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BE59-CB5B-4D86-877B-8C134EE0D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118B82-FB96-4269-A8D7-F301343FA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343D4-6E67-464E-B917-48C8FF424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507DA1-AE02-4F26-A87D-FC0BA813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A83A91-AE89-44C1-8E3F-3BC17FF2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22AF7-5047-4F66-A84F-7A71F75C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FF2FCB-1A21-4BAF-BF15-63E54059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6882F-561E-47B0-BFCC-EC234938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860D1D-3BF9-49E1-85BB-ED7D8885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15D77-0B6D-48AD-BF72-DE782393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A2D354-1CBE-4D63-9AFE-D01B3205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F25B-BAFD-407E-A19B-C5215BD11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24464-CF54-4F5B-9893-AE723858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545D6F-41D1-4383-94C2-47C84EB52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208D6-13F8-49AF-9E15-49B88C2A8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8D2BC0-5C6A-41FD-A1EB-476A1FDF3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141CFF-9D7C-43E2-9499-69485818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569836-74CF-43F3-8FB0-103C302C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36C2C8-6565-4733-8B86-E39DD8A2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DA69DD-DEE8-49A0-848E-21401F98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372292-6597-43DF-8764-0DF86A9E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CF1204-D980-468B-82EA-1CFE2598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21F6-41F0-4D10-868C-9739D4CCB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5ECE99-AEEF-40A1-B7DD-CC258347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119D36-89D1-420F-903D-76141689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33F1D1-D30F-4320-8C37-1B47336B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36F1CD-7B06-4ABC-A83A-79D59A331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33844D-28E1-4898-BFFF-5E7F716D6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C2F8-6588-484A-9827-D9E8FFB8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A397-8EA2-4D99-949E-D878E316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28C0-93BE-4E51-B146-BDCEE7E6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3B79-11E8-4355-B78D-9CB297E2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3AA3-34D5-4F49-9AAB-2278A3F3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9AEE-1B95-4DA1-9EB6-4DD0E4DB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955F-A3C4-4B61-B811-99D7C10B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AE16-7472-44B5-ADF1-2B5B0212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C76D5-FDEC-4EDD-9898-CF2AA204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E18BD-68EC-4E88-986A-C9FE70DE1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028CF-94D8-4B51-A7D1-5C0F1D12A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FF586-92E0-4769-A54B-258771124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0441A-1D28-4B73-A6B0-4B802176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F9B4D-1935-42AF-BA03-42F1436D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987FE-0AEB-49C2-8588-6A2DECBF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2649A-645F-4194-9388-A7E3048A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C035-5F32-4D42-85CC-16D44555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701B0-3ADA-42D8-AB30-B20B6F4F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0360A-08BA-4478-AF53-FF8F306B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4CBF6-56CA-42B6-AFA8-94FA6D2D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A486D-76E6-408A-B246-47EC940E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1C8A0-3180-4B61-AF23-A240412C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DA133-8D77-4D4D-9DE6-133CD9E0E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31809-16B2-499D-B865-26F82D981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4FCA9-BA1B-4CE4-BE48-F5B7DA900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F0A84-3088-402D-9EAC-40807FD6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D8A8E-734D-41FF-B7ED-922EED2D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EFFE-4C8F-40D6-BCBF-591F19C5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F96A5-2D6B-49B2-8077-89D0FB77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A7787-422F-48AF-8047-E987964E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ACD3B-DB54-477C-B363-34C53F45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F10A4-5748-4FB0-A914-D55CA317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8C34E-A494-4677-9432-47E2F715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01A34-80C8-4513-B5D0-2738D8CE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781A3-FB43-4CE6-87B6-209BD3AF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3E1BB-5F7E-44D4-A970-8CA127F64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2FB45-014F-4EFF-B6CC-8B11AC893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004EC-540D-4307-950B-DC3C01771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4FD4-289C-4706-A92D-180D8EFE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884A1-FE7A-41F1-A89C-046BD2F8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87952-2C56-4C89-9522-3C1241EF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AE75C-62BB-4F22-BD6F-889E2885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41122-8987-4CFB-BE50-EE3BC105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BDCB5-2057-4791-8B7B-27BD1E34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9C0CA-A65C-48E4-ADA5-160AFEAB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64D8D-8E25-43C5-9482-D8DDED63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CF9BB-F817-4F1B-936A-1305ADCB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EF4F2-0683-4F69-BDD6-6B24918B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0C182-CF06-420A-BCDD-95792061A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6805-7113-40ED-B92A-AA723AEB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166E6-BBBE-4DAA-B128-A4BB6308C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271A3-E171-4450-894D-77213E336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19B13-1C6C-4311-8681-42986348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5811A-5E46-4E13-B4FD-E3A1E682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F174E-BE2D-447D-A526-92E57E5E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9CFF0-0893-4250-8BE1-B8D4F9CE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40AFC-B5BF-4E66-B182-946AB04D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AFC0A-DBF0-4DFB-80F8-17897E62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43A1B-E282-45A9-AC3D-E73B2D75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F10DA-CF41-4A2C-8252-FF5BCEBC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5399-FBF2-4DB3-B276-76E325D6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8EE46-5A16-4634-8487-DDCF5C74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F4BAF-D4CA-4684-8609-93EC19553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C9960-1FB0-48DA-8499-41A8D63E1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D518F-4936-4D69-996D-1875D503E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22654-7780-4005-93B4-FC5B7303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3BB38-E4EF-49DD-B333-BD020E4E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88632-5883-4C56-A7E8-3C2601E3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488D7-0E02-4A79-9CC6-5723665D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C6D48-8204-4296-B39B-5620CF1A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BEAF9-BEEC-4A51-BB53-34BB5FAF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8AEF-19A6-4A36-A713-108B1FF5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32BA7-CF4F-420A-A406-742C8139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5B8B4-FDCF-4867-9329-3C9C7CD4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F4C7A-298C-4870-8F77-8E8C9881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DFFA8-E40C-4236-B318-78BCE36D2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A53D8-7A97-4829-94CA-C80677584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B39B3-FB39-45A8-A029-ACFD8E7AC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C6BD3-986C-47A2-93C0-203F0E377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D73AF-9ABA-4297-B22F-AF244F9A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A777D-1E2C-49B9-8B7A-62BCBB1B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60654-DA5C-4965-B7E0-BECE46DE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39E7-EA0F-4526-B3C4-C5698BDB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56A7F-37A6-4ADF-8A4D-83A431AE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96FBF-3012-4D92-82C7-7796B401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76A9E-D7EE-492C-84EE-F8CC84D2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80580-5EF8-4BD8-A087-C8F8E914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03969-C45C-4912-A850-44C36C44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3C8CD-3D60-4069-8315-788E3FC9F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F98D2-84EF-4A34-8963-A41C30267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B6B194-E3C2-4439-A50F-A702F8D20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88845B-5CD9-4D41-BA2E-1EA766E1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FE6F7C-F430-49C5-ABC8-456F6FE1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8433-F43F-4C66-9BD9-F713A7CFCE7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662C-B041-474B-87CD-78318789C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993E-AE58-4A91-A230-2C0C082CDBAA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3ACE-CD56-4671-AFEC-D0294A9C0ECC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FB22-E398-4F39-BA06-87CC7074EFC3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169D-0323-447E-8226-982BD3DAE82C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8E10-F2D3-4261-B289-630A35284D1B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0143-C34C-482A-8E06-217DB62D7CFA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C1C4-8070-4177-97AC-DA403595A96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D893-EE35-4874-8AE5-27A02EE69BB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2A81-EF2C-4884-BD84-E259FA7EBA10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F94E-CB8B-45FB-B747-7A4B20A594C1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7AA9-2235-4F5D-A3AB-2AF1F03BE9A5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0600-E7A0-4B9A-9856-BD097A06F17A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98FC-D11F-4CB6-BE4B-E2CF526ECBBC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5FFD-3B52-4E2F-95AF-C989D684FE35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5EF8-831C-4DA0-837E-CB068CB487CC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A9C0-33A4-461C-BF22-6A3F68A793EC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8B86-8343-487A-B3EE-CB7C2537060B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3806-42A5-4C1E-8EBB-464540A215F7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1078-D9B9-473E-B86F-5F42CBA09D65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683C-A576-4AAC-8F54-733A9241D77A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75BE-08E3-44E9-A733-A9E12E8D6FC6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F134-7EF5-4C85-BE46-0BCCA2631DF8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图片 2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3" name=""/>
          <p:cNvGraphicFramePr/>
          <p:nvPr/>
        </p:nvGraphicFramePr>
        <p:xfrm>
          <a:off x="5791320" y="457200"/>
          <a:ext cx="2965320" cy="485640"/>
        </p:xfrm>
        <a:graphic>
          <a:graphicData uri="http://schemas.openxmlformats.org/drawingml/2006/table">
            <a:tbl>
              <a:tblPr/>
              <a:tblGrid>
                <a:gridCol w="2965320"/>
              </a:tblGrid>
              <a:tr h="485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Unit 2  Colou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4" name="Rectangle 6"/>
          <p:cNvSpPr/>
          <p:nvPr/>
        </p:nvSpPr>
        <p:spPr>
          <a:xfrm>
            <a:off x="4724280" y="1523880"/>
            <a:ext cx="39290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第五课时</a:t>
            </a:r>
            <a:endParaRPr b="0" lang="en-US" sz="7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48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3"/>
          <p:cNvSpPr/>
          <p:nvPr/>
        </p:nvSpPr>
        <p:spPr>
          <a:xfrm>
            <a:off x="228600" y="3049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What’s missing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0" name="Oval 4"/>
          <p:cNvSpPr/>
          <p:nvPr/>
        </p:nvSpPr>
        <p:spPr>
          <a:xfrm>
            <a:off x="4191120" y="1828800"/>
            <a:ext cx="914400" cy="9144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1" name="Oval 5"/>
          <p:cNvSpPr/>
          <p:nvPr/>
        </p:nvSpPr>
        <p:spPr>
          <a:xfrm>
            <a:off x="2895480" y="3505320"/>
            <a:ext cx="990720" cy="9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2" name="Oval 6"/>
          <p:cNvSpPr/>
          <p:nvPr/>
        </p:nvSpPr>
        <p:spPr>
          <a:xfrm>
            <a:off x="6248520" y="327672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3" name="Oval 7"/>
          <p:cNvSpPr/>
          <p:nvPr/>
        </p:nvSpPr>
        <p:spPr>
          <a:xfrm>
            <a:off x="1295280" y="175248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4" name="Oval 8"/>
          <p:cNvSpPr/>
          <p:nvPr/>
        </p:nvSpPr>
        <p:spPr>
          <a:xfrm>
            <a:off x="4876920" y="4952880"/>
            <a:ext cx="1143000" cy="1067040"/>
          </a:xfrm>
          <a:prstGeom prst="ellipse">
            <a:avLst/>
          </a:prstGeom>
          <a:solidFill>
            <a:srgbClr val="ed90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5" name="Oval 9"/>
          <p:cNvSpPr/>
          <p:nvPr/>
        </p:nvSpPr>
        <p:spPr>
          <a:xfrm>
            <a:off x="838080" y="3276720"/>
            <a:ext cx="914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6" name="Oval 10"/>
          <p:cNvSpPr/>
          <p:nvPr/>
        </p:nvSpPr>
        <p:spPr>
          <a:xfrm>
            <a:off x="1371600" y="4952880"/>
            <a:ext cx="990720" cy="9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58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3"/>
          <p:cNvSpPr/>
          <p:nvPr/>
        </p:nvSpPr>
        <p:spPr>
          <a:xfrm>
            <a:off x="228600" y="3049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What’s missing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0" name="Oval 4"/>
          <p:cNvSpPr/>
          <p:nvPr/>
        </p:nvSpPr>
        <p:spPr>
          <a:xfrm>
            <a:off x="4191120" y="1828800"/>
            <a:ext cx="914400" cy="9144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1" name="Oval 5"/>
          <p:cNvSpPr/>
          <p:nvPr/>
        </p:nvSpPr>
        <p:spPr>
          <a:xfrm>
            <a:off x="2895480" y="3505320"/>
            <a:ext cx="990720" cy="9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2" name="Oval 6"/>
          <p:cNvSpPr/>
          <p:nvPr/>
        </p:nvSpPr>
        <p:spPr>
          <a:xfrm>
            <a:off x="6248520" y="327672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3" name="Oval 7"/>
          <p:cNvSpPr/>
          <p:nvPr/>
        </p:nvSpPr>
        <p:spPr>
          <a:xfrm>
            <a:off x="1295280" y="175248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4" name="Oval 8"/>
          <p:cNvSpPr/>
          <p:nvPr/>
        </p:nvSpPr>
        <p:spPr>
          <a:xfrm>
            <a:off x="4876920" y="4952880"/>
            <a:ext cx="1143000" cy="1067040"/>
          </a:xfrm>
          <a:prstGeom prst="ellipse">
            <a:avLst/>
          </a:prstGeom>
          <a:solidFill>
            <a:srgbClr val="ed90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5" name="Oval 9"/>
          <p:cNvSpPr/>
          <p:nvPr/>
        </p:nvSpPr>
        <p:spPr>
          <a:xfrm>
            <a:off x="838080" y="3276720"/>
            <a:ext cx="914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6" name="Oval 10"/>
          <p:cNvSpPr/>
          <p:nvPr/>
        </p:nvSpPr>
        <p:spPr>
          <a:xfrm>
            <a:off x="1371600" y="4952880"/>
            <a:ext cx="990720" cy="9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8" name="Picture 6" descr="[wall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7"/>
          <p:cNvSpPr/>
          <p:nvPr/>
        </p:nvSpPr>
        <p:spPr>
          <a:xfrm>
            <a:off x="4038480" y="85680"/>
            <a:ext cx="5105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Arial"/>
              </a:rPr>
              <a:t>One purple flower.</a:t>
            </a: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wo yellow bees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Three little blue bi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high in the sky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Four little brown  deer   smiling at me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ve little black fish               swimming in the sea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1" name="Picture 6" descr="卡通绿色风景背景，绿色PPT背景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2"/>
          <p:cNvSpPr/>
          <p:nvPr/>
        </p:nvSpPr>
        <p:spPr>
          <a:xfrm>
            <a:off x="1066680" y="2590920"/>
            <a:ext cx="655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3" name="WordArt 4"/>
          <p:cNvSpPr txBox="1"/>
          <p:nvPr/>
        </p:nvSpPr>
        <p:spPr>
          <a:xfrm>
            <a:off x="1371600" y="990720"/>
            <a:ext cx="6400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Homework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380880" y="3209400"/>
            <a:ext cx="8305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. Listen to and repeat “Let’s learn”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.Draw a picture and describe it to your parents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矩形 7"/>
          <p:cNvSpPr/>
          <p:nvPr/>
        </p:nvSpPr>
        <p:spPr>
          <a:xfrm>
            <a:off x="1143000" y="33177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97" name="Picture 7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98" name="Text Box 4"/>
          <p:cNvSpPr/>
          <p:nvPr/>
        </p:nvSpPr>
        <p:spPr>
          <a:xfrm>
            <a:off x="609480" y="3808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Guess 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304920" y="114300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an you guess my favourite colour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00" name="Picture 6" descr="DSC02925"/>
          <p:cNvPicPr/>
          <p:nvPr/>
        </p:nvPicPr>
        <p:blipFill>
          <a:blip r:embed="rId2"/>
          <a:srcRect l="23000" t="11974" r="38670" b="7648"/>
          <a:stretch/>
        </p:blipFill>
        <p:spPr>
          <a:xfrm>
            <a:off x="2631960" y="2666880"/>
            <a:ext cx="23209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02" name="Picture 2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grpSp>
        <p:nvGrpSpPr>
          <p:cNvPr id="503" name="Group 13"/>
          <p:cNvGrpSpPr/>
          <p:nvPr/>
        </p:nvGrpSpPr>
        <p:grpSpPr>
          <a:xfrm>
            <a:off x="1143000" y="3581280"/>
            <a:ext cx="6781680" cy="1313280"/>
            <a:chOff x="1143000" y="3581280"/>
            <a:chExt cx="6781680" cy="1313280"/>
          </a:xfrm>
        </p:grpSpPr>
        <p:sp>
          <p:nvSpPr>
            <p:cNvPr id="504" name="Oval 4"/>
            <p:cNvSpPr/>
            <p:nvPr/>
          </p:nvSpPr>
          <p:spPr>
            <a:xfrm>
              <a:off x="1143000" y="3581280"/>
              <a:ext cx="1371600" cy="1219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05" name="Text Box 5"/>
            <p:cNvSpPr/>
            <p:nvPr/>
          </p:nvSpPr>
          <p:spPr>
            <a:xfrm>
              <a:off x="2971800" y="3733920"/>
              <a:ext cx="914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 Black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06" name="Oval 6"/>
            <p:cNvSpPr/>
            <p:nvPr/>
          </p:nvSpPr>
          <p:spPr>
            <a:xfrm>
              <a:off x="4038480" y="3657600"/>
              <a:ext cx="1219320" cy="1219320"/>
            </a:xfrm>
            <a:prstGeom prst="ellipse">
              <a:avLst/>
            </a:prstGeom>
            <a:solidFill>
              <a:srgbClr val="d5f22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07" name="Text Box 7"/>
            <p:cNvSpPr/>
            <p:nvPr/>
          </p:nvSpPr>
          <p:spPr>
            <a:xfrm>
              <a:off x="5562720" y="3886200"/>
              <a:ext cx="914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 Black"/>
                </a:rPr>
                <a:t>=</a:t>
              </a:r>
              <a:endParaRPr b="0" lang="en-US" sz="6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508" name="Group 11"/>
            <p:cNvGrpSpPr/>
            <p:nvPr/>
          </p:nvGrpSpPr>
          <p:grpSpPr>
            <a:xfrm>
              <a:off x="6705720" y="3657600"/>
              <a:ext cx="1218960" cy="1219320"/>
              <a:chOff x="6705720" y="3657600"/>
              <a:chExt cx="1218960" cy="1219320"/>
            </a:xfrm>
          </p:grpSpPr>
          <p:sp>
            <p:nvSpPr>
              <p:cNvPr id="509" name="Oval 8"/>
              <p:cNvSpPr/>
              <p:nvPr/>
            </p:nvSpPr>
            <p:spPr>
              <a:xfrm>
                <a:off x="6705720" y="3657600"/>
                <a:ext cx="1218960" cy="1219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10" name="Text Box 10"/>
              <p:cNvSpPr/>
              <p:nvPr/>
            </p:nvSpPr>
            <p:spPr>
              <a:xfrm>
                <a:off x="6934320" y="3794040"/>
                <a:ext cx="9144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6000" spc="-1" strike="noStrike">
                    <a:solidFill>
                      <a:srgbClr val="000000"/>
                    </a:solidFill>
                    <a:latin typeface="Arial Black"/>
                  </a:rPr>
                  <a:t>？</a:t>
                </a:r>
                <a:endParaRPr b="0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511" name="Text Box 14"/>
          <p:cNvSpPr/>
          <p:nvPr/>
        </p:nvSpPr>
        <p:spPr>
          <a:xfrm>
            <a:off x="1295280" y="121932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My favourite colou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2" name="Oval 23"/>
          <p:cNvSpPr/>
          <p:nvPr/>
        </p:nvSpPr>
        <p:spPr>
          <a:xfrm>
            <a:off x="6705720" y="3657600"/>
            <a:ext cx="1218960" cy="1219320"/>
          </a:xfrm>
          <a:prstGeom prst="ellipse">
            <a:avLst/>
          </a:prstGeom>
          <a:solidFill>
            <a:srgbClr val="ed90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3" name="Text Box 24"/>
          <p:cNvSpPr/>
          <p:nvPr/>
        </p:nvSpPr>
        <p:spPr>
          <a:xfrm>
            <a:off x="5638680" y="54864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15" name="Picture 7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4"/>
          <p:cNvSpPr/>
          <p:nvPr/>
        </p:nvSpPr>
        <p:spPr>
          <a:xfrm>
            <a:off x="4038480" y="2209680"/>
            <a:ext cx="38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d9013"/>
                </a:solidFill>
                <a:latin typeface="Arial Black"/>
              </a:rPr>
              <a:t>or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7" name="Oval 5"/>
          <p:cNvSpPr/>
          <p:nvPr/>
        </p:nvSpPr>
        <p:spPr>
          <a:xfrm>
            <a:off x="1219320" y="2438280"/>
            <a:ext cx="1295280" cy="1219320"/>
          </a:xfrm>
          <a:prstGeom prst="ellipse">
            <a:avLst/>
          </a:prstGeom>
          <a:solidFill>
            <a:srgbClr val="ed90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8" name="Text Box 6"/>
          <p:cNvSpPr/>
          <p:nvPr/>
        </p:nvSpPr>
        <p:spPr>
          <a:xfrm>
            <a:off x="4114800" y="35812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d9013"/>
                </a:solidFill>
                <a:latin typeface="Arial Black"/>
              </a:rPr>
              <a:t>o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1" lang="en-US" sz="4000" spc="-1" strike="noStrike">
                <a:solidFill>
                  <a:srgbClr val="ed9013"/>
                </a:solidFill>
                <a:latin typeface="Arial Black"/>
              </a:rPr>
              <a:t>r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1" lang="en-US" sz="4000" spc="-1" strike="noStrike">
                <a:solidFill>
                  <a:srgbClr val="ed9013"/>
                </a:solidFill>
                <a:latin typeface="Arial Black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1" lang="en-US" sz="4000" spc="-1" strike="noStrike">
                <a:solidFill>
                  <a:srgbClr val="ed9013"/>
                </a:solidFill>
                <a:latin typeface="Arial Black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1" lang="en-US" sz="4000" spc="-1" strike="noStrike">
                <a:solidFill>
                  <a:srgbClr val="ed9013"/>
                </a:solidFill>
                <a:latin typeface="Arial Black"/>
              </a:rPr>
              <a:t>g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1" lang="en-US" sz="4000" spc="-1" strike="noStrike">
                <a:solidFill>
                  <a:srgbClr val="ed9013"/>
                </a:solidFill>
                <a:latin typeface="Arial Black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20" name="Picture 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7" descr="1293550109"/>
          <p:cNvPicPr/>
          <p:nvPr/>
        </p:nvPicPr>
        <p:blipFill>
          <a:blip r:embed="rId2"/>
          <a:srcRect l="6982" t="11522" r="0" b="24278"/>
          <a:stretch/>
        </p:blipFill>
        <p:spPr>
          <a:xfrm>
            <a:off x="2057400" y="917640"/>
            <a:ext cx="5334120" cy="5208480"/>
          </a:xfrm>
          <a:prstGeom prst="rect">
            <a:avLst/>
          </a:prstGeom>
          <a:ln w="0">
            <a:noFill/>
          </a:ln>
        </p:spPr>
      </p:pic>
      <p:sp>
        <p:nvSpPr>
          <p:cNvPr id="522" name="Text Box 8"/>
          <p:cNvSpPr/>
          <p:nvPr/>
        </p:nvSpPr>
        <p:spPr>
          <a:xfrm>
            <a:off x="533520" y="53352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Colour i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24" name="Picture 4" descr="snow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5"/>
          <p:cNvSpPr/>
          <p:nvPr/>
        </p:nvSpPr>
        <p:spPr>
          <a:xfrm>
            <a:off x="762120" y="1295280"/>
            <a:ext cx="723888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colour is the snow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6" name="Text Box 6"/>
          <p:cNvSpPr/>
          <p:nvPr/>
        </p:nvSpPr>
        <p:spPr>
          <a:xfrm>
            <a:off x="2209680" y="2971800"/>
            <a:ext cx="31244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t’s white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28" name="Picture 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2"/>
          <p:cNvSpPr/>
          <p:nvPr/>
        </p:nvSpPr>
        <p:spPr>
          <a:xfrm>
            <a:off x="4343400" y="2209680"/>
            <a:ext cx="190512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hi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0" name="Oval 3"/>
          <p:cNvSpPr/>
          <p:nvPr/>
        </p:nvSpPr>
        <p:spPr>
          <a:xfrm>
            <a:off x="1219320" y="2438280"/>
            <a:ext cx="129528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4114800" y="3581280"/>
            <a:ext cx="251460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-h-i-t-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3" name="Picture 7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34" name="Oval 4"/>
          <p:cNvSpPr/>
          <p:nvPr/>
        </p:nvSpPr>
        <p:spPr>
          <a:xfrm>
            <a:off x="990720" y="2286000"/>
            <a:ext cx="1295280" cy="12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4267080" y="2209680"/>
            <a:ext cx="1905120" cy="7034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blac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4114800" y="3581280"/>
            <a:ext cx="38098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b-l-a-c-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8" name="Picture 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4"/>
          <p:cNvSpPr/>
          <p:nvPr/>
        </p:nvSpPr>
        <p:spPr>
          <a:xfrm>
            <a:off x="228600" y="3049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What’s missing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0" name="Oval 6"/>
          <p:cNvSpPr/>
          <p:nvPr/>
        </p:nvSpPr>
        <p:spPr>
          <a:xfrm>
            <a:off x="4191120" y="1828800"/>
            <a:ext cx="914400" cy="9144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1" name="Oval 7"/>
          <p:cNvSpPr/>
          <p:nvPr/>
        </p:nvSpPr>
        <p:spPr>
          <a:xfrm>
            <a:off x="2895480" y="3505320"/>
            <a:ext cx="990720" cy="9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2" name="Oval 8"/>
          <p:cNvSpPr/>
          <p:nvPr/>
        </p:nvSpPr>
        <p:spPr>
          <a:xfrm>
            <a:off x="6248520" y="327672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3" name="Oval 9"/>
          <p:cNvSpPr/>
          <p:nvPr/>
        </p:nvSpPr>
        <p:spPr>
          <a:xfrm>
            <a:off x="1295280" y="175248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4" name="Oval 10"/>
          <p:cNvSpPr/>
          <p:nvPr/>
        </p:nvSpPr>
        <p:spPr>
          <a:xfrm>
            <a:off x="4876920" y="4952880"/>
            <a:ext cx="1143000" cy="1067040"/>
          </a:xfrm>
          <a:prstGeom prst="ellipse">
            <a:avLst/>
          </a:prstGeom>
          <a:solidFill>
            <a:srgbClr val="ed90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5" name="Oval 11"/>
          <p:cNvSpPr/>
          <p:nvPr/>
        </p:nvSpPr>
        <p:spPr>
          <a:xfrm>
            <a:off x="838080" y="3276720"/>
            <a:ext cx="914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6" name="Oval 12"/>
          <p:cNvSpPr/>
          <p:nvPr/>
        </p:nvSpPr>
        <p:spPr>
          <a:xfrm>
            <a:off x="1371600" y="4952880"/>
            <a:ext cx="990720" cy="9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第一PPT模板网-WWW.1PPT.COM</dc:creator>
  <dc:description>第一PPT模板网-WWW.1PPT.COM
</dc:description>
  <cp:keywords>第一PPT模板网-WWW.1PPT.COM</cp:keywords>
  <dc:language>en-US</dc:language>
  <cp:lastModifiedBy>admin</cp:lastModifiedBy>
  <dcterms:modified xsi:type="dcterms:W3CDTF">2015-01-26T08:37:32Z</dcterms:modified>
  <cp:revision>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