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chimes.wav" ContentType="audio/x-wav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BFE-398B-4DB5-AB3F-DBDBF857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3F0-120C-4B6C-9EF0-1E8FC8C0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E332E-600E-471E-9EBA-A19F9C17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0DA3F-5D90-42C2-9447-D8279BC5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9A00A-BB3C-4F3B-9E94-09FB96A1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DAF3B-F636-4B95-9587-88097D83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D062C-6027-409C-8E84-A99B27B4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AF2DF-9D30-4157-A68B-BA1CDF80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DA319-35CF-410F-AE79-C358A20A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292AE-3C72-411E-BF63-B6364AA3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F937E-9249-4C50-9714-6F9E4466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5E82B-46F2-4BE1-8F5A-A0D0974B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8F2-8B54-4A04-95F6-B18F3100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E1E86-6897-4C65-BC3A-F7C43B0D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F77D5-D566-49B8-B6C1-741C51D0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B5AE1-8D33-4A12-A92E-9A3367EC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E8D96-1380-4DE6-A93B-401E4540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BB52E-A9CE-4DCC-9D34-A67A2143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43F77-420B-4466-9493-91965E75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B1860-3796-4F45-9A9E-B20B8F31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47FC7-FB12-476E-9F28-B420035C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16ED0-5771-4808-AD56-4979639A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90607-F001-4A4C-A4E6-DD216285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578-B620-4947-AC5D-5E0FC977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18916-5189-4A63-BA10-60DDE85A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DB473-3382-4C48-93D3-95C1DF8F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77DBB-DF62-4B12-A219-CF7E7218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7667D-EA22-4EDE-A305-F625D237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950A8-A35C-45A8-8DC9-BAB06389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2FBE7-0548-4615-83E7-068C03AB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2B737-8152-4700-A720-2AF4EFB0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2C2F0-3CCB-4983-AEAE-60A4802F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B370F-C02F-4602-B4AF-C3C53E07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27512-A605-4DE9-9175-3D6F1978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0C90-6CA9-4A3B-B197-84185AD8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CA949-2738-4002-889A-EBD194EF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E573A-56BB-45D3-B3D6-99BEBFEE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881DF-A070-467D-BE3D-6DCFF651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994FB-76C5-42A0-A7E8-F652AAB4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802D5-4840-46CB-BEDB-448B9323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32D69-E1D0-4103-8F6E-D1E51DE6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29182-ED65-4346-9C98-DBBC9F24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14C09-BA89-4DE5-A602-77FA396A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336FD-45B8-4444-9748-C88CA8A4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9FE22-9685-412E-9B2F-7C01CE6E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4444-48A0-46CC-BBAD-6CB9C9E5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830F5-5F67-4B76-A029-ADBE180A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32D31-2683-4BBE-A7CB-0AE3ACE1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4B28B-D78F-4AD2-BB53-C5F39AF4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9C439-6EEF-4F28-85F2-A82FA8DC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2C1CF-34E4-4A39-B8FA-D50CBA56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F55B-004F-40F5-AF7A-4B26B051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9F78-32B5-4C99-97AA-559E5332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295A-CF51-477E-BAE1-550889F6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3053-DA2E-44FC-9A0C-7A18C289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3C6F-E9B1-4AF6-9AFB-EEB8F79D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2DB-F9FD-4F93-8737-53B39663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64E6-D3AC-4BAA-B152-10AA0A17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B406-B569-4045-BBBC-9F9E4EE4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60BF-0403-46E9-A78A-C0745856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4784-A97B-427B-B477-127A2EEC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6274-90C4-4491-B16F-AAF2012C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EBA25-C3A2-4794-B2C3-873C289F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76F0E-DB82-4A5D-AF47-8F93271D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7799A-3955-4D6F-AA5D-A37CF477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E9204-288E-4E55-A465-455DAC77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004D2-8E69-477E-92DA-CC2A7CCC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78AB-4417-465C-B517-CCAF88C1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6392E-439D-4EAC-BDDF-FFE163A6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15E52-9BB9-47EE-B689-F2C098DD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F11A8-F65A-4E7E-A455-652EEA14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BEE97-1F06-417F-B6B7-F7A86C81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05AA-004C-403F-ABAC-C064857D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301B0-6423-4699-A5CE-5289B281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755E6-0259-4872-B689-697DB8F1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0FC40-B0BF-42A1-AC47-74C0A179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C20D4-7726-48BD-BBE0-84C0E702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1509A-A6FA-4A7F-80AA-DB6A9067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977C-BB94-4F39-8656-3645751A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CB610-3340-4EA5-908F-B0A837A7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1998B-350C-40B9-A227-8CE1B399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01CAF-86D5-4F81-BE67-876C1CCA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71DA5-D2B4-4DA7-9F2D-31EFE14E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B91D6-8663-45AE-9A47-08C43A1D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35118-DC15-477E-8C2D-7E72B821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2C7E2-E27B-445D-8D79-73B1B675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51278-F744-4EC9-8107-EDBA4C1E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8249F-DA28-4421-AD45-42CBD0DA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9A1BC-B958-461A-94F7-02B60EB4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1DB-9D58-431E-A83E-BCB4E348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D10E3-F6C6-4AC4-A783-F24966C7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134C9-00FB-4735-A734-BCCF52FE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79CAC-552D-40CE-B2D8-4867960C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762A5-C178-4D7B-9365-622DFDE3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6527F-1665-4679-805C-B535E5F6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C6212-1D73-4B5C-B32B-8D4E7130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4E008-CFD8-4ABF-AE9C-138962FE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B7D66-D972-4DC6-B051-CA4F4500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0BDC8-EC85-40A2-B592-5C7123ED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128BD-A63B-48CF-AD47-D824DF3C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53E6-9A92-41F3-814A-58DD79A0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9570D-B292-45B1-A24B-849D725B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45126-3628-486B-B197-7AFB0708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261EC-FA8A-47C5-BA73-781E035A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485F6-BBAA-423C-8DA9-83C98DFF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C8096-B7D9-4581-A073-8EB06E14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FE814-7942-4616-923D-2EDD4784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0AA17-63D7-46E1-B2F8-F61D2787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9229E-7336-413A-97BB-34488994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61150-469C-489D-A74D-1ABE7F5C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3B431-BDB0-49B4-9752-DCB74E2F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4778-D0D1-4B7B-8EA8-B53E1D67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0E17E-C833-48A2-BD65-4C96C317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44774-CBFC-472F-AD2D-9D6A278D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30FB8-D853-4E04-B42C-F65E0ED1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8A9CF-D587-470E-B8C2-6D788E28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40D25-6459-45EC-B976-3055E505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D9AB9-985C-4EEE-8658-90A96DDA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6ABF4-ECA6-4642-B91D-C60937C0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3A507-BFA7-406A-B34C-C04B356A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B0AF0-F6FB-4336-BEA6-5D47D2BD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29516-81BE-4771-883E-E5BA4E7E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4744-F4FD-44FF-897B-7CEA2C4C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82A8A-CAD9-4207-B71A-7DE9B237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92C47-3BB1-4C79-81AD-C6084837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09CBF-92B1-4328-8195-28B3F4F1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BA657-B0E1-4E6F-9C86-B106513D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205F1-EBA5-42EB-8950-50364FAE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9EBF4-74B8-416B-AD62-6551E3D0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637D2-B7F5-48BB-AA8F-B7121DFA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7F258-B568-4B95-B96D-7A7D5488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33250-768B-43BC-9C99-68F57C93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D41BA-181C-4BA1-99CD-5426A9AE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44E-3914-4EA8-B427-9DB902F7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9EDE6-413D-47A5-862F-E308B713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2EA46-1C32-4DA2-A9BE-66863C77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E337E-A1CE-48F2-A105-282071DF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D6D93-1971-4196-9019-2D35639F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941B8-ADCE-4505-B336-A196D32B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77F84-B223-4AB4-84FA-DFAF14EE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5DC5C-7D00-4B2D-B972-115ED66A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8A247-E5CD-4D05-B7CA-BA207716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91CBC-520B-469E-80B9-67928AFC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067E7-A577-4AAF-8A7C-1B33D1CC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C242-8210-4474-8061-C03B53B0EBF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7CBD-845E-40E5-AE0D-F8036ECE0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24A0-E95C-4813-93EF-06009D83DB7F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92FD-619F-4187-860F-4E0A4D279344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2F9E-D72D-4543-929A-E9397C1F3D29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F0D0-B854-4ABA-AE8A-2CC468E8DB07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3065-E323-4F0F-BA1E-58F384E747B6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5EE9-9593-4079-AD79-F4C4FD8FE3D8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4B7D-62F9-4D4C-BF3F-8D27A84F7A0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29DA-E070-4FB7-A3D5-3B32BB18C8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DEDA-8B92-4B68-B2F3-DAF76E7A84F9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5DE6-66D4-41FC-97E0-90C11E49D725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F522-2540-41BF-907B-500525BCC666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BBF5-5FF0-4A79-A898-199E23D8679C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3AF5-8E50-4D27-899A-BF35331F3821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135C-7B6B-44BF-A1E7-C9C80509A868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2BFA-9239-4A4F-917C-E964FA131E15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230E-5937-4ADB-B7AD-20000C05D0E0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F883-FA9F-4ED4-8639-7B79994A4C74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ABB8-F700-43F2-B164-A47878EE9927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894C-1FF9-4F50-886B-D0954905DB15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55AC-681F-4497-88A6-2C16C8235ECB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DD39-BE5D-410D-B29D-4F6450F4DC41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8985-E41F-4BF6-89DD-574D5BF38099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2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3" name=""/>
          <p:cNvGraphicFramePr/>
          <p:nvPr/>
        </p:nvGraphicFramePr>
        <p:xfrm>
          <a:off x="5791320" y="457200"/>
          <a:ext cx="2965320" cy="485640"/>
        </p:xfrm>
        <a:graphic>
          <a:graphicData uri="http://schemas.openxmlformats.org/drawingml/2006/table">
            <a:tbl>
              <a:tblPr/>
              <a:tblGrid>
                <a:gridCol w="2965320"/>
              </a:tblGrid>
              <a:tr h="48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2  Col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Rectangle 6"/>
          <p:cNvSpPr/>
          <p:nvPr/>
        </p:nvSpPr>
        <p:spPr>
          <a:xfrm>
            <a:off x="4724280" y="1523880"/>
            <a:ext cx="39290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第五课时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Oval 4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1" name="Oval 5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Oval 6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3" name="Oval 7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Oval 8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5" name="Oval 9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Oval 10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Oval 5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2" name="Oval 6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3" name="Oval 7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4" name="Oval 8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5" name="Oval 9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6" name="Oval 10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8" name="Picture 6" descr="[wall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7"/>
          <p:cNvSpPr/>
          <p:nvPr/>
        </p:nvSpPr>
        <p:spPr>
          <a:xfrm>
            <a:off x="4038480" y="85680"/>
            <a:ext cx="510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One purple flower.</a:t>
            </a: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wo yellow bees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Three little blue bi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high in the sky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Four little brown  deer   smiling at me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ve little black fish               swimming in the sea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1" name="Picture 6" descr="卡通绿色风景背景，绿色PPT背景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2"/>
          <p:cNvSpPr/>
          <p:nvPr/>
        </p:nvSpPr>
        <p:spPr>
          <a:xfrm>
            <a:off x="1066680" y="259092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3" name="WordArt 4"/>
          <p:cNvSpPr txBox="1"/>
          <p:nvPr/>
        </p:nvSpPr>
        <p:spPr>
          <a:xfrm>
            <a:off x="1371600" y="990720"/>
            <a:ext cx="6400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Homework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380880" y="32094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. Listen to and repeat “Let’s learn”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.Draw a picture and describe it to your parent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7"/>
          <p:cNvSpPr/>
          <p:nvPr/>
        </p:nvSpPr>
        <p:spPr>
          <a:xfrm>
            <a:off x="1143000" y="33177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7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4"/>
          <p:cNvSpPr/>
          <p:nvPr/>
        </p:nvSpPr>
        <p:spPr>
          <a:xfrm>
            <a:off x="609480" y="380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Guess 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304920" y="11430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n you guess my favourite colour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0" name="Picture 6" descr="DSC02925"/>
          <p:cNvPicPr/>
          <p:nvPr/>
        </p:nvPicPr>
        <p:blipFill>
          <a:blip r:embed="rId2"/>
          <a:srcRect l="23000" t="11974" r="38670" b="7648"/>
          <a:stretch/>
        </p:blipFill>
        <p:spPr>
          <a:xfrm>
            <a:off x="2631960" y="2666880"/>
            <a:ext cx="232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2" name="Picture 2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grpSp>
        <p:nvGrpSpPr>
          <p:cNvPr id="503" name="Group 13"/>
          <p:cNvGrpSpPr/>
          <p:nvPr/>
        </p:nvGrpSpPr>
        <p:grpSpPr>
          <a:xfrm>
            <a:off x="1143000" y="3581280"/>
            <a:ext cx="6781680" cy="1313280"/>
            <a:chOff x="1143000" y="3581280"/>
            <a:chExt cx="6781680" cy="1313280"/>
          </a:xfrm>
        </p:grpSpPr>
        <p:sp>
          <p:nvSpPr>
            <p:cNvPr id="504" name="Oval 4"/>
            <p:cNvSpPr/>
            <p:nvPr/>
          </p:nvSpPr>
          <p:spPr>
            <a:xfrm>
              <a:off x="1143000" y="3581280"/>
              <a:ext cx="1371600" cy="1219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5" name="Text Box 5"/>
            <p:cNvSpPr/>
            <p:nvPr/>
          </p:nvSpPr>
          <p:spPr>
            <a:xfrm>
              <a:off x="2971800" y="373392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6" name="Oval 6"/>
            <p:cNvSpPr/>
            <p:nvPr/>
          </p:nvSpPr>
          <p:spPr>
            <a:xfrm>
              <a:off x="4038480" y="3657600"/>
              <a:ext cx="1219320" cy="1219320"/>
            </a:xfrm>
            <a:prstGeom prst="ellipse">
              <a:avLst/>
            </a:prstGeom>
            <a:solidFill>
              <a:srgbClr val="d5f2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7" name="Text Box 7"/>
            <p:cNvSpPr/>
            <p:nvPr/>
          </p:nvSpPr>
          <p:spPr>
            <a:xfrm>
              <a:off x="5562720" y="388620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 Black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508" name="Group 11"/>
            <p:cNvGrpSpPr/>
            <p:nvPr/>
          </p:nvGrpSpPr>
          <p:grpSpPr>
            <a:xfrm>
              <a:off x="6705720" y="3657600"/>
              <a:ext cx="1218960" cy="1219320"/>
              <a:chOff x="6705720" y="3657600"/>
              <a:chExt cx="1218960" cy="1219320"/>
            </a:xfrm>
          </p:grpSpPr>
          <p:sp>
            <p:nvSpPr>
              <p:cNvPr id="509" name="Oval 8"/>
              <p:cNvSpPr/>
              <p:nvPr/>
            </p:nvSpPr>
            <p:spPr>
              <a:xfrm>
                <a:off x="6705720" y="3657600"/>
                <a:ext cx="1218960" cy="1219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0" name="Text Box 10"/>
              <p:cNvSpPr/>
              <p:nvPr/>
            </p:nvSpPr>
            <p:spPr>
              <a:xfrm>
                <a:off x="6934320" y="3794040"/>
                <a:ext cx="9144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000000"/>
                    </a:solidFill>
                    <a:latin typeface="Arial Black"/>
                  </a:rPr>
                  <a:t>？</a:t>
                </a:r>
                <a:endParaRPr b="0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11" name="Text Box 14"/>
          <p:cNvSpPr/>
          <p:nvPr/>
        </p:nvSpPr>
        <p:spPr>
          <a:xfrm>
            <a:off x="1295280" y="12193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y favourite colo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Oval 23"/>
          <p:cNvSpPr/>
          <p:nvPr/>
        </p:nvSpPr>
        <p:spPr>
          <a:xfrm>
            <a:off x="6705720" y="3657600"/>
            <a:ext cx="1218960" cy="121932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Text Box 24"/>
          <p:cNvSpPr/>
          <p:nvPr/>
        </p:nvSpPr>
        <p:spPr>
          <a:xfrm>
            <a:off x="5638680" y="54864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5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4"/>
          <p:cNvSpPr/>
          <p:nvPr/>
        </p:nvSpPr>
        <p:spPr>
          <a:xfrm>
            <a:off x="4038480" y="220968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or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7" name="Oval 5"/>
          <p:cNvSpPr/>
          <p:nvPr/>
        </p:nvSpPr>
        <p:spPr>
          <a:xfrm>
            <a:off x="1219320" y="2438280"/>
            <a:ext cx="1295280" cy="121932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4114800" y="35812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g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0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1293550109"/>
          <p:cNvPicPr/>
          <p:nvPr/>
        </p:nvPicPr>
        <p:blipFill>
          <a:blip r:embed="rId2"/>
          <a:srcRect l="6982" t="11522" r="0" b="24278"/>
          <a:stretch/>
        </p:blipFill>
        <p:spPr>
          <a:xfrm>
            <a:off x="2057400" y="917640"/>
            <a:ext cx="5334120" cy="520848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8"/>
          <p:cNvSpPr/>
          <p:nvPr/>
        </p:nvSpPr>
        <p:spPr>
          <a:xfrm>
            <a:off x="533520" y="5335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Colour i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4" name="Picture 4" descr="snow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5"/>
          <p:cNvSpPr/>
          <p:nvPr/>
        </p:nvSpPr>
        <p:spPr>
          <a:xfrm>
            <a:off x="762120" y="1295280"/>
            <a:ext cx="72388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colour is the snow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2209680" y="2971800"/>
            <a:ext cx="3124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t’s white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2"/>
          <p:cNvSpPr/>
          <p:nvPr/>
        </p:nvSpPr>
        <p:spPr>
          <a:xfrm>
            <a:off x="4343400" y="2209680"/>
            <a:ext cx="1905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hi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Oval 3"/>
          <p:cNvSpPr/>
          <p:nvPr/>
        </p:nvSpPr>
        <p:spPr>
          <a:xfrm>
            <a:off x="1219320" y="2438280"/>
            <a:ext cx="129528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4114800" y="3581280"/>
            <a:ext cx="25146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-h-i-t-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3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4" name="Oval 4"/>
          <p:cNvSpPr/>
          <p:nvPr/>
        </p:nvSpPr>
        <p:spPr>
          <a:xfrm>
            <a:off x="990720" y="2286000"/>
            <a:ext cx="1295280" cy="12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4267080" y="2209680"/>
            <a:ext cx="1905120" cy="7034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4114800" y="3581280"/>
            <a:ext cx="3809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-l-a-c-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4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Oval 6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1" name="Oval 7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Oval 8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3" name="Oval 9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Oval 10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Oval 12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1-26T08:37:32Z</dcterms:modified>
  <cp:revision>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