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EB41-D528-417F-847D-F81B63E0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F3EE-2817-409B-941C-01460A3D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DBA5-5732-42B2-8F66-0AFC5121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0AB7-99B2-4496-A66E-8AC91E1F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9676-BF9C-462A-8540-06286727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07C-FF31-450D-A78C-27671222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0EE-8FDD-45DF-B507-70C845FD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231-D400-4B04-AA2B-233815C8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E31-4B61-4A20-865B-F47B5E34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9B98-F2BA-48BB-B973-FE76F1A0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A54A-CB72-4D51-B0D3-07454FB4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444-235C-4713-886E-39E6035A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A9BC-4304-4FB7-B7C5-E75C09010C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3532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373720"/>
            <a:ext cx="242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4071960" y="54957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500280" y="485784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283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2854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6426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354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711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069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26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7120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1997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3549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783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2354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5426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5640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5783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6T06:19:51Z</dcterms:modified>
  <cp:revision>117</cp:revision>
  <dc:subject/>
  <dc:title>幻灯片 1</dc:title>
</cp:coreProperties>
</file>