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D969-CD08-4557-B604-D3A93E36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5470-F81A-46C7-AA77-8C3BB193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C011-1456-4AAD-B3CC-39EF38A0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340F-35AE-4630-8450-B73C1F28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7E0A-AEA7-448E-BF3F-5ECA0743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857B-496B-4A84-847D-81C093F8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5AE8-1F00-41F1-8467-93771647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423A-1CF3-4A7B-949D-F2697F6A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EE23-253A-4ED0-BD0D-DC619EE7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82E0-8463-4AA1-9B8C-549A5DCC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715B-230F-4705-90CB-3E53D71E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C535-5BC4-45EB-A9A3-8D73545A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5C37-77E3-4475-9A37-9952DDEF07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714840" y="535320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373720"/>
            <a:ext cx="2428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4"/>
          <p:cNvSpPr/>
          <p:nvPr/>
        </p:nvSpPr>
        <p:spPr>
          <a:xfrm>
            <a:off x="4071960" y="54957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3500280" y="485784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42836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2854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6426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43549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37119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926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069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266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7120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854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640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3549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1997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6355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43549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41407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7835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42120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5997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3140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9977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497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5069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5926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3783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3140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2354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2497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5426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56408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24976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28548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5783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5712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2-26T06:19:51Z</dcterms:modified>
  <cp:revision>117</cp:revision>
  <dc:subject/>
  <dc:title>幻灯片 1</dc:title>
</cp:coreProperties>
</file>