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2F6-BB00-4599-8654-ED84E033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BBB-9A26-45D7-ABE3-27A9F45A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658-D940-4DE2-9907-5431D173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F57-D40C-499A-9C36-AFD0DF43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8CD-081B-434B-90AC-DED26DE4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48A-7754-4DE4-9535-ED1545D5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B3A-0CF8-4D81-BDD1-C61C3911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ED2-2A73-4CC3-9290-5F3A6614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8AF-3A81-4EF4-A89E-F37E5025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95A-D573-4563-BEC3-3F69915D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50D-3D86-4B83-8716-B044474E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184-7444-4319-A0F6-B765A93A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C612-564D-4442-97E5-0662C16FD4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3532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373720"/>
            <a:ext cx="242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071960" y="54957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500280" y="485784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283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2854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6426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354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711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069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26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7120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1997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3549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783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2354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5426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5640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6T06:19:51Z</dcterms:modified>
  <cp:revision>117</cp:revision>
  <dc:subject/>
  <dc:title>幻灯片 1</dc:title>
</cp:coreProperties>
</file>