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E7C-FEFB-4345-8CA1-2F86FBDA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536-D24B-4829-84BC-7B80F377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332-9F1C-4D67-AC62-02811850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2E0-DBE7-47C9-BD82-7E5A0C15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1BA-6441-4B33-BC70-55FA5115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31B-62F0-4739-8F69-FDC5B199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51A-93F7-4BA7-85AF-AC6FB6D5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A9E-9A26-494E-9715-967716B6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E64-8587-4D20-BD82-61F7FEA5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D85-1B33-4CA3-9371-B407C464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CDB-43E8-487F-B44F-C95A9D35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EDC-9A56-4047-B030-C64A8432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02ED-FC97-4033-8FF5-1EA8EE0757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495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6:19:51Z</dcterms:modified>
  <cp:revision>117</cp:revision>
  <dc:subject/>
  <dc:title>幻灯片 1</dc:title>
</cp:coreProperties>
</file>