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54E-2F33-494C-8054-FD2AAAB5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5A9-1F98-4D22-B993-E136825E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A8D-AFF3-4F15-99CD-CC079AC2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CE0-B381-4D86-8F28-F568CE93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4B2-3372-4676-B2DA-38E20221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DA7-6C4F-487E-8E92-BF68D9AD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AF6-7F1C-4D4D-B190-FA31DD5D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3B1-7C32-4E4D-8EBB-06BF498F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C24-3989-49F7-9B83-E9F7C807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73E-D0EF-4FCE-AC44-E810139A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0E5-C6C0-46C3-A26C-9DD193A4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A0F-D67C-438E-80BD-65EACACF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A22F-675D-4A65-B561-6EBEEB20B1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353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37372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4957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85784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283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069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26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712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1997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354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783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2354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5426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6T06:19:51Z</dcterms:modified>
  <cp:revision>117</cp:revision>
  <dc:subject/>
  <dc:title>幻灯片 1</dc:title>
</cp:coreProperties>
</file>