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DC0-DE69-4174-AED6-41A162FA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C76-7E56-449D-9288-0E75684A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D70-8162-478D-AE9A-BE888BE6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E03-7E50-4ADC-87BC-F1D8822B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B05-B9B4-4903-BDFE-2E3A4939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690-35B4-4AAB-98D8-42698304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D23-4F37-415A-86B0-4B81AEE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C1B-F982-4DC9-94E1-A9101902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8BD-D693-44C7-9089-7AC79A8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5E0-4660-4193-A5FD-4E5D573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BF4-9563-4C3E-90F6-44366F9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04F-F7E4-4B69-AB67-32C44F5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7B1-09FD-47A9-BDF1-93DDE15577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495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6:19:51Z</dcterms:modified>
  <cp:revision>117</cp:revision>
  <dc:subject/>
  <dc:title>幻灯片 1</dc:title>
</cp:coreProperties>
</file>