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3753-FF26-4230-9A59-6AAB0E566EA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A1EB-F7FF-4BAF-A291-DE4AA3BB711E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30D8-2628-42E2-ACF6-F5429EF9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3A9-DEE2-4403-A501-AE3EC823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CDD0-9D0D-4D4D-BE68-EB49F178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618-B824-4C90-8F74-B8E32D04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CE92C-F6E3-4B00-B700-C7BBBEF4E1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A8943-B438-4C4B-AE18-06176F16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F9E16-53F7-4796-B476-1CA084E3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0BD3A-6843-4F88-B99A-13CAC813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47C41-54CB-4D72-95D9-990011A7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89526-D149-4AD3-8B2F-ADF26BA2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9E609-7885-43DE-8585-29A3869E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E1E-CF68-4326-B0F6-F714F467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48715-6E2B-4C16-AF96-94453945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0FE5B-6313-4E7C-9969-2F74E92F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860DD-E309-4F9E-A8FA-A1736730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43069-943C-493C-97AB-5C9184EE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9EC2D-22FB-4524-8D70-97C212ABD1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0A2-141C-48C4-9324-9C9C3223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3D8-A6B3-44C4-9111-3DDB3D37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79A-3B37-4648-8E31-AD8ECE4D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480-E648-40DB-9675-50DEED97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7CF7-D63B-4CC6-9E9B-79122D40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199-7355-4E76-B594-E99361AD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853-C1D0-4186-9DD1-AC23BBDA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1529-097B-457B-8D83-1C19D00B15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6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35"/>
            <p:cNvSpPr/>
            <p:nvPr/>
          </p:nvSpPr>
          <p:spPr>
            <a:xfrm>
              <a:off x="1143000" y="457200"/>
              <a:ext cx="130320" cy="4572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41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0"/>
          <p:cNvSpPr/>
          <p:nvPr/>
        </p:nvSpPr>
        <p:spPr>
          <a:xfrm>
            <a:off x="3962520" y="6338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06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486400" y="304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4cae8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a206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6DF3-E75A-42E9-BEBF-FF3AFBDC975A}" type="slidenum">
              <a:rPr b="0" lang="zh-CN" sz="1400" spc="-1" strike="noStrike">
                <a:solidFill>
                  <a:srgbClr val="0a2068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6"/>
          <p:cNvSpPr/>
          <p:nvPr/>
        </p:nvSpPr>
        <p:spPr>
          <a:xfrm flipV="1">
            <a:off x="-5437080" y="3428640"/>
            <a:ext cx="573696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0" y="2967120"/>
            <a:ext cx="57484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826920" y="1916280"/>
            <a:ext cx="53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2015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工作总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106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90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91"/>
            <p:cNvSpPr/>
            <p:nvPr/>
          </p:nvSpPr>
          <p:spPr>
            <a:xfrm>
              <a:off x="202536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Group 92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110" name="AutoShape 93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94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95"/>
            <p:cNvSpPr/>
            <p:nvPr/>
          </p:nvSpPr>
          <p:spPr>
            <a:xfrm>
              <a:off x="202536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20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104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105"/>
            <p:cNvSpPr/>
            <p:nvPr/>
          </p:nvSpPr>
          <p:spPr>
            <a:xfrm>
              <a:off x="202536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Group 106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24" name="AutoShape 107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AutoShape 108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109"/>
            <p:cNvSpPr/>
            <p:nvPr/>
          </p:nvSpPr>
          <p:spPr>
            <a:xfrm>
              <a:off x="202536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838080" y="1600200"/>
            <a:ext cx="7383960" cy="4421160"/>
            <a:chOff x="838080" y="1600200"/>
            <a:chExt cx="7383960" cy="4421160"/>
          </a:xfrm>
        </p:grpSpPr>
        <p:grpSp>
          <p:nvGrpSpPr>
            <p:cNvPr id="135" name="Group 4"/>
            <p:cNvGrpSpPr/>
            <p:nvPr/>
          </p:nvGrpSpPr>
          <p:grpSpPr>
            <a:xfrm>
              <a:off x="2362320" y="1600200"/>
              <a:ext cx="4419000" cy="4376160"/>
              <a:chOff x="2362320" y="1600200"/>
              <a:chExt cx="4419000" cy="4376160"/>
            </a:xfrm>
          </p:grpSpPr>
          <p:sp>
            <p:nvSpPr>
              <p:cNvPr id="136" name="Puzzle3"/>
              <p:cNvSpPr/>
              <p:nvPr/>
            </p:nvSpPr>
            <p:spPr>
              <a:xfrm>
                <a:off x="4514400" y="16002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Puzzle2"/>
              <p:cNvSpPr/>
              <p:nvPr/>
            </p:nvSpPr>
            <p:spPr>
              <a:xfrm>
                <a:off x="4008960" y="3294360"/>
                <a:ext cx="2772360" cy="212760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3480 h 2127600"/>
                  <a:gd name="textAreaBottom" fmla="*/ 2014200 h 212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Puzzle4"/>
              <p:cNvSpPr/>
              <p:nvPr/>
            </p:nvSpPr>
            <p:spPr>
              <a:xfrm>
                <a:off x="2937960" y="3268080"/>
                <a:ext cx="1679400" cy="2708280"/>
              </a:xfrm>
              <a:custGeom>
                <a:avLst/>
                <a:gdLst>
                  <a:gd name="textAreaLeft" fmla="*/ 162000 w 1679400"/>
                  <a:gd name="textAreaRight" fmla="*/ 1570320 w 167940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Puzzle1"/>
              <p:cNvSpPr/>
              <p:nvPr/>
            </p:nvSpPr>
            <p:spPr>
              <a:xfrm>
                <a:off x="2362320" y="23036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b3d2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Text Box 9"/>
            <p:cNvSpPr/>
            <p:nvPr/>
          </p:nvSpPr>
          <p:spPr>
            <a:xfrm>
              <a:off x="6477840" y="397656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0"/>
            <p:cNvSpPr/>
            <p:nvPr/>
          </p:nvSpPr>
          <p:spPr>
            <a:xfrm>
              <a:off x="838080" y="3367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1"/>
            <p:cNvSpPr/>
            <p:nvPr/>
          </p:nvSpPr>
          <p:spPr>
            <a:xfrm>
              <a:off x="2590920" y="1676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267080" y="56530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146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 flipH="1" rot="10800000">
              <a:off x="423900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>
              <a:off x="321300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>
              <a:off x="335916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>
              <a:off x="349272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349272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362448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362448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Group 10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205" name="Oval 11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12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13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208" name="Oval 14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15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6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211" name="Oval 17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8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214" name="Oval 20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22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217" name="Oval 23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24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220" name="Oval 26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27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Oval 28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29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30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31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Group 44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227" name="Oval 32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33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34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35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36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Text Box 37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8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0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41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2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3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2057400" y="4449600"/>
            <a:ext cx="5562720" cy="1325880"/>
          </a:xfrm>
          <a:prstGeom prst="ellipse">
            <a:avLst/>
          </a:prstGeom>
          <a:solidFill>
            <a:srgbClr val="66889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 rot="20601600">
            <a:off x="1332000" y="233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 rot="20601600">
            <a:off x="1388880" y="2174400"/>
            <a:ext cx="55623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rc 6"/>
          <p:cNvSpPr/>
          <p:nvPr/>
        </p:nvSpPr>
        <p:spPr>
          <a:xfrm rot="20601600">
            <a:off x="4036680" y="225216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rc 7"/>
          <p:cNvSpPr/>
          <p:nvPr/>
        </p:nvSpPr>
        <p:spPr>
          <a:xfrm flipH="1" rot="20602200">
            <a:off x="1441800" y="356508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rc 8"/>
          <p:cNvSpPr/>
          <p:nvPr/>
        </p:nvSpPr>
        <p:spPr>
          <a:xfrm rot="20601600">
            <a:off x="3281400" y="198072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rc 9"/>
          <p:cNvSpPr/>
          <p:nvPr/>
        </p:nvSpPr>
        <p:spPr>
          <a:xfrm flipH="1" rot="20602200">
            <a:off x="1242720" y="26334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 rot="20601600">
            <a:off x="2849400" y="288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2165040" y="311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4069800" y="219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5746320" y="265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reeform 14"/>
          <p:cNvSpPr/>
          <p:nvPr/>
        </p:nvSpPr>
        <p:spPr>
          <a:xfrm>
            <a:off x="6172200" y="3187800"/>
            <a:ext cx="1295280" cy="17110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rc 15"/>
          <p:cNvSpPr/>
          <p:nvPr/>
        </p:nvSpPr>
        <p:spPr>
          <a:xfrm rot="20539200">
            <a:off x="4570560" y="319356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Freeform 16"/>
          <p:cNvSpPr/>
          <p:nvPr/>
        </p:nvSpPr>
        <p:spPr>
          <a:xfrm>
            <a:off x="4471920" y="366876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5746320" y="364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3993840" y="44067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2088720" y="425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20"/>
          <p:cNvSpPr/>
          <p:nvPr/>
        </p:nvSpPr>
        <p:spPr>
          <a:xfrm rot="20601600">
            <a:off x="2951280" y="314172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273945"/>
              </a:gs>
              <a:gs pos="100000">
                <a:srgbClr val="557c96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Freeform 21"/>
          <p:cNvSpPr/>
          <p:nvPr/>
        </p:nvSpPr>
        <p:spPr>
          <a:xfrm>
            <a:off x="4648320" y="406404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288000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60" name="WordArt 7"/>
          <p:cNvSpPr txBox="1"/>
          <p:nvPr/>
        </p:nvSpPr>
        <p:spPr>
          <a:xfrm>
            <a:off x="11430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11:11:00Z</dcterms:created>
  <dc:creator>user</dc:creator>
  <dc:description/>
  <dc:language>en-US</dc:language>
  <cp:lastModifiedBy>Administrator</cp:lastModifiedBy>
  <dcterms:modified xsi:type="dcterms:W3CDTF">2014-12-29T02:15:02Z</dcterms:modified>
  <cp:revision>11</cp:revision>
  <dc:subject/>
  <dc:title>PowerPoint Template</dc:title>
</cp:coreProperties>
</file>