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FA44-2794-4D73-BAA9-D9C5C2AC24C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F273-9A3B-495E-865E-A556CA4B4CF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FAC-48C2-4A84-87B6-F0C875F1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777-8A57-4374-9B93-335D873E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14B-E117-4960-8F83-D88F23D3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C71-AEB2-4AAB-BC15-7DD4D6D4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662B3-D98B-469B-B262-388872011A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8DF1B-9AA0-44DF-88AF-F5A90A42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922A9-AEDB-467D-AD6D-F92A3DCE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6FC47-883F-4FF1-8D9A-407C9A14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D07BF-32B7-4F7C-AD58-6419F39A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1949D-53A8-4415-8FE8-DE038121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CCAAC-345E-4725-84B6-0BC3C94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83E-90E0-4945-BAA1-6F1DE018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D37BD-C65F-4314-A663-93B11059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F6BF4-1681-4D9E-93A6-D0F34658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CEC49-08D4-4683-BBDB-B5C66ACD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78E25-73ED-491E-B156-C0C71AD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52ACF-74E5-41AE-8721-45D5324570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FAC-DE44-4B02-8E25-12678D06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B35-4B01-42A6-9E0C-CDBB9905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F7E-38BA-4F5D-BE58-BBC8D783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804-CDE0-4880-8752-6D63CFFA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3C9-E862-4A54-84D6-D8EFDC35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CBE-6B16-4CD6-9FEF-3AD66B22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1FC-2F81-429A-899E-FEDFDE3F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CB48-8736-42D0-86E6-F4EFF372D6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4471-454E-4F0A-8FC0-C8868DA0F251}" type="slidenum">
              <a:rPr b="0" lang="zh-CN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6"/>
          <p:cNvSpPr/>
          <p:nvPr/>
        </p:nvSpPr>
        <p:spPr>
          <a:xfrm flipV="1">
            <a:off x="-5437080" y="3428640"/>
            <a:ext cx="57369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26920" y="1916280"/>
            <a:ext cx="53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2015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工作总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6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10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20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4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35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36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Puzzle2"/>
              <p:cNvSpPr/>
              <p:nvPr/>
            </p:nvSpPr>
            <p:spPr>
              <a:xfrm>
                <a:off x="4008960" y="3294360"/>
                <a:ext cx="2772360" cy="212760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3480 h 2127600"/>
                  <a:gd name="textAreaBottom" fmla="*/ 2014200 h 212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Puzzle4"/>
              <p:cNvSpPr/>
              <p:nvPr/>
            </p:nvSpPr>
            <p:spPr>
              <a:xfrm>
                <a:off x="2937960" y="3268080"/>
                <a:ext cx="1679400" cy="2708280"/>
              </a:xfrm>
              <a:custGeom>
                <a:avLst/>
                <a:gdLst>
                  <a:gd name="textAreaLeft" fmla="*/ 162000 w 1679400"/>
                  <a:gd name="textAreaRight" fmla="*/ 1570320 w 167940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14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 flipH="1" rot="10800000">
              <a:off x="423900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321300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335916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349272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362448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205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208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211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214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217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220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227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288000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0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1:11:00Z</dcterms:created>
  <dc:creator>user</dc:creator>
  <dc:description/>
  <dc:language>en-US</dc:language>
  <cp:lastModifiedBy>Administrator</cp:lastModifiedBy>
  <dcterms:modified xsi:type="dcterms:W3CDTF">2014-12-29T02:15:02Z</dcterms:modified>
  <cp:revision>11</cp:revision>
  <dc:subject/>
  <dc:title>PowerPoint Template</dc:title>
</cp:coreProperties>
</file>