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3532-C3C9-49EB-BC4B-6367A4831A9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ACA1-78B8-4FC8-8DB7-5300FCA23E1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7D6-CD1D-442D-BCC3-B4D4D7E7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6EE-FEAA-4394-86C6-EAC6C2D1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F9D-A7A7-44DA-8180-C0E4904C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2E5-9FAD-4935-AB5F-4F05DF0D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F147F-44CB-42F0-A848-DCA0AE3346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A38CA-B284-4BC4-A149-4D4D0620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33654-88BD-45CD-97AD-3BEB2310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2C562-E7AF-4691-9BBB-DDDD5D36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974AA-81A5-41CF-BAEC-743EDBBD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4F35B-7B49-4E7D-928C-D1301ABB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64880-C05A-4D7D-A4DF-224EA4C6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D1A-C71E-4A7B-AA8D-4F7A658B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62A65-08AB-46FB-8711-983A9B7C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DC93F-6990-4BBF-BBB7-87B80374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30748-E43B-4E4C-B529-C16E88DB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9C936-C4A7-472D-96B4-1BE59E9D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FB0A2-CB84-4133-8B4A-8123463525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6D2-CEDE-4F37-AB65-B2259D3C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9D1-D898-4AA3-A4A4-4F5DD24F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966-23D9-40C8-AEB4-14204733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293-D568-43F5-B694-B4AEE7A5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23D-68C5-450E-B546-B9003D27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B51-BCDD-4025-BEF1-433DF53F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8F4-8E1B-42D4-9C03-AAB6E0C2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33E2-8134-476F-9FA7-AC574DE2A9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B1D2-3440-4A7D-8F0B-1769B4906C88}" type="slidenum">
              <a: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6"/>
          <p:cNvSpPr/>
          <p:nvPr/>
        </p:nvSpPr>
        <p:spPr>
          <a:xfrm flipV="1">
            <a:off x="-5437080" y="3428640"/>
            <a:ext cx="573696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826920" y="1916280"/>
            <a:ext cx="53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2015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工作总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6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10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20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4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35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36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Puzzle2"/>
              <p:cNvSpPr/>
              <p:nvPr/>
            </p:nvSpPr>
            <p:spPr>
              <a:xfrm>
                <a:off x="4008960" y="3294360"/>
                <a:ext cx="2772360" cy="212760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3480 h 2127600"/>
                  <a:gd name="textAreaBottom" fmla="*/ 2014200 h 212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Puzzle4"/>
              <p:cNvSpPr/>
              <p:nvPr/>
            </p:nvSpPr>
            <p:spPr>
              <a:xfrm>
                <a:off x="2937960" y="3268080"/>
                <a:ext cx="1679400" cy="2708280"/>
              </a:xfrm>
              <a:custGeom>
                <a:avLst/>
                <a:gdLst>
                  <a:gd name="textAreaLeft" fmla="*/ 162000 w 1679400"/>
                  <a:gd name="textAreaRight" fmla="*/ 1570320 w 167940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14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 flipH="1" rot="10800000">
              <a:off x="423900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>
              <a:off x="321300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335916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349272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349272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362448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362448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205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208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211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214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217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220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227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288000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0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1:11:00Z</dcterms:created>
  <dc:creator>user</dc:creator>
  <dc:description/>
  <dc:language>en-US</dc:language>
  <cp:lastModifiedBy>Administrator</cp:lastModifiedBy>
  <dcterms:modified xsi:type="dcterms:W3CDTF">2014-12-29T02:15:02Z</dcterms:modified>
  <cp:revision>11</cp:revision>
  <dc:subject/>
  <dc:title>PowerPoint Template</dc:title>
</cp:coreProperties>
</file>