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BA05-B8C7-409F-8B51-F6FA2C841B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B2A2-A64A-4533-85F0-7B23446FE7E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2EF-0F46-484E-A683-C796796D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98D-43CE-4EFE-8BA1-4C49F16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805-3F31-4289-9145-24C990F4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C77-1C22-4AB4-9602-43A51BB2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0035E-69FE-4799-B3F2-EF68A247D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12C83-75E4-412B-9B9C-9A8575B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0C57F-7BD2-4497-B3AB-138E0D6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0B9AA-E7FC-4CBD-B31C-9E9A2AF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B8FF5-60A3-413B-83C9-D0DA2358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B1F7-139E-4613-B3B5-949AE0F0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F812-3604-482C-B79C-821AB2A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63A-3A28-4062-8EC7-19462C1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F8E02-E8EA-494E-A49C-9612215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D317-1B3F-4501-8B25-65B082CC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38325-0D71-4655-AA42-85021F8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BE377-6684-4187-98F5-59B0B81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312B-F0DF-4FA9-A05F-4B45E63CC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84E-078A-4F14-9E0F-13D36BA6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C7D-653C-4D28-920E-6F49A63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1EF-48CA-4B35-B496-B58EBB5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705-5085-4B87-8EF7-D53A0F03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7FF-2746-4E56-B83E-EC1EA9A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FBC-43EA-4306-BA7B-DB197ED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C27-CD30-41B3-A0F5-7330A20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33D2-1718-4B6D-857D-31DB30106E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7DF-5C27-443A-9EFC-429185837E22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26920" y="191628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工作总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6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0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0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4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5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6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Puzzle2"/>
              <p:cNvSpPr/>
              <p:nvPr/>
            </p:nvSpPr>
            <p:spPr>
              <a:xfrm>
                <a:off x="4008960" y="3294360"/>
                <a:ext cx="2772360" cy="21276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7600"/>
                  <a:gd name="textAreaBottom" fmla="*/ 2014200 h 21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Puzzle4"/>
              <p:cNvSpPr/>
              <p:nvPr/>
            </p:nvSpPr>
            <p:spPr>
              <a:xfrm>
                <a:off x="2937960" y="3268080"/>
                <a:ext cx="1679400" cy="2708280"/>
              </a:xfrm>
              <a:custGeom>
                <a:avLst/>
                <a:gdLst>
                  <a:gd name="textAreaLeft" fmla="*/ 162000 w 1679400"/>
                  <a:gd name="textAreaRight" fmla="*/ 1570320 w 16794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flipH="1" rot="10800000">
              <a:off x="423900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21300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335916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5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08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1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4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17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0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27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288000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dministrator</cp:lastModifiedBy>
  <dcterms:modified xsi:type="dcterms:W3CDTF">2014-12-29T02:15:02Z</dcterms:modified>
  <cp:revision>11</cp:revision>
  <dc:subject/>
  <dc:title>PowerPoint Template</dc:title>
</cp:coreProperties>
</file>