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658-B6EF-4D6A-A105-4AEAD5831F6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63F-3392-4AE1-B252-6CF88514F77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8F7-B4E3-4685-A662-D2E34193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D1A-F9CB-4218-A10B-19BEC1F1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F83-F89A-4D48-B613-308D1365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EDA-5C8C-42E6-8585-1C1285C7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6EA27-F8A5-49B2-B9B8-718EF306D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81A85-A9EB-48C2-8810-B54DDCD8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6AA58-D14C-453D-9D05-E6552E7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772B1-2008-4E82-9AEC-4227B7A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17455-4D59-422D-8E4F-433974B2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06A2D-0587-43BF-BD6E-1A6F82A3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986B2-1DED-4EFD-B4A1-F2DC18A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292-49B1-49C2-B0DC-CD258180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5D9E8-54AB-40BA-9D48-FE2F324C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C2AB1-B574-4DE3-BF68-8486E0F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DAA0E-445A-46FC-B595-8D141633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68F74-C28B-4387-9708-C993615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C3454-FEDD-4703-BD86-34AFF5BCB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FAB-1C36-4BCD-B294-BB1CF51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25C-5F5F-44A5-9DA2-59BC61F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05C-A384-48AB-8385-3040F9BD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CA9-3206-43C1-A4BA-9E0B330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BB7-3416-4DB8-A977-90AA0512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75D-1DD9-41A6-ACBC-17A82BA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D8C-C4D5-4077-8195-7846FA3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F8C-A1AA-496C-9FCF-7657EF92C5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1EB-06A4-408B-848C-5581E5D2868E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26920" y="191628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工作总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6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0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0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4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5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6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Puzzle2"/>
              <p:cNvSpPr/>
              <p:nvPr/>
            </p:nvSpPr>
            <p:spPr>
              <a:xfrm>
                <a:off x="4008960" y="3294360"/>
                <a:ext cx="2772360" cy="21276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7600"/>
                  <a:gd name="textAreaBottom" fmla="*/ 2014200 h 21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Puzzle4"/>
              <p:cNvSpPr/>
              <p:nvPr/>
            </p:nvSpPr>
            <p:spPr>
              <a:xfrm>
                <a:off x="2937960" y="3268080"/>
                <a:ext cx="1679400" cy="2708280"/>
              </a:xfrm>
              <a:custGeom>
                <a:avLst/>
                <a:gdLst>
                  <a:gd name="textAreaLeft" fmla="*/ 162000 w 1679400"/>
                  <a:gd name="textAreaRight" fmla="*/ 1570320 w 16794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flipH="1" rot="10800000">
              <a:off x="423900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21300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335916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5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08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1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4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17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0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27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288000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dministrator</cp:lastModifiedBy>
  <dcterms:modified xsi:type="dcterms:W3CDTF">2014-12-29T02:15:02Z</dcterms:modified>
  <cp:revision>11</cp:revision>
  <dc:subject/>
  <dc:title>PowerPoint Template</dc:title>
</cp:coreProperties>
</file>