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4B6-9131-46CC-B619-F0AEA564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E843-6597-42CB-BE49-952CCDA9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A9E-479A-462E-A2C6-4866B8C7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046-E1EB-4BF5-85A0-6C6F41E8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87CD-7FCE-4223-9465-519EFADB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03E-024F-4EE7-9883-689117BC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BA5-EC1D-49F3-80D3-1181411C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9A2-63F7-4AF5-948E-4053C4E9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CCE-8F59-46C3-ABDB-0A99637C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FE0-7BD0-470F-A80B-561AB265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6D2-0EE0-464E-B838-368D5CC2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BA6-22DA-4A0F-B021-AB8CE79F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ACDE-D6C9-47D5-B9F5-17DEED871E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06736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21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572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926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2836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5497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355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211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783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568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926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140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497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1425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9T02:33:26Z</dcterms:modified>
  <cp:revision>118</cp:revision>
  <dc:subject/>
  <dc:title>幻灯片 1</dc:title>
</cp:coreProperties>
</file>