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5BE-CBBE-49AC-9546-F2449B57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6DF-C63E-4C02-86D0-390DFC6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293-9FA0-4BE9-9E6D-7140DFC9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A1D-604D-4031-9A50-CFC02CB8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390-397C-42FD-909E-9BAC69C6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E6D-2F8E-4581-AF68-D6FDE3E6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D8F-2172-4852-BC1F-54E1903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0DF-FFAA-44CB-B2AF-E156531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8BE-D319-4CEF-B73E-8663443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DDB-9BAB-4556-8E23-7711F5D2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A44-28A9-490E-ACE8-D110F08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39F-EE96-4A7F-8DA9-3CDC7B04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42ED-7509-49D2-897C-901CF2F063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48531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81b1OOOPIC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2"/>
          <a:stretch/>
        </p:blipFill>
        <p:spPr>
          <a:xfrm>
            <a:off x="895320" y="2292480"/>
            <a:ext cx="7858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Administrator</cp:lastModifiedBy>
  <dcterms:modified xsi:type="dcterms:W3CDTF">2014-12-27T04:08:32Z</dcterms:modified>
  <cp:revision>9</cp:revision>
  <dc:subject/>
  <dc:title>PowerPoint 演示文稿</dc:title>
</cp:coreProperties>
</file>