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B79-0B7B-41F7-A726-B48B1C0D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E4C-AA66-4080-BB90-6D592541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83B-C5D2-4AC6-88AB-49E1D504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F2F-C58F-4200-9D65-86640876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2E6-BF54-46CC-AA6D-C1C0CF1C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A90-D93A-4682-98D5-F2C50664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E80-EAB2-4EF4-B0D1-47BACD38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12E-60B3-4B3F-AB3E-FD73C9C0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5C2-7B6F-4524-BF96-DC72EF20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550-35FF-4663-9EBC-35A6E5F9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F45-72E6-4B4B-8359-ECE1A9AB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92C-147B-4D59-A391-5F83BA97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735B-95B1-411B-AAF5-1CE623DC60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573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矩形 4" descr=""/>
          <p:cNvPicPr/>
          <p:nvPr/>
        </p:nvPicPr>
        <p:blipFill>
          <a:blip r:embed="rId1"/>
          <a:stretch/>
        </p:blipFill>
        <p:spPr>
          <a:xfrm>
            <a:off x="334800" y="890640"/>
            <a:ext cx="48531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内容占位符 3" descr="81b1OOOPIC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4" descr=""/>
          <p:cNvPicPr/>
          <p:nvPr/>
        </p:nvPicPr>
        <p:blipFill>
          <a:blip r:embed="rId2"/>
          <a:stretch/>
        </p:blipFill>
        <p:spPr>
          <a:xfrm>
            <a:off x="895320" y="2292480"/>
            <a:ext cx="78580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8:16:41Z</dcterms:created>
  <dc:creator>李晓婧</dc:creator>
  <dc:description/>
  <dc:language>en-US</dc:language>
  <cp:lastModifiedBy>Administrator</cp:lastModifiedBy>
  <dcterms:modified xsi:type="dcterms:W3CDTF">2014-12-27T04:08:32Z</dcterms:modified>
  <cp:revision>9</cp:revision>
  <dc:subject/>
  <dc:title>PowerPoint 演示文稿</dc:title>
</cp:coreProperties>
</file>