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DCC-678B-463B-B425-06115133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527-9E45-4A64-AF69-21AA82D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7DE-2F43-4C64-9BB4-075B7BB6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9CF-AE40-46A6-88CB-560428C0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A21-50F7-479D-83E2-B09F55FA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27D-0402-48D2-91EA-17101A20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D56-98E1-4EF3-8CCE-B80D19B2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D34-0772-4251-A090-74A2F83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88A-AC39-41B0-B2FD-9EA72810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3DA-4E21-42D0-A9F4-F78DC9A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D17-053E-4E40-A818-E530AC2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DBA-23A4-49F6-82C6-12DDD2D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6B91-6769-41C6-BCD2-6B12025653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334800" y="890640"/>
            <a:ext cx="48531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81b1OOOPIC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2"/>
          <a:stretch/>
        </p:blipFill>
        <p:spPr>
          <a:xfrm>
            <a:off x="895320" y="2292480"/>
            <a:ext cx="78580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Administrator</cp:lastModifiedBy>
  <dcterms:modified xsi:type="dcterms:W3CDTF">2014-12-27T04:08:32Z</dcterms:modified>
  <cp:revision>9</cp:revision>
  <dc:subject/>
  <dc:title>PowerPoint 演示文稿</dc:title>
</cp:coreProperties>
</file>