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434-7D46-4C5E-841D-36FFC255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B55-087D-45B2-A39C-0F2E877B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DEA-A64E-4EE4-A733-61F2238B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EBB-3232-444F-84CA-76E17ED0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923-0897-4F03-A57C-F3003523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3A0-4803-484A-8AED-8D3850BF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640-1C84-47BB-AA08-937DE815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F97-534E-447C-975A-8EC2E5E5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48D-AA6C-411D-AE8E-1E553AE6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F0A-1B6C-4E66-B69A-07959284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5CA-AB93-4FE2-9CD1-7C89950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332-E6FE-4F65-B168-C4CFB3A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40D4-2DE9-412B-8BB8-5CA2467DF1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573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4" descr=""/>
          <p:cNvPicPr/>
          <p:nvPr/>
        </p:nvPicPr>
        <p:blipFill>
          <a:blip r:embed="rId1"/>
          <a:stretch/>
        </p:blipFill>
        <p:spPr>
          <a:xfrm>
            <a:off x="334800" y="890640"/>
            <a:ext cx="48531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内容占位符 3" descr="81b1OOOPIC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4" descr=""/>
          <p:cNvPicPr/>
          <p:nvPr/>
        </p:nvPicPr>
        <p:blipFill>
          <a:blip r:embed="rId2"/>
          <a:stretch/>
        </p:blipFill>
        <p:spPr>
          <a:xfrm>
            <a:off x="895320" y="2292480"/>
            <a:ext cx="78580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16:41Z</dcterms:created>
  <dc:creator>李晓婧</dc:creator>
  <dc:description/>
  <dc:language>en-US</dc:language>
  <cp:lastModifiedBy>Administrator</cp:lastModifiedBy>
  <dcterms:modified xsi:type="dcterms:W3CDTF">2014-12-27T04:08:32Z</dcterms:modified>
  <cp:revision>9</cp:revision>
  <dc:subject/>
  <dc:title>PowerPoint 演示文稿</dc:title>
</cp:coreProperties>
</file>