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E6D6-FA08-4A92-83E1-7B4176CE1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A900-182C-4818-BA5E-0899C230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B818-AE1E-4A13-A771-ADD6CEDB7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8458-FAF5-4796-8D31-66EC42FCF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CEA8-C63F-4AB5-8792-349DCA26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B5E4-D721-49CB-B33E-0023E987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E7A7-1BA8-4F49-AAC9-41715776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7E32-6B63-4C70-80F6-54A2BFED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9CBA-4C0E-43C4-95A6-F3923504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D0D6-F3A9-41D8-AC5D-89B038AC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A0AD-0110-484B-B8FF-21CEDED8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10B6-F530-405A-944C-6AA62CDD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10C0-CC67-43D6-81DA-2CBAD227D01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643200" y="506736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快乐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3571920" y="5087880"/>
            <a:ext cx="242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429000" y="457200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15688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4"/>
          <p:cNvSpPr/>
          <p:nvPr/>
        </p:nvSpPr>
        <p:spPr>
          <a:xfrm>
            <a:off x="40690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68551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48549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926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49266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314064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30690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4979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521208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4212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21405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63550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41407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5689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421200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59979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54266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314064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29977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54979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50695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59266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3783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31406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4212000" y="150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"/>
          <p:cNvSpPr/>
          <p:nvPr/>
        </p:nvSpPr>
        <p:spPr>
          <a:xfrm>
            <a:off x="24976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45691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66409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24976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285480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57837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57121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12-26T01:47:06Z</dcterms:modified>
  <cp:revision>117</cp:revision>
  <dc:subject/>
  <dc:title>幻灯片 1</dc:title>
</cp:coreProperties>
</file>