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9C1-477B-4D8B-B02A-CE0A93B5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F9E-5CA6-4FC9-9862-87751B8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418-7245-4BC5-9BDA-4E9B90DD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E9E-7DD2-460A-8AA6-D1AC5CF1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DC6-9688-40D0-8F9D-99472C45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3C0-5933-4A93-B9D6-F3174A4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3BE-CC02-4445-85AC-14E0253F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FA2-557C-4641-AE0D-F33F0BAB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4A5-8F9B-4B38-8C37-F07078C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998-BFCA-4DB1-A9F9-629BE35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772-81AD-4E82-A700-71E3F838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81A-931A-4FD9-A195-E4B22A7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129-2C5E-4304-882F-0059842822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1:47:06Z</dcterms:modified>
  <cp:revision>117</cp:revision>
  <dc:subject/>
  <dc:title>幻灯片 1</dc:title>
</cp:coreProperties>
</file>