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B541-5FC1-4315-9890-0C821DD98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7254-DC9C-494E-9B0A-3EA51F2F3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E541-CDDC-46BB-B101-7C3B7CBA2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F4D1-3585-4F21-ADFA-C366AFFA6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6D70-DC7C-4D12-BE5B-A2468B9AA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462DE-64FA-48B5-9F5F-1F1588F7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AA32-9142-48D1-A1F1-07E2006B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CC81-102B-457D-9930-514041400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4491E-831A-41CF-8E15-F5CDA9941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340B3-17C7-416C-BB74-ECF00D5D8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15C2-368F-4D1B-89FD-8E8A3A3B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38179-D452-4A67-9CF8-01595A6AE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4CBE-ECEE-48DB-B53C-19BE9A800E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3643200" y="5067360"/>
            <a:ext cx="41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新年快乐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5"/>
          <p:cNvSpPr/>
          <p:nvPr/>
        </p:nvSpPr>
        <p:spPr>
          <a:xfrm>
            <a:off x="3571920" y="5087880"/>
            <a:ext cx="24289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7"/>
          <p:cNvSpPr/>
          <p:nvPr/>
        </p:nvSpPr>
        <p:spPr>
          <a:xfrm>
            <a:off x="3429000" y="4572000"/>
            <a:ext cx="300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5"/>
          <p:cNvSpPr/>
          <p:nvPr/>
        </p:nvSpPr>
        <p:spPr>
          <a:xfrm>
            <a:off x="15688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4"/>
          <p:cNvSpPr/>
          <p:nvPr/>
        </p:nvSpPr>
        <p:spPr>
          <a:xfrm>
            <a:off x="406908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5"/>
          <p:cNvSpPr/>
          <p:nvPr/>
        </p:nvSpPr>
        <p:spPr>
          <a:xfrm>
            <a:off x="685512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854960" y="3214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5"/>
          <p:cNvSpPr/>
          <p:nvPr/>
        </p:nvSpPr>
        <p:spPr>
          <a:xfrm>
            <a:off x="4926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5"/>
          <p:cNvSpPr/>
          <p:nvPr/>
        </p:nvSpPr>
        <p:spPr>
          <a:xfrm>
            <a:off x="4926600" y="4286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矩形 8"/>
          <p:cNvSpPr/>
          <p:nvPr/>
        </p:nvSpPr>
        <p:spPr>
          <a:xfrm>
            <a:off x="876960" y="428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31406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306900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49792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5212080" y="400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87696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5"/>
          <p:cNvSpPr/>
          <p:nvPr/>
        </p:nvSpPr>
        <p:spPr>
          <a:xfrm>
            <a:off x="42120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8"/>
          <p:cNvSpPr/>
          <p:nvPr/>
        </p:nvSpPr>
        <p:spPr>
          <a:xfrm>
            <a:off x="214056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63550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5000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41407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25689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2120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599796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80568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426640" y="2214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14064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299772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54979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506952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592668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78360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314064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212000" y="1500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2497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456912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664092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734040" y="35712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249768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2854800" y="2071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578376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571212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4-12-26T01:47:06Z</dcterms:modified>
  <cp:revision>117</cp:revision>
  <dc:subject/>
  <dc:title>幻灯片 1</dc:title>
</cp:coreProperties>
</file>