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9B09-7872-4C9D-B1B6-136554BB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F85F-9949-4226-825A-91182692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634D-B3E1-44FB-A40B-2858889F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104D-3769-4F51-B69D-CA41E72D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E367-3511-4602-B2F0-96015341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A6A9-DB27-45B1-A3BD-1967B303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E9F7-6655-4F45-88BE-893B3BB0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F4C3-1EF8-4D68-9642-D9BF9ED5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08D0-F9FD-4D49-876E-6BA928CD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BEAB-ADF0-4524-9130-1454975B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E344-F906-4CDC-8AE1-54A74112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3559-EACB-4BD8-9261-7B801FA6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4915-1B2F-4D2A-BD19-069DD6B319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643200" y="506736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571920" y="508788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429000" y="457200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15688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4069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68551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8549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926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9266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1406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069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4979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2120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21405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6355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41407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5689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2120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997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3140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29977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5497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5069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926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3783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3140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421200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2497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45691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66409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24976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28548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783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5712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2-26T01:47:06Z</dcterms:modified>
  <cp:revision>117</cp:revision>
  <dc:subject/>
  <dc:title>幻灯片 1</dc:title>
</cp:coreProperties>
</file>