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CE7-60E9-482A-990D-5799E070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6EE-A0FA-4A00-8980-B14C86F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AC7-4F78-4593-8735-60A8434B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770-D007-4A3F-B817-44637893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921-0724-426D-A771-ED78721D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EB7-9C70-4ED3-9796-00CC1F5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308-C3B3-4A00-9A9A-CD7A6DC2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41B-7BB7-44EE-8BDA-5D2EBEB2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6AD-8C39-4DFA-BA24-2F39D794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C55-79F5-407E-BD6D-4827E2A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12B-7975-46C3-B368-7E112666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7AC-57B8-49C9-916A-9AF8B9E5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AFC2-622A-4BC2-BBFB-F6C8FEBC7B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C55A-A090-48D6-AC31-64A60467C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</a:t>
            </a:r>
            <a:r>
              <a:rPr b="1" lang="en-US" sz="1800" spc="-1" strike="noStrike">
                <a:solidFill>
                  <a:srgbClr val="ff4646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2360" y="6232680"/>
            <a:ext cx="64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站独家精心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81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82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2360" y="623736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3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9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3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6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50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7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4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1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8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90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4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2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8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21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3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7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263520" y="395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9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6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8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93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5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300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302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14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2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2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3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5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5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6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Sky123.Org</cp:lastModifiedBy>
  <dcterms:modified xsi:type="dcterms:W3CDTF">2014-12-29T06:38:0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