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625-D25D-4C59-AC4E-71770A9D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0CC-9A8F-4395-9C52-15556F42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68A-C1AE-4076-9052-E6FBC81F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225-AA05-45E9-A588-D523252F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059-9B51-4540-96D7-EA4650A7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0A9-8CBF-4417-919E-B935377B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86A-857E-491F-8FD2-947A4D49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400-905A-48B3-8D41-F6C12897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0FA-2828-4706-BDDC-D77CD1A4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807-9C3C-4B46-B278-FDEE788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B52-E5BF-4447-9471-81A06A4A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ACE-F7A6-47C0-BE16-5C89036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0E14-45CC-4CF4-B9F0-D53FEFDD58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2006-090D-41A5-A639-6F159851E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42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活动名称</a:t>
              </a:r>
              <a:r>
                <a:rPr b="1" lang="zh-CN" sz="7200" spc="-1" strike="noStrike">
                  <a:solidFill>
                    <a:srgbClr val="99ff66"/>
                  </a:solidFill>
                  <a:latin typeface="造字工房悦黑体验版纤细体"/>
                  <a:ea typeface="微软雅黑"/>
                </a:rPr>
                <a:t>报告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</a:t>
            </a:r>
            <a:r>
              <a:rPr b="1" lang="en-US" sz="1800" spc="-1" strike="noStrike">
                <a:solidFill>
                  <a:srgbClr val="ff4646"/>
                </a:solidFill>
                <a:latin typeface="Arial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4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5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2360" y="6232680"/>
            <a:ext cx="64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站独家精心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054240" y="1978200"/>
            <a:ext cx="6048360" cy="2387520"/>
            <a:chOff x="3054240" y="1978200"/>
            <a:chExt cx="6048360" cy="2387520"/>
          </a:xfrm>
        </p:grpSpPr>
        <p:grpSp>
          <p:nvGrpSpPr>
            <p:cNvPr id="381" name=""/>
            <p:cNvGrpSpPr/>
            <p:nvPr/>
          </p:nvGrpSpPr>
          <p:grpSpPr>
            <a:xfrm>
              <a:off x="3054240" y="1978200"/>
              <a:ext cx="6048360" cy="2387520"/>
              <a:chOff x="3054240" y="1978200"/>
              <a:chExt cx="6048360" cy="2387520"/>
            </a:xfrm>
          </p:grpSpPr>
          <p:sp>
            <p:nvSpPr>
              <p:cNvPr id="382" name="矩形 5"/>
              <p:cNvSpPr/>
              <p:nvPr/>
            </p:nvSpPr>
            <p:spPr>
              <a:xfrm>
                <a:off x="3054240" y="2480760"/>
                <a:ext cx="6048360" cy="1382400"/>
              </a:xfrm>
              <a:prstGeom prst="rect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等腰三角形 6"/>
              <p:cNvSpPr/>
              <p:nvPr/>
            </p:nvSpPr>
            <p:spPr>
              <a:xfrm>
                <a:off x="8637480" y="197820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等腰三角形 7"/>
              <p:cNvSpPr/>
              <p:nvPr/>
            </p:nvSpPr>
            <p:spPr>
              <a:xfrm rot="10800000">
                <a:off x="3054240" y="3863160"/>
                <a:ext cx="465120" cy="502560"/>
              </a:xfrm>
              <a:prstGeom prst="triangle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1"/>
            <p:cNvSpPr/>
            <p:nvPr/>
          </p:nvSpPr>
          <p:spPr>
            <a:xfrm>
              <a:off x="3409920" y="2584800"/>
              <a:ext cx="5578200" cy="11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THANK YOU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587760" y="391644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此处填写分公司名称（如：贵阳分公司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椭圆 1"/>
          <p:cNvSpPr/>
          <p:nvPr/>
        </p:nvSpPr>
        <p:spPr>
          <a:xfrm>
            <a:off x="2027160" y="2960640"/>
            <a:ext cx="1260720" cy="1260360"/>
          </a:xfrm>
          <a:prstGeom prst="ellipse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 rot="5400000">
            <a:off x="2458800" y="3195720"/>
            <a:ext cx="432000" cy="79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7466040" y="568440"/>
            <a:ext cx="424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07160" y="2127240"/>
            <a:ext cx="181080" cy="3451320"/>
            <a:chOff x="7607160" y="2127240"/>
            <a:chExt cx="181080" cy="3451320"/>
          </a:xfrm>
        </p:grpSpPr>
        <p:sp>
          <p:nvSpPr>
            <p:cNvPr id="58" name="直接连接符 14"/>
            <p:cNvSpPr/>
            <p:nvPr/>
          </p:nvSpPr>
          <p:spPr>
            <a:xfrm>
              <a:off x="7697520" y="2144160"/>
              <a:ext cx="0" cy="342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607160" y="2127240"/>
              <a:ext cx="181080" cy="3451320"/>
              <a:chOff x="7607160" y="2127240"/>
              <a:chExt cx="181080" cy="3451320"/>
            </a:xfrm>
          </p:grpSpPr>
          <p:sp>
            <p:nvSpPr>
              <p:cNvPr id="60" name="椭圆 7"/>
              <p:cNvSpPr/>
              <p:nvPr/>
            </p:nvSpPr>
            <p:spPr>
              <a:xfrm>
                <a:off x="7607160" y="21272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8"/>
              <p:cNvSpPr/>
              <p:nvPr/>
            </p:nvSpPr>
            <p:spPr>
              <a:xfrm>
                <a:off x="7607160" y="27813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9"/>
              <p:cNvSpPr/>
              <p:nvPr/>
            </p:nvSpPr>
            <p:spPr>
              <a:xfrm>
                <a:off x="7607160" y="34358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10"/>
              <p:cNvSpPr/>
              <p:nvPr/>
            </p:nvSpPr>
            <p:spPr>
              <a:xfrm>
                <a:off x="7607160" y="40899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11"/>
              <p:cNvSpPr/>
              <p:nvPr/>
            </p:nvSpPr>
            <p:spPr>
              <a:xfrm>
                <a:off x="7607160" y="474444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12"/>
              <p:cNvSpPr/>
              <p:nvPr/>
            </p:nvSpPr>
            <p:spPr>
              <a:xfrm>
                <a:off x="7607160" y="5398560"/>
                <a:ext cx="181080" cy="180000"/>
              </a:xfrm>
              <a:prstGeom prst="ellips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文本框 18"/>
          <p:cNvSpPr/>
          <p:nvPr/>
        </p:nvSpPr>
        <p:spPr>
          <a:xfrm>
            <a:off x="804060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8040600" y="2706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0"/>
          <p:cNvSpPr/>
          <p:nvPr/>
        </p:nvSpPr>
        <p:spPr>
          <a:xfrm>
            <a:off x="8040600" y="39942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1"/>
          <p:cNvSpPr/>
          <p:nvPr/>
        </p:nvSpPr>
        <p:spPr>
          <a:xfrm>
            <a:off x="8040600" y="46483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成效果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2"/>
          <p:cNvSpPr/>
          <p:nvPr/>
        </p:nvSpPr>
        <p:spPr>
          <a:xfrm>
            <a:off x="8040600" y="5302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3"/>
          <p:cNvSpPr/>
          <p:nvPr/>
        </p:nvSpPr>
        <p:spPr>
          <a:xfrm>
            <a:off x="8061480" y="34084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4"/>
          <p:cNvSpPr/>
          <p:nvPr/>
        </p:nvSpPr>
        <p:spPr>
          <a:xfrm>
            <a:off x="3456000" y="3759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造字工房悦黑体验版纤细体"/>
                <a:ea typeface="微软雅黑"/>
              </a:rPr>
              <a:t>活动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7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7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主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8240" y="2043000"/>
            <a:ext cx="4896000" cy="1623600"/>
            <a:chOff x="768240" y="2043000"/>
            <a:chExt cx="4896000" cy="1623600"/>
          </a:xfrm>
        </p:grpSpPr>
        <p:sp>
          <p:nvSpPr>
            <p:cNvPr id="81" name="文本框 19"/>
            <p:cNvSpPr/>
            <p:nvPr/>
          </p:nvSpPr>
          <p:spPr>
            <a:xfrm>
              <a:off x="3612960" y="204300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背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768240" y="2047320"/>
              <a:ext cx="4896000" cy="1619280"/>
              <a:chOff x="768240" y="2047320"/>
              <a:chExt cx="4896000" cy="1619280"/>
            </a:xfrm>
          </p:grpSpPr>
          <p:sp>
            <p:nvSpPr>
              <p:cNvPr id="83" name="矩形 4"/>
              <p:cNvSpPr/>
              <p:nvPr/>
            </p:nvSpPr>
            <p:spPr>
              <a:xfrm>
                <a:off x="768240" y="238824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5"/>
              <p:cNvSpPr/>
              <p:nvPr/>
            </p:nvSpPr>
            <p:spPr>
              <a:xfrm>
                <a:off x="5269320" y="20473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6"/>
              <p:cNvSpPr/>
              <p:nvPr/>
            </p:nvSpPr>
            <p:spPr>
              <a:xfrm rot="10800000">
                <a:off x="768240" y="332568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1"/>
            <p:cNvSpPr/>
            <p:nvPr/>
          </p:nvSpPr>
          <p:spPr>
            <a:xfrm>
              <a:off x="1056240" y="249912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背景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49160" y="3821040"/>
            <a:ext cx="4896000" cy="1623600"/>
            <a:chOff x="749160" y="3821040"/>
            <a:chExt cx="4896000" cy="1623600"/>
          </a:xfrm>
        </p:grpSpPr>
        <p:sp>
          <p:nvSpPr>
            <p:cNvPr id="88" name="文本框 20"/>
            <p:cNvSpPr/>
            <p:nvPr/>
          </p:nvSpPr>
          <p:spPr>
            <a:xfrm>
              <a:off x="3593880" y="3821040"/>
              <a:ext cx="165600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活动目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9160" y="3825360"/>
              <a:ext cx="4896000" cy="1619280"/>
              <a:chOff x="749160" y="3825360"/>
              <a:chExt cx="4896000" cy="1619280"/>
            </a:xfrm>
          </p:grpSpPr>
          <p:sp>
            <p:nvSpPr>
              <p:cNvPr id="90" name="矩形 22"/>
              <p:cNvSpPr/>
              <p:nvPr/>
            </p:nvSpPr>
            <p:spPr>
              <a:xfrm>
                <a:off x="749160" y="4166280"/>
                <a:ext cx="4896000" cy="937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23"/>
              <p:cNvSpPr/>
              <p:nvPr/>
            </p:nvSpPr>
            <p:spPr>
              <a:xfrm>
                <a:off x="5250240" y="382536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24"/>
              <p:cNvSpPr/>
              <p:nvPr/>
            </p:nvSpPr>
            <p:spPr>
              <a:xfrm rot="10800000">
                <a:off x="749160" y="5103720"/>
                <a:ext cx="376560" cy="3409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"/>
            <p:cNvSpPr/>
            <p:nvPr/>
          </p:nvSpPr>
          <p:spPr>
            <a:xfrm>
              <a:off x="1037160" y="4277160"/>
              <a:ext cx="4515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此处添加文本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此处添加文本</a:t>
              </a: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</a:rPr>
                <a:t>（介绍活动开展的想要达成的目的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4" descr="商务人士"/>
          <p:cNvPicPr/>
          <p:nvPr/>
        </p:nvPicPr>
        <p:blipFill>
          <a:blip r:embed="rId2"/>
          <a:stretch/>
        </p:blipFill>
        <p:spPr>
          <a:xfrm>
            <a:off x="6477120" y="1771560"/>
            <a:ext cx="571500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96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97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2360" y="623736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44600" y="4879800"/>
            <a:ext cx="1332000" cy="1332000"/>
            <a:chOff x="1344600" y="4879800"/>
            <a:chExt cx="1332000" cy="1332000"/>
          </a:xfrm>
        </p:grpSpPr>
        <p:sp>
          <p:nvSpPr>
            <p:cNvPr id="103" name=""/>
            <p:cNvSpPr/>
            <p:nvPr/>
          </p:nvSpPr>
          <p:spPr>
            <a:xfrm>
              <a:off x="1344600" y="4879800"/>
              <a:ext cx="1332000" cy="13320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2600" y="4988160"/>
              <a:ext cx="1115280" cy="111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48680" y="5081400"/>
              <a:ext cx="123840" cy="58860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60000">
              <a:off x="2118240" y="5254560"/>
              <a:ext cx="123840" cy="5878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280" y="5514480"/>
              <a:ext cx="619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021200" y="4879800"/>
            <a:ext cx="1229760" cy="1331640"/>
            <a:chOff x="4021200" y="4879800"/>
            <a:chExt cx="1229760" cy="1331640"/>
          </a:xfrm>
        </p:grpSpPr>
        <p:grpSp>
          <p:nvGrpSpPr>
            <p:cNvPr id="109" name=""/>
            <p:cNvGrpSpPr/>
            <p:nvPr/>
          </p:nvGrpSpPr>
          <p:grpSpPr>
            <a:xfrm>
              <a:off x="4292640" y="4879800"/>
              <a:ext cx="958320" cy="1331640"/>
              <a:chOff x="4292640" y="4879800"/>
              <a:chExt cx="958320" cy="1331640"/>
            </a:xfrm>
          </p:grpSpPr>
          <p:sp>
            <p:nvSpPr>
              <p:cNvPr id="110" name="Oval 5"/>
              <p:cNvSpPr/>
              <p:nvPr/>
            </p:nvSpPr>
            <p:spPr>
              <a:xfrm>
                <a:off x="457668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429264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21200" y="4879800"/>
              <a:ext cx="958320" cy="1331640"/>
              <a:chOff x="4021200" y="4879800"/>
              <a:chExt cx="958320" cy="1331640"/>
            </a:xfrm>
          </p:grpSpPr>
          <p:sp>
            <p:nvSpPr>
              <p:cNvPr id="113" name="Oval 5"/>
              <p:cNvSpPr/>
              <p:nvPr/>
            </p:nvSpPr>
            <p:spPr>
              <a:xfrm>
                <a:off x="4305240" y="4879800"/>
                <a:ext cx="374400" cy="379080"/>
              </a:xfrm>
              <a:prstGeom prst="ellipse">
                <a:avLst/>
              </a:prstGeom>
              <a:solidFill>
                <a:srgbClr val="ff4646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4021200" y="5326920"/>
                <a:ext cx="958320" cy="884520"/>
              </a:xfrm>
              <a:prstGeom prst="pie">
                <a:avLst/>
              </a:prstGeom>
              <a:solidFill>
                <a:srgbClr val="ff4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6595920" y="4879800"/>
            <a:ext cx="1752840" cy="1332000"/>
            <a:chOff x="6595920" y="4879800"/>
            <a:chExt cx="1752840" cy="1332000"/>
          </a:xfrm>
        </p:grpSpPr>
        <p:sp>
          <p:nvSpPr>
            <p:cNvPr id="116" name="Freeform 5"/>
            <p:cNvSpPr/>
            <p:nvPr/>
          </p:nvSpPr>
          <p:spPr>
            <a:xfrm>
              <a:off x="7617960" y="6135120"/>
              <a:ext cx="96120" cy="766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7964280" y="4879800"/>
              <a:ext cx="384480" cy="33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8003160" y="5136120"/>
              <a:ext cx="288360" cy="1922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941960" y="5243040"/>
              <a:ext cx="205560" cy="188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785000" y="5285520"/>
              <a:ext cx="192600" cy="2570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7840800" y="5351040"/>
              <a:ext cx="61560" cy="60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880760" y="5381280"/>
              <a:ext cx="48600" cy="57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7880760" y="5384880"/>
              <a:ext cx="18360" cy="194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7836840" y="5454000"/>
              <a:ext cx="236520" cy="138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7885440" y="5565240"/>
              <a:ext cx="196200" cy="1533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8046720" y="5688000"/>
              <a:ext cx="35280" cy="262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59600" y="5706720"/>
              <a:ext cx="130680" cy="14184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7894080" y="5817960"/>
              <a:ext cx="148680" cy="1764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7666560" y="5929200"/>
              <a:ext cx="276120" cy="183600"/>
            </a:xfrm>
            <a:prstGeom prst="pi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7482600" y="5894640"/>
              <a:ext cx="271440" cy="1836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7456680" y="5790960"/>
              <a:ext cx="201600" cy="169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7228800" y="5779440"/>
              <a:ext cx="31068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6647760" y="5438160"/>
              <a:ext cx="661320" cy="3754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7269480" y="5592240"/>
              <a:ext cx="415080" cy="302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7028640" y="5381280"/>
              <a:ext cx="428760" cy="2952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7806600" y="5756040"/>
              <a:ext cx="166320" cy="204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639920" y="5756040"/>
              <a:ext cx="192600" cy="20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7623360" y="5642280"/>
              <a:ext cx="266760" cy="153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7836840" y="5587920"/>
              <a:ext cx="166320" cy="1846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7688520" y="5530680"/>
              <a:ext cx="205560" cy="17208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7684560" y="5373720"/>
              <a:ext cx="136080" cy="218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7539480" y="5412240"/>
              <a:ext cx="175680" cy="2905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07080" y="5415840"/>
              <a:ext cx="95760" cy="14976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7163640" y="5266440"/>
              <a:ext cx="468000" cy="4021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7312680" y="4894920"/>
              <a:ext cx="777600" cy="59400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6595920" y="4995000"/>
              <a:ext cx="695160" cy="493920"/>
            </a:xfrm>
            <a:prstGeom prst="pie">
              <a:avLst/>
            </a:prstGeom>
            <a:solidFill>
              <a:srgbClr val="ff4646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8042760" y="5902200"/>
              <a:ext cx="69480" cy="123480"/>
            </a:xfrm>
            <a:prstGeom prst="pie">
              <a:avLst/>
            </a:prstGeom>
            <a:solidFill>
              <a:srgbClr val="ff4646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693360" y="45975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4646"/>
                </a:solidFill>
                <a:latin typeface="Arial Black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20880" y="2664000"/>
            <a:ext cx="1896840" cy="1529640"/>
            <a:chOff x="920880" y="2664000"/>
            <a:chExt cx="1896840" cy="1529640"/>
          </a:xfrm>
        </p:grpSpPr>
        <p:grpSp>
          <p:nvGrpSpPr>
            <p:cNvPr id="150" name=""/>
            <p:cNvGrpSpPr/>
            <p:nvPr/>
          </p:nvGrpSpPr>
          <p:grpSpPr>
            <a:xfrm>
              <a:off x="920880" y="2664000"/>
              <a:ext cx="1896840" cy="1529640"/>
              <a:chOff x="920880" y="2664000"/>
              <a:chExt cx="1896840" cy="152964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920880" y="2664000"/>
                <a:ext cx="1896840" cy="1224360"/>
                <a:chOff x="920880" y="2664000"/>
                <a:chExt cx="1896840" cy="12243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46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20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flipV="1">
                <a:off x="1594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061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36800" y="2664000"/>
            <a:ext cx="1899000" cy="1529640"/>
            <a:chOff x="3736800" y="2664000"/>
            <a:chExt cx="1899000" cy="1529640"/>
          </a:xfrm>
        </p:grpSpPr>
        <p:grpSp>
          <p:nvGrpSpPr>
            <p:cNvPr id="157" name=""/>
            <p:cNvGrpSpPr/>
            <p:nvPr/>
          </p:nvGrpSpPr>
          <p:grpSpPr>
            <a:xfrm>
              <a:off x="3736800" y="2664000"/>
              <a:ext cx="1899000" cy="1529640"/>
              <a:chOff x="3736800" y="2664000"/>
              <a:chExt cx="1899000" cy="15296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36800" y="2664000"/>
                <a:ext cx="1899000" cy="1224360"/>
                <a:chOff x="3736800" y="2664000"/>
                <a:chExt cx="1899000" cy="1224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62000" y="2664000"/>
                  <a:ext cx="18738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6800" y="3588480"/>
                  <a:ext cx="18738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flipV="1">
                <a:off x="4411080" y="3886920"/>
                <a:ext cx="43200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3877560" y="2986200"/>
              <a:ext cx="16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554880" y="2664000"/>
            <a:ext cx="1896840" cy="1529640"/>
            <a:chOff x="6554880" y="2664000"/>
            <a:chExt cx="1896840" cy="1529640"/>
          </a:xfrm>
        </p:grpSpPr>
        <p:grpSp>
          <p:nvGrpSpPr>
            <p:cNvPr id="164" name=""/>
            <p:cNvGrpSpPr/>
            <p:nvPr/>
          </p:nvGrpSpPr>
          <p:grpSpPr>
            <a:xfrm>
              <a:off x="6554880" y="2664000"/>
              <a:ext cx="1896840" cy="1529640"/>
              <a:chOff x="6554880" y="2664000"/>
              <a:chExt cx="1896840" cy="15296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6554880" y="2664000"/>
                <a:ext cx="1896840" cy="1224360"/>
                <a:chOff x="6554880" y="2664000"/>
                <a:chExt cx="1896840" cy="1224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580080" y="2664000"/>
                  <a:ext cx="187164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54880" y="3588480"/>
                  <a:ext cx="187164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V="1">
                <a:off x="722844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695640" y="298620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372600" y="2664000"/>
            <a:ext cx="1897200" cy="1529640"/>
            <a:chOff x="9372600" y="2664000"/>
            <a:chExt cx="1897200" cy="1529640"/>
          </a:xfrm>
        </p:grpSpPr>
        <p:grpSp>
          <p:nvGrpSpPr>
            <p:cNvPr id="171" name=""/>
            <p:cNvGrpSpPr/>
            <p:nvPr/>
          </p:nvGrpSpPr>
          <p:grpSpPr>
            <a:xfrm>
              <a:off x="9372600" y="2664000"/>
              <a:ext cx="1897200" cy="1529640"/>
              <a:chOff x="9372600" y="2664000"/>
              <a:chExt cx="1897200" cy="15296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9372600" y="2664000"/>
                <a:ext cx="1897200" cy="1224360"/>
                <a:chOff x="9372600" y="2664000"/>
                <a:chExt cx="1897200" cy="1224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9397800" y="2664000"/>
                  <a:ext cx="1872000" cy="864000"/>
                </a:xfrm>
                <a:prstGeom prst="flowChartAlternateProcess">
                  <a:avLst/>
                </a:prstGeom>
                <a:noFill/>
                <a:ln w="28440">
                  <a:solidFill>
                    <a:srgbClr val="ff464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372600" y="3588480"/>
                  <a:ext cx="1872000" cy="299880"/>
                </a:xfrm>
                <a:prstGeom prst="flowChartAlternateProcess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微软雅黑"/>
                    </a:rPr>
                    <a:t>活动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V="1">
                <a:off x="10046160" y="3886920"/>
                <a:ext cx="431640" cy="306360"/>
              </a:xfrm>
              <a:prstGeom prst="triangle">
                <a:avLst>
                  <a:gd name="adj" fmla="val 50000"/>
                </a:avLst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513360" y="2986200"/>
              <a:ext cx="16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插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178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179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流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9283680" y="3578400"/>
            <a:ext cx="782640" cy="14256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2117880" y="2374920"/>
            <a:ext cx="780840" cy="141120"/>
          </a:xfrm>
          <a:prstGeom prst="pie">
            <a:avLst/>
          </a:prstGeom>
          <a:solidFill>
            <a:srgbClr val="ddddd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3564000" y="262260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7"/>
          <p:cNvSpPr/>
          <p:nvPr/>
        </p:nvSpPr>
        <p:spPr>
          <a:xfrm>
            <a:off x="3564000" y="32511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2"/>
          <p:cNvSpPr/>
          <p:nvPr/>
        </p:nvSpPr>
        <p:spPr>
          <a:xfrm>
            <a:off x="3564000" y="3897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00200" y="2419200"/>
            <a:ext cx="4880160" cy="2260800"/>
            <a:chOff x="2500200" y="2419200"/>
            <a:chExt cx="4880160" cy="2260800"/>
          </a:xfrm>
        </p:grpSpPr>
        <p:sp>
          <p:nvSpPr>
            <p:cNvPr id="190" name="弧形 15"/>
            <p:cNvSpPr/>
            <p:nvPr/>
          </p:nvSpPr>
          <p:spPr>
            <a:xfrm>
              <a:off x="2500200" y="3589560"/>
              <a:ext cx="1089720" cy="109044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7"/>
            <p:cNvSpPr/>
            <p:nvPr/>
          </p:nvSpPr>
          <p:spPr>
            <a:xfrm>
              <a:off x="2500200" y="2419200"/>
              <a:ext cx="0" cy="171576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1"/>
            <p:cNvSpPr/>
            <p:nvPr/>
          </p:nvSpPr>
          <p:spPr>
            <a:xfrm>
              <a:off x="3029760" y="4680000"/>
              <a:ext cx="435060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803480" y="3652920"/>
            <a:ext cx="4879800" cy="2259000"/>
            <a:chOff x="4803480" y="3652920"/>
            <a:chExt cx="4879800" cy="2259000"/>
          </a:xfrm>
        </p:grpSpPr>
        <p:sp>
          <p:nvSpPr>
            <p:cNvPr id="194" name="弧形 43"/>
            <p:cNvSpPr/>
            <p:nvPr/>
          </p:nvSpPr>
          <p:spPr>
            <a:xfrm flipH="1">
              <a:off x="8593200" y="4822560"/>
              <a:ext cx="1089720" cy="1089360"/>
            </a:xfrm>
            <a:prstGeom prst="pie">
              <a:avLst/>
            </a:prstGeom>
            <a:noFill/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44"/>
            <p:cNvSpPr/>
            <p:nvPr/>
          </p:nvSpPr>
          <p:spPr>
            <a:xfrm>
              <a:off x="9683280" y="3652920"/>
              <a:ext cx="0" cy="171432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5"/>
            <p:cNvSpPr/>
            <p:nvPr/>
          </p:nvSpPr>
          <p:spPr>
            <a:xfrm flipH="1">
              <a:off x="4803480" y="5911920"/>
              <a:ext cx="4350240" cy="0"/>
            </a:xfrm>
            <a:prstGeom prst="line">
              <a:avLst/>
            </a:prstGeom>
            <a:ln w="19080">
              <a:solidFill>
                <a:srgbClr val="ff4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38"/>
          <p:cNvSpPr/>
          <p:nvPr/>
        </p:nvSpPr>
        <p:spPr>
          <a:xfrm>
            <a:off x="2060640" y="21398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6"/>
          <p:cNvSpPr/>
          <p:nvPr/>
        </p:nvSpPr>
        <p:spPr>
          <a:xfrm>
            <a:off x="9236160" y="3344040"/>
            <a:ext cx="895320" cy="30780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9"/>
          <p:cNvSpPr/>
          <p:nvPr/>
        </p:nvSpPr>
        <p:spPr>
          <a:xfrm>
            <a:off x="4325760" y="494676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0"/>
          <p:cNvSpPr/>
          <p:nvPr/>
        </p:nvSpPr>
        <p:spPr>
          <a:xfrm>
            <a:off x="4325760" y="5432400"/>
            <a:ext cx="47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5.</a:t>
            </a:r>
            <a:r>
              <a:rPr b="0" lang="zh-CN" sz="1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80360" y="4505400"/>
            <a:ext cx="349200" cy="349200"/>
            <a:chOff x="7380360" y="4505400"/>
            <a:chExt cx="349200" cy="349200"/>
          </a:xfrm>
        </p:grpSpPr>
        <p:sp>
          <p:nvSpPr>
            <p:cNvPr id="202" name=""/>
            <p:cNvSpPr/>
            <p:nvPr/>
          </p:nvSpPr>
          <p:spPr>
            <a:xfrm>
              <a:off x="7380360" y="450540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08440" y="453384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8760" y="455796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60000">
              <a:off x="7583400" y="460368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46680" y="467172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98920" y="5753160"/>
            <a:ext cx="349200" cy="349200"/>
            <a:chOff x="4498920" y="5753160"/>
            <a:chExt cx="349200" cy="349200"/>
          </a:xfrm>
        </p:grpSpPr>
        <p:sp>
          <p:nvSpPr>
            <p:cNvPr id="208" name=""/>
            <p:cNvSpPr/>
            <p:nvPr/>
          </p:nvSpPr>
          <p:spPr>
            <a:xfrm>
              <a:off x="4498920" y="5753160"/>
              <a:ext cx="349200" cy="349200"/>
            </a:xfrm>
            <a:prstGeom prst="ellipse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27000" y="5781600"/>
              <a:ext cx="292680" cy="29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57320" y="5805720"/>
              <a:ext cx="32400" cy="15444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60000">
              <a:off x="4701960" y="5851440"/>
              <a:ext cx="32400" cy="154080"/>
            </a:xfrm>
            <a:prstGeom prst="rect">
              <a:avLst/>
            </a:prstGeom>
            <a:solidFill>
              <a:srgbClr val="ff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65240" y="5919480"/>
              <a:ext cx="16200" cy="1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14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15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540240" y="1476360"/>
            <a:ext cx="5110920" cy="4257720"/>
            <a:chOff x="3540240" y="1476360"/>
            <a:chExt cx="5110920" cy="4257720"/>
          </a:xfrm>
        </p:grpSpPr>
        <p:sp>
          <p:nvSpPr>
            <p:cNvPr id="221" name="等腰三角形 2"/>
            <p:cNvSpPr/>
            <p:nvPr/>
          </p:nvSpPr>
          <p:spPr>
            <a:xfrm flipH="1" flipV="1" rot="10800000">
              <a:off x="8013960" y="1476360"/>
              <a:ext cx="636840" cy="23472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4"/>
            <p:cNvSpPr/>
            <p:nvPr/>
          </p:nvSpPr>
          <p:spPr>
            <a:xfrm>
              <a:off x="3540240" y="4501800"/>
              <a:ext cx="5087880" cy="10162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等腰三角形 5"/>
            <p:cNvSpPr/>
            <p:nvPr/>
          </p:nvSpPr>
          <p:spPr>
            <a:xfrm rot="10800000">
              <a:off x="3542760" y="5518080"/>
              <a:ext cx="637200" cy="216000"/>
            </a:xfrm>
            <a:prstGeom prst="triangle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6"/>
            <p:cNvSpPr/>
            <p:nvPr/>
          </p:nvSpPr>
          <p:spPr>
            <a:xfrm>
              <a:off x="3540240" y="1743480"/>
              <a:ext cx="5086080" cy="0"/>
            </a:xfrm>
            <a:prstGeom prst="line">
              <a:avLst/>
            </a:prstGeom>
            <a:ln w="7632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7"/>
            <p:cNvSpPr/>
            <p:nvPr/>
          </p:nvSpPr>
          <p:spPr>
            <a:xfrm>
              <a:off x="3743280" y="4934160"/>
              <a:ext cx="47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照片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8"/>
            <p:cNvSpPr/>
            <p:nvPr/>
          </p:nvSpPr>
          <p:spPr>
            <a:xfrm>
              <a:off x="4019040" y="4573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造字工房悦黑体验版纤细体"/>
                  <a:ea typeface="微软雅黑"/>
                </a:rPr>
                <a:t>集体合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543480" y="1774800"/>
            <a:ext cx="5108400" cy="28796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29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30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照片展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等腰三角形 2"/>
          <p:cNvSpPr/>
          <p:nvPr/>
        </p:nvSpPr>
        <p:spPr>
          <a:xfrm flipH="1" flipV="1" rot="10800000">
            <a:off x="355320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1127160" y="1774800"/>
            <a:ext cx="2759040" cy="184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112716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5"/>
          <p:cNvSpPr/>
          <p:nvPr/>
        </p:nvSpPr>
        <p:spPr>
          <a:xfrm rot="10800000">
            <a:off x="112860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"/>
          <p:cNvSpPr/>
          <p:nvPr/>
        </p:nvSpPr>
        <p:spPr>
          <a:xfrm>
            <a:off x="1127160" y="176544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/>
          <p:cNvSpPr/>
          <p:nvPr/>
        </p:nvSpPr>
        <p:spPr>
          <a:xfrm>
            <a:off x="137484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等腰三角形 18"/>
          <p:cNvSpPr/>
          <p:nvPr/>
        </p:nvSpPr>
        <p:spPr>
          <a:xfrm flipH="1" flipV="1" rot="10800000">
            <a:off x="355320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1127160" y="4164120"/>
            <a:ext cx="2759040" cy="170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112716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1"/>
          <p:cNvSpPr/>
          <p:nvPr/>
        </p:nvSpPr>
        <p:spPr>
          <a:xfrm rot="10800000">
            <a:off x="112860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1127160" y="4156200"/>
            <a:ext cx="275904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"/>
          <p:cNvSpPr/>
          <p:nvPr/>
        </p:nvSpPr>
        <p:spPr>
          <a:xfrm>
            <a:off x="137484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5"/>
          <p:cNvSpPr/>
          <p:nvPr/>
        </p:nvSpPr>
        <p:spPr>
          <a:xfrm flipH="1" flipV="1" rot="10800000">
            <a:off x="7171200" y="1620720"/>
            <a:ext cx="34596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6"/>
          <p:cNvSpPr/>
          <p:nvPr/>
        </p:nvSpPr>
        <p:spPr>
          <a:xfrm>
            <a:off x="4746600" y="1774800"/>
            <a:ext cx="2757600" cy="170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7"/>
          <p:cNvSpPr/>
          <p:nvPr/>
        </p:nvSpPr>
        <p:spPr>
          <a:xfrm>
            <a:off x="4746600" y="347508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28"/>
          <p:cNvSpPr/>
          <p:nvPr/>
        </p:nvSpPr>
        <p:spPr>
          <a:xfrm rot="10800000">
            <a:off x="4746240" y="3828600"/>
            <a:ext cx="34596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9"/>
          <p:cNvSpPr/>
          <p:nvPr/>
        </p:nvSpPr>
        <p:spPr>
          <a:xfrm>
            <a:off x="4746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0"/>
          <p:cNvSpPr/>
          <p:nvPr/>
        </p:nvSpPr>
        <p:spPr>
          <a:xfrm>
            <a:off x="499320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32"/>
          <p:cNvSpPr/>
          <p:nvPr/>
        </p:nvSpPr>
        <p:spPr>
          <a:xfrm flipH="1" flipV="1" rot="10800000">
            <a:off x="7171200" y="4008960"/>
            <a:ext cx="34596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3"/>
          <p:cNvSpPr/>
          <p:nvPr/>
        </p:nvSpPr>
        <p:spPr>
          <a:xfrm>
            <a:off x="4746600" y="4164120"/>
            <a:ext cx="2757600" cy="1700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>
            <a:off x="4746600" y="5864400"/>
            <a:ext cx="275760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35"/>
          <p:cNvSpPr/>
          <p:nvPr/>
        </p:nvSpPr>
        <p:spPr>
          <a:xfrm rot="10800000">
            <a:off x="4746240" y="6217920"/>
            <a:ext cx="34596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6"/>
          <p:cNvSpPr/>
          <p:nvPr/>
        </p:nvSpPr>
        <p:spPr>
          <a:xfrm>
            <a:off x="4746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7"/>
          <p:cNvSpPr/>
          <p:nvPr/>
        </p:nvSpPr>
        <p:spPr>
          <a:xfrm>
            <a:off x="499320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39"/>
          <p:cNvSpPr/>
          <p:nvPr/>
        </p:nvSpPr>
        <p:spPr>
          <a:xfrm flipH="1" flipV="1" rot="10800000">
            <a:off x="10790640" y="1620720"/>
            <a:ext cx="344520" cy="12888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0"/>
          <p:cNvSpPr/>
          <p:nvPr/>
        </p:nvSpPr>
        <p:spPr>
          <a:xfrm>
            <a:off x="8364600" y="1774800"/>
            <a:ext cx="2759040" cy="1700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1"/>
          <p:cNvSpPr/>
          <p:nvPr/>
        </p:nvSpPr>
        <p:spPr>
          <a:xfrm>
            <a:off x="8364600" y="347508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等腰三角形 42"/>
          <p:cNvSpPr/>
          <p:nvPr/>
        </p:nvSpPr>
        <p:spPr>
          <a:xfrm rot="10800000">
            <a:off x="8366040" y="3828600"/>
            <a:ext cx="346320" cy="1177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3"/>
          <p:cNvSpPr/>
          <p:nvPr/>
        </p:nvSpPr>
        <p:spPr>
          <a:xfrm>
            <a:off x="8364600" y="176544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4"/>
          <p:cNvSpPr/>
          <p:nvPr/>
        </p:nvSpPr>
        <p:spPr>
          <a:xfrm>
            <a:off x="8611920" y="35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46"/>
          <p:cNvSpPr/>
          <p:nvPr/>
        </p:nvSpPr>
        <p:spPr>
          <a:xfrm flipH="1" flipV="1" rot="10800000">
            <a:off x="10790640" y="4008960"/>
            <a:ext cx="344520" cy="12852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7"/>
          <p:cNvSpPr/>
          <p:nvPr/>
        </p:nvSpPr>
        <p:spPr>
          <a:xfrm>
            <a:off x="8364600" y="4164120"/>
            <a:ext cx="2759040" cy="17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8"/>
          <p:cNvSpPr/>
          <p:nvPr/>
        </p:nvSpPr>
        <p:spPr>
          <a:xfrm>
            <a:off x="8364600" y="5864400"/>
            <a:ext cx="2759040" cy="353880"/>
          </a:xfrm>
          <a:prstGeom prst="rect">
            <a:avLst/>
          </a:pr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等腰三角形 49"/>
          <p:cNvSpPr/>
          <p:nvPr/>
        </p:nvSpPr>
        <p:spPr>
          <a:xfrm rot="10800000">
            <a:off x="8366040" y="6217920"/>
            <a:ext cx="346320" cy="119160"/>
          </a:xfrm>
          <a:prstGeom prst="triangle">
            <a:avLst>
              <a:gd name="adj" fmla="val 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50"/>
          <p:cNvSpPr/>
          <p:nvPr/>
        </p:nvSpPr>
        <p:spPr>
          <a:xfrm>
            <a:off x="8364600" y="4156200"/>
            <a:ext cx="2757600" cy="0"/>
          </a:xfrm>
          <a:prstGeom prst="line">
            <a:avLst/>
          </a:prstGeom>
          <a:ln w="7632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1"/>
          <p:cNvSpPr/>
          <p:nvPr/>
        </p:nvSpPr>
        <p:spPr>
          <a:xfrm>
            <a:off x="8611920" y="5902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造字工房悦黑体验版纤细体"/>
                <a:ea typeface="黑体"/>
              </a:rPr>
              <a:t>照片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272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273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文本框 3"/>
          <p:cNvSpPr/>
          <p:nvPr/>
        </p:nvSpPr>
        <p:spPr>
          <a:xfrm>
            <a:off x="263520" y="39528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达成效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48240" y="1700280"/>
            <a:ext cx="4895640" cy="1170000"/>
            <a:chOff x="3648240" y="1700280"/>
            <a:chExt cx="4895640" cy="1170000"/>
          </a:xfrm>
        </p:grpSpPr>
        <p:sp>
          <p:nvSpPr>
            <p:cNvPr id="279" name="文本框 4"/>
            <p:cNvSpPr/>
            <p:nvPr/>
          </p:nvSpPr>
          <p:spPr>
            <a:xfrm>
              <a:off x="6492960" y="170028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一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648240" y="1703160"/>
              <a:ext cx="4895640" cy="1167120"/>
              <a:chOff x="3648240" y="1703160"/>
              <a:chExt cx="4895640" cy="11671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3648240" y="194868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等腰三角形 8"/>
              <p:cNvSpPr/>
              <p:nvPr/>
            </p:nvSpPr>
            <p:spPr>
              <a:xfrm>
                <a:off x="8148960" y="17031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等腰三角形 9"/>
              <p:cNvSpPr/>
              <p:nvPr/>
            </p:nvSpPr>
            <p:spPr>
              <a:xfrm rot="10800000">
                <a:off x="3648240" y="262476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Rectangle 1"/>
            <p:cNvSpPr/>
            <p:nvPr/>
          </p:nvSpPr>
          <p:spPr>
            <a:xfrm>
              <a:off x="3935880" y="2142000"/>
              <a:ext cx="451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648240" y="2781360"/>
            <a:ext cx="4895640" cy="1167840"/>
            <a:chOff x="3648240" y="2781360"/>
            <a:chExt cx="4895640" cy="1167840"/>
          </a:xfrm>
        </p:grpSpPr>
        <p:sp>
          <p:nvSpPr>
            <p:cNvPr id="286" name="文本框 18"/>
            <p:cNvSpPr/>
            <p:nvPr/>
          </p:nvSpPr>
          <p:spPr>
            <a:xfrm>
              <a:off x="6492960" y="2781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二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648240" y="2784240"/>
              <a:ext cx="4895640" cy="1164960"/>
              <a:chOff x="3648240" y="2784240"/>
              <a:chExt cx="4895640" cy="1164960"/>
            </a:xfrm>
          </p:grpSpPr>
          <p:sp>
            <p:nvSpPr>
              <p:cNvPr id="288" name="矩形 21"/>
              <p:cNvSpPr/>
              <p:nvPr/>
            </p:nvSpPr>
            <p:spPr>
              <a:xfrm>
                <a:off x="3648240" y="3029400"/>
                <a:ext cx="4895640" cy="67464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22"/>
              <p:cNvSpPr/>
              <p:nvPr/>
            </p:nvSpPr>
            <p:spPr>
              <a:xfrm>
                <a:off x="8148960" y="27842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23"/>
              <p:cNvSpPr/>
              <p:nvPr/>
            </p:nvSpPr>
            <p:spPr>
              <a:xfrm rot="10800000">
                <a:off x="3648240" y="3704040"/>
                <a:ext cx="376560" cy="24516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"/>
            <p:cNvSpPr/>
            <p:nvPr/>
          </p:nvSpPr>
          <p:spPr>
            <a:xfrm>
              <a:off x="3935880" y="311508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648240" y="3789360"/>
            <a:ext cx="4895640" cy="1170000"/>
            <a:chOff x="3648240" y="3789360"/>
            <a:chExt cx="4895640" cy="1170000"/>
          </a:xfrm>
        </p:grpSpPr>
        <p:sp>
          <p:nvSpPr>
            <p:cNvPr id="293" name="文本框 4"/>
            <p:cNvSpPr/>
            <p:nvPr/>
          </p:nvSpPr>
          <p:spPr>
            <a:xfrm>
              <a:off x="6492960" y="378936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三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648240" y="3792240"/>
              <a:ext cx="4895640" cy="1167120"/>
              <a:chOff x="3648240" y="3792240"/>
              <a:chExt cx="4895640" cy="1167120"/>
            </a:xfrm>
          </p:grpSpPr>
          <p:sp>
            <p:nvSpPr>
              <p:cNvPr id="295" name="矩形 7"/>
              <p:cNvSpPr/>
              <p:nvPr/>
            </p:nvSpPr>
            <p:spPr>
              <a:xfrm>
                <a:off x="3648240" y="403776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8"/>
              <p:cNvSpPr/>
              <p:nvPr/>
            </p:nvSpPr>
            <p:spPr>
              <a:xfrm>
                <a:off x="8148960" y="37922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等腰三角形 9"/>
              <p:cNvSpPr/>
              <p:nvPr/>
            </p:nvSpPr>
            <p:spPr>
              <a:xfrm rot="10800000">
                <a:off x="3648240" y="471384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1"/>
            <p:cNvSpPr/>
            <p:nvPr/>
          </p:nvSpPr>
          <p:spPr>
            <a:xfrm>
              <a:off x="3935880" y="412452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48240" y="4869000"/>
            <a:ext cx="4895640" cy="1170000"/>
            <a:chOff x="3648240" y="4869000"/>
            <a:chExt cx="4895640" cy="1170000"/>
          </a:xfrm>
        </p:grpSpPr>
        <p:sp>
          <p:nvSpPr>
            <p:cNvPr id="300" name="文本框 18"/>
            <p:cNvSpPr/>
            <p:nvPr/>
          </p:nvSpPr>
          <p:spPr>
            <a:xfrm>
              <a:off x="6492960" y="4869000"/>
              <a:ext cx="1655640" cy="307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4646"/>
                  </a:solidFill>
                  <a:latin typeface="造字工房悦黑体验版纤细体"/>
                  <a:ea typeface="造字工房悦黑体验版纤细体"/>
                </a:rPr>
                <a:t>第四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8240" y="4871880"/>
              <a:ext cx="4895640" cy="1167120"/>
              <a:chOff x="3648240" y="4871880"/>
              <a:chExt cx="4895640" cy="1167120"/>
            </a:xfrm>
          </p:grpSpPr>
          <p:sp>
            <p:nvSpPr>
              <p:cNvPr id="302" name="矩形 21"/>
              <p:cNvSpPr/>
              <p:nvPr/>
            </p:nvSpPr>
            <p:spPr>
              <a:xfrm>
                <a:off x="3648240" y="5117400"/>
                <a:ext cx="4895640" cy="6757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等腰三角形 22"/>
              <p:cNvSpPr/>
              <p:nvPr/>
            </p:nvSpPr>
            <p:spPr>
              <a:xfrm>
                <a:off x="8148960" y="48718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等腰三角形 23"/>
              <p:cNvSpPr/>
              <p:nvPr/>
            </p:nvSpPr>
            <p:spPr>
              <a:xfrm rot="10800000">
                <a:off x="3648240" y="5793480"/>
                <a:ext cx="376560" cy="245520"/>
              </a:xfrm>
              <a:prstGeom prst="triangle">
                <a:avLst>
                  <a:gd name="adj" fmla="val 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1"/>
            <p:cNvSpPr/>
            <p:nvPr/>
          </p:nvSpPr>
          <p:spPr>
            <a:xfrm>
              <a:off x="3935880" y="5204160"/>
              <a:ext cx="451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63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07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08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3"/>
          <p:cNvSpPr/>
          <p:nvPr/>
        </p:nvSpPr>
        <p:spPr>
          <a:xfrm>
            <a:off x="263520" y="56340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4646"/>
                </a:solidFill>
                <a:latin typeface="造字工房悦黑体验版纤细体"/>
                <a:ea typeface="微软雅黑"/>
              </a:rPr>
              <a:t>活动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74720" y="2049480"/>
            <a:ext cx="10642320" cy="4338720"/>
            <a:chOff x="774720" y="2049480"/>
            <a:chExt cx="10642320" cy="4338720"/>
          </a:xfrm>
        </p:grpSpPr>
        <p:grpSp>
          <p:nvGrpSpPr>
            <p:cNvPr id="314" name=""/>
            <p:cNvGrpSpPr/>
            <p:nvPr/>
          </p:nvGrpSpPr>
          <p:grpSpPr>
            <a:xfrm>
              <a:off x="774720" y="2049480"/>
              <a:ext cx="4896000" cy="1169640"/>
              <a:chOff x="774720" y="2049480"/>
              <a:chExt cx="4896000" cy="1169640"/>
            </a:xfrm>
          </p:grpSpPr>
          <p:sp>
            <p:nvSpPr>
              <p:cNvPr id="315" name="文本框 4"/>
              <p:cNvSpPr/>
              <p:nvPr/>
            </p:nvSpPr>
            <p:spPr>
              <a:xfrm flipH="1">
                <a:off x="117000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774720" y="2052360"/>
                <a:ext cx="4896000" cy="1166760"/>
                <a:chOff x="774720" y="2052360"/>
                <a:chExt cx="4896000" cy="1166760"/>
              </a:xfrm>
            </p:grpSpPr>
            <p:sp>
              <p:nvSpPr>
                <p:cNvPr id="317" name="矩形 7"/>
                <p:cNvSpPr/>
                <p:nvPr/>
              </p:nvSpPr>
              <p:spPr>
                <a:xfrm flipH="1">
                  <a:off x="774720" y="229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等腰三角形 8"/>
                <p:cNvSpPr/>
                <p:nvPr/>
              </p:nvSpPr>
              <p:spPr>
                <a:xfrm flipH="1">
                  <a:off x="79308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等腰三角形 9"/>
                <p:cNvSpPr/>
                <p:nvPr/>
              </p:nvSpPr>
              <p:spPr>
                <a:xfrm flipH="1" rot="10800000">
                  <a:off x="529416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Rectangle 1"/>
              <p:cNvSpPr/>
              <p:nvPr/>
            </p:nvSpPr>
            <p:spPr>
              <a:xfrm flipH="1">
                <a:off x="86688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74720" y="3129480"/>
              <a:ext cx="4896000" cy="1169640"/>
              <a:chOff x="774720" y="3129480"/>
              <a:chExt cx="4896000" cy="1169640"/>
            </a:xfrm>
          </p:grpSpPr>
          <p:sp>
            <p:nvSpPr>
              <p:cNvPr id="322" name="文本框 18"/>
              <p:cNvSpPr/>
              <p:nvPr/>
            </p:nvSpPr>
            <p:spPr>
              <a:xfrm flipH="1">
                <a:off x="117000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74720" y="3132360"/>
                <a:ext cx="4896000" cy="1166760"/>
                <a:chOff x="774720" y="3132360"/>
                <a:chExt cx="4896000" cy="1166760"/>
              </a:xfrm>
            </p:grpSpPr>
            <p:sp>
              <p:nvSpPr>
                <p:cNvPr id="324" name="矩形 21"/>
                <p:cNvSpPr/>
                <p:nvPr/>
              </p:nvSpPr>
              <p:spPr>
                <a:xfrm flipH="1">
                  <a:off x="774720" y="337788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等腰三角形 22"/>
                <p:cNvSpPr/>
                <p:nvPr/>
              </p:nvSpPr>
              <p:spPr>
                <a:xfrm flipH="1">
                  <a:off x="79308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等腰三角形 23"/>
                <p:cNvSpPr/>
                <p:nvPr/>
              </p:nvSpPr>
              <p:spPr>
                <a:xfrm flipH="1" rot="10800000">
                  <a:off x="529416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Rectangle 1"/>
              <p:cNvSpPr/>
              <p:nvPr/>
            </p:nvSpPr>
            <p:spPr>
              <a:xfrm flipH="1">
                <a:off x="86688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74720" y="4138200"/>
              <a:ext cx="4896000" cy="1169640"/>
              <a:chOff x="774720" y="4138200"/>
              <a:chExt cx="4896000" cy="1169640"/>
            </a:xfrm>
          </p:grpSpPr>
          <p:sp>
            <p:nvSpPr>
              <p:cNvPr id="329" name="文本框 4"/>
              <p:cNvSpPr/>
              <p:nvPr/>
            </p:nvSpPr>
            <p:spPr>
              <a:xfrm flipH="1">
                <a:off x="117000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774720" y="4141080"/>
                <a:ext cx="4896000" cy="1166760"/>
                <a:chOff x="774720" y="4141080"/>
                <a:chExt cx="4896000" cy="1166760"/>
              </a:xfrm>
            </p:grpSpPr>
            <p:sp>
              <p:nvSpPr>
                <p:cNvPr id="331" name="矩形 7"/>
                <p:cNvSpPr/>
                <p:nvPr/>
              </p:nvSpPr>
              <p:spPr>
                <a:xfrm flipH="1">
                  <a:off x="774720" y="438660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等腰三角形 8"/>
                <p:cNvSpPr/>
                <p:nvPr/>
              </p:nvSpPr>
              <p:spPr>
                <a:xfrm flipH="1">
                  <a:off x="79308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等腰三角形 9"/>
                <p:cNvSpPr/>
                <p:nvPr/>
              </p:nvSpPr>
              <p:spPr>
                <a:xfrm flipH="1" rot="10800000">
                  <a:off x="529416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"/>
              <p:cNvSpPr/>
              <p:nvPr/>
            </p:nvSpPr>
            <p:spPr>
              <a:xfrm flipH="1">
                <a:off x="86688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74720" y="5218560"/>
              <a:ext cx="4896000" cy="1169640"/>
              <a:chOff x="774720" y="5218560"/>
              <a:chExt cx="4896000" cy="1169640"/>
            </a:xfrm>
          </p:grpSpPr>
          <p:sp>
            <p:nvSpPr>
              <p:cNvPr id="336" name="文本框 18"/>
              <p:cNvSpPr/>
              <p:nvPr/>
            </p:nvSpPr>
            <p:spPr>
              <a:xfrm flipH="1">
                <a:off x="117000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4646"/>
                    </a:solidFill>
                    <a:latin typeface="造字工房悦黑体验版纤细体"/>
                    <a:ea typeface="造字工房悦黑体验版纤细体"/>
                  </a:rPr>
                  <a:t>亮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74720" y="5221440"/>
                <a:ext cx="4896000" cy="1166760"/>
                <a:chOff x="774720" y="5221440"/>
                <a:chExt cx="4896000" cy="1166760"/>
              </a:xfrm>
            </p:grpSpPr>
            <p:sp>
              <p:nvSpPr>
                <p:cNvPr id="338" name="矩形 21"/>
                <p:cNvSpPr/>
                <p:nvPr/>
              </p:nvSpPr>
              <p:spPr>
                <a:xfrm flipH="1">
                  <a:off x="774720" y="5466960"/>
                  <a:ext cx="4896000" cy="675360"/>
                </a:xfrm>
                <a:prstGeom prst="rect">
                  <a:avLst/>
                </a:prstGeom>
                <a:solidFill>
                  <a:srgbClr val="ff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等腰三角形 22"/>
                <p:cNvSpPr/>
                <p:nvPr/>
              </p:nvSpPr>
              <p:spPr>
                <a:xfrm flipH="1">
                  <a:off x="79308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等腰三角形 23"/>
                <p:cNvSpPr/>
                <p:nvPr/>
              </p:nvSpPr>
              <p:spPr>
                <a:xfrm flipH="1" rot="10800000">
                  <a:off x="529416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Rectangle 1"/>
              <p:cNvSpPr/>
              <p:nvPr/>
            </p:nvSpPr>
            <p:spPr>
              <a:xfrm flipH="1">
                <a:off x="86688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521040" y="2049480"/>
              <a:ext cx="4896000" cy="1169640"/>
              <a:chOff x="6521040" y="2049480"/>
              <a:chExt cx="4896000" cy="1169640"/>
            </a:xfrm>
          </p:grpSpPr>
          <p:sp>
            <p:nvSpPr>
              <p:cNvPr id="343" name="文本框 4"/>
              <p:cNvSpPr/>
              <p:nvPr/>
            </p:nvSpPr>
            <p:spPr>
              <a:xfrm>
                <a:off x="9365760" y="204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6521040" y="2052360"/>
                <a:ext cx="4896000" cy="1166760"/>
                <a:chOff x="6521040" y="2052360"/>
                <a:chExt cx="4896000" cy="1166760"/>
              </a:xfrm>
            </p:grpSpPr>
            <p:sp>
              <p:nvSpPr>
                <p:cNvPr id="345" name="矩形 7"/>
                <p:cNvSpPr/>
                <p:nvPr/>
              </p:nvSpPr>
              <p:spPr>
                <a:xfrm>
                  <a:off x="6521040" y="229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等腰三角形 8"/>
                <p:cNvSpPr/>
                <p:nvPr/>
              </p:nvSpPr>
              <p:spPr>
                <a:xfrm>
                  <a:off x="11022120" y="205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等腰三角形 9"/>
                <p:cNvSpPr/>
                <p:nvPr/>
              </p:nvSpPr>
              <p:spPr>
                <a:xfrm rot="10800000">
                  <a:off x="6521040" y="297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Rectangle 1"/>
              <p:cNvSpPr/>
              <p:nvPr/>
            </p:nvSpPr>
            <p:spPr>
              <a:xfrm>
                <a:off x="6809040" y="2490840"/>
                <a:ext cx="4515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21040" y="3129480"/>
              <a:ext cx="4896000" cy="1169640"/>
              <a:chOff x="6521040" y="3129480"/>
              <a:chExt cx="4896000" cy="1169640"/>
            </a:xfrm>
          </p:grpSpPr>
          <p:sp>
            <p:nvSpPr>
              <p:cNvPr id="350" name="文本框 18"/>
              <p:cNvSpPr/>
              <p:nvPr/>
            </p:nvSpPr>
            <p:spPr>
              <a:xfrm>
                <a:off x="9365760" y="312948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6521040" y="3132360"/>
                <a:ext cx="4896000" cy="1166760"/>
                <a:chOff x="6521040" y="3132360"/>
                <a:chExt cx="4896000" cy="1166760"/>
              </a:xfrm>
            </p:grpSpPr>
            <p:sp>
              <p:nvSpPr>
                <p:cNvPr id="352" name="矩形 21"/>
                <p:cNvSpPr/>
                <p:nvPr/>
              </p:nvSpPr>
              <p:spPr>
                <a:xfrm>
                  <a:off x="6521040" y="337788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等腰三角形 22"/>
                <p:cNvSpPr/>
                <p:nvPr/>
              </p:nvSpPr>
              <p:spPr>
                <a:xfrm>
                  <a:off x="11022120" y="313236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等腰三角形 23"/>
                <p:cNvSpPr/>
                <p:nvPr/>
              </p:nvSpPr>
              <p:spPr>
                <a:xfrm rot="10800000">
                  <a:off x="6521040" y="405360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Rectangle 1"/>
              <p:cNvSpPr/>
              <p:nvPr/>
            </p:nvSpPr>
            <p:spPr>
              <a:xfrm>
                <a:off x="6809040" y="346428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21040" y="4138200"/>
              <a:ext cx="4896000" cy="1169640"/>
              <a:chOff x="6521040" y="4138200"/>
              <a:chExt cx="4896000" cy="1169640"/>
            </a:xfrm>
          </p:grpSpPr>
          <p:sp>
            <p:nvSpPr>
              <p:cNvPr id="357" name="文本框 4"/>
              <p:cNvSpPr/>
              <p:nvPr/>
            </p:nvSpPr>
            <p:spPr>
              <a:xfrm>
                <a:off x="9365760" y="413820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6521040" y="4141080"/>
                <a:ext cx="4896000" cy="1166760"/>
                <a:chOff x="6521040" y="4141080"/>
                <a:chExt cx="4896000" cy="1166760"/>
              </a:xfrm>
            </p:grpSpPr>
            <p:sp>
              <p:nvSpPr>
                <p:cNvPr id="359" name="矩形 7"/>
                <p:cNvSpPr/>
                <p:nvPr/>
              </p:nvSpPr>
              <p:spPr>
                <a:xfrm>
                  <a:off x="6521040" y="438660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等腰三角形 8"/>
                <p:cNvSpPr/>
                <p:nvPr/>
              </p:nvSpPr>
              <p:spPr>
                <a:xfrm>
                  <a:off x="11022120" y="41410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等腰三角形 9"/>
                <p:cNvSpPr/>
                <p:nvPr/>
              </p:nvSpPr>
              <p:spPr>
                <a:xfrm rot="10800000">
                  <a:off x="6521040" y="506232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Rectangle 1"/>
              <p:cNvSpPr/>
              <p:nvPr/>
            </p:nvSpPr>
            <p:spPr>
              <a:xfrm>
                <a:off x="6809040" y="447300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521040" y="5218560"/>
              <a:ext cx="4896000" cy="1169640"/>
              <a:chOff x="6521040" y="5218560"/>
              <a:chExt cx="4896000" cy="1169640"/>
            </a:xfrm>
          </p:grpSpPr>
          <p:sp>
            <p:nvSpPr>
              <p:cNvPr id="364" name="文本框 18"/>
              <p:cNvSpPr/>
              <p:nvPr/>
            </p:nvSpPr>
            <p:spPr>
              <a:xfrm>
                <a:off x="9365760" y="5218560"/>
                <a:ext cx="1656000" cy="307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缺点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521040" y="5221440"/>
                <a:ext cx="4896000" cy="1166760"/>
                <a:chOff x="6521040" y="5221440"/>
                <a:chExt cx="4896000" cy="1166760"/>
              </a:xfrm>
            </p:grpSpPr>
            <p:sp>
              <p:nvSpPr>
                <p:cNvPr id="366" name="矩形 21"/>
                <p:cNvSpPr/>
                <p:nvPr/>
              </p:nvSpPr>
              <p:spPr>
                <a:xfrm>
                  <a:off x="6521040" y="5466960"/>
                  <a:ext cx="4896000" cy="675360"/>
                </a:xfrm>
                <a:prstGeom prst="rect">
                  <a:avLst/>
                </a:prstGeom>
                <a:solidFill>
                  <a:srgbClr val="23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等腰三角形 22"/>
                <p:cNvSpPr/>
                <p:nvPr/>
              </p:nvSpPr>
              <p:spPr>
                <a:xfrm>
                  <a:off x="11022120" y="522144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等腰三角形 23"/>
                <p:cNvSpPr/>
                <p:nvPr/>
              </p:nvSpPr>
              <p:spPr>
                <a:xfrm rot="10800000">
                  <a:off x="6521040" y="6142680"/>
                  <a:ext cx="376560" cy="245520"/>
                </a:xfrm>
                <a:prstGeom prst="triangle">
                  <a:avLst>
                    <a:gd name="adj" fmla="val 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Rectangle 1"/>
              <p:cNvSpPr/>
              <p:nvPr/>
            </p:nvSpPr>
            <p:spPr>
              <a:xfrm>
                <a:off x="6809040" y="5553360"/>
                <a:ext cx="4515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763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造字工房悦黑体验版纤细体"/>
                    <a:ea typeface="造字工房悦黑体验版纤细体"/>
                  </a:rPr>
                  <a:t>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矩形 3"/>
          <p:cNvSpPr/>
          <p:nvPr/>
        </p:nvSpPr>
        <p:spPr>
          <a:xfrm>
            <a:off x="6095880" y="981000"/>
            <a:ext cx="360360" cy="360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7883640" y="981000"/>
            <a:ext cx="360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990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646"/>
                </a:solidFill>
                <a:latin typeface="Arial"/>
                <a:ea typeface="微软雅黑"/>
              </a:rPr>
              <a:t>亮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16880" y="1017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0490040" y="117360"/>
            <a:ext cx="1640160" cy="1192320"/>
            <a:chOff x="10490040" y="117360"/>
            <a:chExt cx="1640160" cy="1192320"/>
          </a:xfrm>
        </p:grpSpPr>
        <p:grpSp>
          <p:nvGrpSpPr>
            <p:cNvPr id="375" name=""/>
            <p:cNvGrpSpPr/>
            <p:nvPr/>
          </p:nvGrpSpPr>
          <p:grpSpPr>
            <a:xfrm>
              <a:off x="10490040" y="117360"/>
              <a:ext cx="1640160" cy="1192320"/>
              <a:chOff x="10490040" y="117360"/>
              <a:chExt cx="1640160" cy="1192320"/>
            </a:xfrm>
          </p:grpSpPr>
          <p:sp>
            <p:nvSpPr>
              <p:cNvPr id="376" name="椭圆 8"/>
              <p:cNvSpPr/>
              <p:nvPr/>
            </p:nvSpPr>
            <p:spPr>
              <a:xfrm>
                <a:off x="10713600" y="117360"/>
                <a:ext cx="1193040" cy="1192320"/>
              </a:xfrm>
              <a:prstGeom prst="ellipse">
                <a:avLst/>
              </a:pr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文本框 9"/>
              <p:cNvSpPr/>
              <p:nvPr/>
            </p:nvSpPr>
            <p:spPr>
              <a:xfrm>
                <a:off x="10490040" y="394920"/>
                <a:ext cx="16401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10920600" y="50400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52360" y="6232680"/>
            <a:ext cx="64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独家精心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sx-77</dc:creator>
  <dc:description/>
  <cp:keywords/>
  <dc:language>en-US</dc:language>
  <cp:lastModifiedBy>Sky123.Org</cp:lastModifiedBy>
  <dcterms:modified xsi:type="dcterms:W3CDTF">2014-12-29T06:38:0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