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E02-6F88-4D82-B584-541845B4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ABA-ED11-4102-85AE-7BC4CBCA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16B-0979-4559-9598-1A02677E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FCA-5DD5-4CD3-B5FF-6A36ADDC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9C6-02B9-4AB1-895F-050C072D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D30-07C1-4DB1-9984-6A44A5DE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EFC-D55C-46F8-8C71-13BC078E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2F1-96E6-45FF-A9F4-1FF889CE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ADB-603E-40D1-A2AE-61732B8E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08F-EC8A-4DC1-A6A5-6E69B77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C87-BCDF-482D-8398-27B9CB62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AE5-A339-43A1-BB6B-B086FE47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41C2-DFBC-4C26-9995-855B9ED583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165B-5428-4173-8736-4D2CC10EF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42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活动名称</a:t>
              </a:r>
              <a:r>
                <a:rPr b="1" lang="zh-CN" sz="7200" spc="-1" strike="noStrike">
                  <a:solidFill>
                    <a:srgbClr val="99ff66"/>
                  </a:solidFill>
                  <a:latin typeface="造字工房悦黑体验版纤细体"/>
                  <a:ea typeface="微软雅黑"/>
                </a:rPr>
                <a:t>报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</a:t>
            </a:r>
            <a:r>
              <a:rPr b="1" lang="en-US" sz="1800" spc="-1" strike="noStrike">
                <a:solidFill>
                  <a:srgbClr val="ff4646"/>
                </a:solidFill>
                <a:latin typeface="Arial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2360" y="6232680"/>
            <a:ext cx="64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站独家精心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81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82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 rot="5400000">
            <a:off x="2458800" y="3195720"/>
            <a:ext cx="432000" cy="79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8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0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1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3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8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90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4" descr="商务人士"/>
          <p:cNvPicPr/>
          <p:nvPr/>
        </p:nvPicPr>
        <p:blipFill>
          <a:blip r:embed="rId2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6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2360" y="623736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3" name="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9" name="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10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3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6" name="Freeform 5"/>
            <p:cNvSpPr/>
            <p:nvPr/>
          </p:nvSpPr>
          <p:spPr>
            <a:xfrm>
              <a:off x="7617960" y="6135120"/>
              <a:ext cx="96120" cy="766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7964280" y="4879800"/>
              <a:ext cx="384480" cy="33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8003160" y="5136120"/>
              <a:ext cx="288360" cy="1922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941960" y="5243040"/>
              <a:ext cx="205560" cy="188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785000" y="5285520"/>
              <a:ext cx="192600" cy="2570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7840800" y="5351040"/>
              <a:ext cx="61560" cy="60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880760" y="5381280"/>
              <a:ext cx="48600" cy="57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7880760" y="5384880"/>
              <a:ext cx="18360" cy="194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7836840" y="5454000"/>
              <a:ext cx="236520" cy="138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7885440" y="5565240"/>
              <a:ext cx="196200" cy="15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8046720" y="5688000"/>
              <a:ext cx="35280" cy="26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59600" y="5706720"/>
              <a:ext cx="130680" cy="141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7894080" y="5817960"/>
              <a:ext cx="148680" cy="1764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7666560" y="5929200"/>
              <a:ext cx="276120" cy="183600"/>
            </a:xfrm>
            <a:prstGeom prst="pi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7482600" y="5894640"/>
              <a:ext cx="271440" cy="183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7456680" y="5790960"/>
              <a:ext cx="201600" cy="169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7228800" y="5779440"/>
              <a:ext cx="31068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6647760" y="5438160"/>
              <a:ext cx="661320" cy="3754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7269480" y="5592240"/>
              <a:ext cx="415080" cy="302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7028640" y="5381280"/>
              <a:ext cx="42876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7806600" y="5756040"/>
              <a:ext cx="166320" cy="204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639920" y="5756040"/>
              <a:ext cx="192600" cy="20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7623360" y="5642280"/>
              <a:ext cx="266760" cy="153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7836840" y="5587920"/>
              <a:ext cx="166320" cy="1846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7688520" y="5530680"/>
              <a:ext cx="205560" cy="1720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7684560" y="5373720"/>
              <a:ext cx="136080" cy="218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7539480" y="5412240"/>
              <a:ext cx="175680" cy="29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07080" y="5415840"/>
              <a:ext cx="95760" cy="149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7163640" y="5266440"/>
              <a:ext cx="468000" cy="402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7312680" y="4894920"/>
              <a:ext cx="777600" cy="594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6595920" y="4995000"/>
              <a:ext cx="695160" cy="4939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8042760" y="5902200"/>
              <a:ext cx="69480" cy="1234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50" name="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7" name="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4" name="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71" name="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8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9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9283680" y="3578400"/>
            <a:ext cx="782640" cy="14256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117880" y="2374920"/>
            <a:ext cx="780840" cy="14112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90" name="弧形 15"/>
            <p:cNvSpPr/>
            <p:nvPr/>
          </p:nvSpPr>
          <p:spPr>
            <a:xfrm>
              <a:off x="2500200" y="3589560"/>
              <a:ext cx="1089720" cy="109044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4" name="弧形 43"/>
            <p:cNvSpPr/>
            <p:nvPr/>
          </p:nvSpPr>
          <p:spPr>
            <a:xfrm flipH="1">
              <a:off x="8593200" y="4822560"/>
              <a:ext cx="1089720" cy="108936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202" name="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8" name="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1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21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3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72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73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3"/>
          <p:cNvSpPr/>
          <p:nvPr/>
        </p:nvSpPr>
        <p:spPr>
          <a:xfrm>
            <a:off x="263520" y="39528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9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86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8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93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95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300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302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7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14" name="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15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17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22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24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9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31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36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8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43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45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50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52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57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9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64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66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75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7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Sky123.Org</cp:lastModifiedBy>
  <dcterms:modified xsi:type="dcterms:W3CDTF">2014-12-29T06:38:0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