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8A81-A4B4-4C6B-807A-689B3B750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E1DB-E9A7-4E26-88CB-9638FA8B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7631-0767-4DBF-90AE-E6A379EDA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3A93-428F-4254-A5C8-2C8B75269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8ABF-3BE8-4800-85D1-B671985A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5062-60A8-4644-9855-82B50828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9B4B-9066-41E4-A3C2-C07B368F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D005-0E67-4C7B-B3BF-4D23657B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9FE0-6D49-4D38-B9B4-85881942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B5F1-3971-41F1-8B57-7E2E6F33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A8A8-E0F4-48E4-9784-2CBC2993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64D5-7847-474D-B2F7-0F4000A5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7F47-FC26-448A-AFA7-9CB4EC7AD5A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32C3-AB74-44D1-AFCE-B567B76120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54240" y="1978200"/>
            <a:ext cx="6048360" cy="2387520"/>
            <a:chOff x="3054240" y="1978200"/>
            <a:chExt cx="6048360" cy="2387520"/>
          </a:xfrm>
        </p:grpSpPr>
        <p:grpSp>
          <p:nvGrpSpPr>
            <p:cNvPr id="42" name=""/>
            <p:cNvGrpSpPr/>
            <p:nvPr/>
          </p:nvGrpSpPr>
          <p:grpSpPr>
            <a:xfrm>
              <a:off x="3054240" y="1978200"/>
              <a:ext cx="6048360" cy="2387520"/>
              <a:chOff x="3054240" y="1978200"/>
              <a:chExt cx="6048360" cy="2387520"/>
            </a:xfrm>
          </p:grpSpPr>
          <p:sp>
            <p:nvSpPr>
              <p:cNvPr id="43" name="矩形 5"/>
              <p:cNvSpPr/>
              <p:nvPr/>
            </p:nvSpPr>
            <p:spPr>
              <a:xfrm>
                <a:off x="3054240" y="2480760"/>
                <a:ext cx="6048360" cy="1382400"/>
              </a:xfrm>
              <a:prstGeom prst="rect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等腰三角形 6"/>
              <p:cNvSpPr/>
              <p:nvPr/>
            </p:nvSpPr>
            <p:spPr>
              <a:xfrm>
                <a:off x="8637480" y="1978200"/>
                <a:ext cx="465120" cy="502560"/>
              </a:xfrm>
              <a:prstGeom prst="triangle">
                <a:avLst>
                  <a:gd name="adj" fmla="val 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等腰三角形 7"/>
              <p:cNvSpPr/>
              <p:nvPr/>
            </p:nvSpPr>
            <p:spPr>
              <a:xfrm rot="10800000">
                <a:off x="3054240" y="3863160"/>
                <a:ext cx="465120" cy="502560"/>
              </a:xfrm>
              <a:prstGeom prst="triangle">
                <a:avLst>
                  <a:gd name="adj" fmla="val 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Rectangle 1"/>
            <p:cNvSpPr/>
            <p:nvPr/>
          </p:nvSpPr>
          <p:spPr>
            <a:xfrm>
              <a:off x="3409920" y="2584800"/>
              <a:ext cx="5578200" cy="11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ffffff"/>
                  </a:solidFill>
                  <a:latin typeface="造字工房悦黑体验版纤细体"/>
                  <a:ea typeface="微软雅黑"/>
                </a:rPr>
                <a:t>活动名称</a:t>
              </a:r>
              <a:r>
                <a:rPr b="1" lang="zh-CN" sz="7200" spc="-1" strike="noStrike">
                  <a:solidFill>
                    <a:srgbClr val="99ff66"/>
                  </a:solidFill>
                  <a:latin typeface="造字工房悦黑体验版纤细体"/>
                  <a:ea typeface="微软雅黑"/>
                </a:rPr>
                <a:t>报告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3587760" y="3916440"/>
            <a:ext cx="55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4646"/>
                </a:solidFill>
                <a:latin typeface="Arial"/>
                <a:ea typeface="微软雅黑"/>
              </a:rPr>
              <a:t>此处填写分公司名称（如：</a:t>
            </a:r>
            <a:r>
              <a:rPr b="1" lang="en-US" sz="1800" spc="-1" strike="noStrike">
                <a:solidFill>
                  <a:srgbClr val="ff4646"/>
                </a:solidFill>
                <a:latin typeface="Arial"/>
                <a:ea typeface="微软雅黑"/>
              </a:rPr>
              <a:t>xx</a:t>
            </a:r>
            <a:r>
              <a:rPr b="1" lang="zh-CN" sz="1800" spc="-1" strike="noStrike">
                <a:solidFill>
                  <a:srgbClr val="ff4646"/>
                </a:solidFill>
                <a:latin typeface="Arial"/>
                <a:ea typeface="微软雅黑"/>
              </a:rPr>
              <a:t>分公司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49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50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52360" y="6232680"/>
            <a:ext cx="640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东坡下载站独家精心整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"/>
          <p:cNvGrpSpPr/>
          <p:nvPr/>
        </p:nvGrpSpPr>
        <p:grpSpPr>
          <a:xfrm>
            <a:off x="3054240" y="1978200"/>
            <a:ext cx="6048360" cy="2387520"/>
            <a:chOff x="3054240" y="1978200"/>
            <a:chExt cx="6048360" cy="2387520"/>
          </a:xfrm>
        </p:grpSpPr>
        <p:grpSp>
          <p:nvGrpSpPr>
            <p:cNvPr id="381" name=""/>
            <p:cNvGrpSpPr/>
            <p:nvPr/>
          </p:nvGrpSpPr>
          <p:grpSpPr>
            <a:xfrm>
              <a:off x="3054240" y="1978200"/>
              <a:ext cx="6048360" cy="2387520"/>
              <a:chOff x="3054240" y="1978200"/>
              <a:chExt cx="6048360" cy="2387520"/>
            </a:xfrm>
          </p:grpSpPr>
          <p:sp>
            <p:nvSpPr>
              <p:cNvPr id="382" name="矩形 5"/>
              <p:cNvSpPr/>
              <p:nvPr/>
            </p:nvSpPr>
            <p:spPr>
              <a:xfrm>
                <a:off x="3054240" y="2480760"/>
                <a:ext cx="6048360" cy="1382400"/>
              </a:xfrm>
              <a:prstGeom prst="rect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等腰三角形 6"/>
              <p:cNvSpPr/>
              <p:nvPr/>
            </p:nvSpPr>
            <p:spPr>
              <a:xfrm>
                <a:off x="8637480" y="1978200"/>
                <a:ext cx="465120" cy="502560"/>
              </a:xfrm>
              <a:prstGeom prst="triangle">
                <a:avLst>
                  <a:gd name="adj" fmla="val 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等腰三角形 7"/>
              <p:cNvSpPr/>
              <p:nvPr/>
            </p:nvSpPr>
            <p:spPr>
              <a:xfrm rot="10800000">
                <a:off x="3054240" y="3863160"/>
                <a:ext cx="465120" cy="502560"/>
              </a:xfrm>
              <a:prstGeom prst="triangle">
                <a:avLst>
                  <a:gd name="adj" fmla="val 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5" name="Rectangle 1"/>
            <p:cNvSpPr/>
            <p:nvPr/>
          </p:nvSpPr>
          <p:spPr>
            <a:xfrm>
              <a:off x="3409920" y="2584800"/>
              <a:ext cx="5578200" cy="11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ffffff"/>
                  </a:solidFill>
                  <a:latin typeface="造字工房悦黑体验版纤细体"/>
                  <a:ea typeface="微软雅黑"/>
                </a:rPr>
                <a:t>THANK YOU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3587760" y="3916440"/>
            <a:ext cx="55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4646"/>
                </a:solidFill>
                <a:latin typeface="Arial"/>
                <a:ea typeface="微软雅黑"/>
              </a:rPr>
              <a:t>此处填写分公司名称（如：贵阳分公司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52360" y="6232680"/>
            <a:ext cx="64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坡下载站独家精心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椭圆 1"/>
          <p:cNvSpPr/>
          <p:nvPr/>
        </p:nvSpPr>
        <p:spPr>
          <a:xfrm>
            <a:off x="2027160" y="2960640"/>
            <a:ext cx="1260720" cy="1260360"/>
          </a:xfrm>
          <a:prstGeom prst="ellipse">
            <a:avLst/>
          </a:prstGeom>
          <a:solidFill>
            <a:srgbClr val="ff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任意多边形 4"/>
          <p:cNvSpPr/>
          <p:nvPr/>
        </p:nvSpPr>
        <p:spPr>
          <a:xfrm rot="5400000">
            <a:off x="2458800" y="3195720"/>
            <a:ext cx="432000" cy="790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5"/>
          <p:cNvSpPr/>
          <p:nvPr/>
        </p:nvSpPr>
        <p:spPr>
          <a:xfrm>
            <a:off x="7466040" y="568440"/>
            <a:ext cx="424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目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607160" y="2127240"/>
            <a:ext cx="181080" cy="3451320"/>
            <a:chOff x="7607160" y="2127240"/>
            <a:chExt cx="181080" cy="3451320"/>
          </a:xfrm>
        </p:grpSpPr>
        <p:sp>
          <p:nvSpPr>
            <p:cNvPr id="58" name="直接连接符 14"/>
            <p:cNvSpPr/>
            <p:nvPr/>
          </p:nvSpPr>
          <p:spPr>
            <a:xfrm>
              <a:off x="7697520" y="2144160"/>
              <a:ext cx="0" cy="3421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607160" y="2127240"/>
              <a:ext cx="181080" cy="3451320"/>
              <a:chOff x="7607160" y="2127240"/>
              <a:chExt cx="181080" cy="3451320"/>
            </a:xfrm>
          </p:grpSpPr>
          <p:sp>
            <p:nvSpPr>
              <p:cNvPr id="60" name="椭圆 7"/>
              <p:cNvSpPr/>
              <p:nvPr/>
            </p:nvSpPr>
            <p:spPr>
              <a:xfrm>
                <a:off x="7607160" y="212724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椭圆 8"/>
              <p:cNvSpPr/>
              <p:nvPr/>
            </p:nvSpPr>
            <p:spPr>
              <a:xfrm>
                <a:off x="7607160" y="278136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椭圆 9"/>
              <p:cNvSpPr/>
              <p:nvPr/>
            </p:nvSpPr>
            <p:spPr>
              <a:xfrm>
                <a:off x="7607160" y="343584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椭圆 10"/>
              <p:cNvSpPr/>
              <p:nvPr/>
            </p:nvSpPr>
            <p:spPr>
              <a:xfrm>
                <a:off x="7607160" y="408996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椭圆 11"/>
              <p:cNvSpPr/>
              <p:nvPr/>
            </p:nvSpPr>
            <p:spPr>
              <a:xfrm>
                <a:off x="7607160" y="474444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椭圆 12"/>
              <p:cNvSpPr/>
              <p:nvPr/>
            </p:nvSpPr>
            <p:spPr>
              <a:xfrm>
                <a:off x="7607160" y="539856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文本框 18"/>
          <p:cNvSpPr/>
          <p:nvPr/>
        </p:nvSpPr>
        <p:spPr>
          <a:xfrm>
            <a:off x="8040600" y="2060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活动主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19"/>
          <p:cNvSpPr/>
          <p:nvPr/>
        </p:nvSpPr>
        <p:spPr>
          <a:xfrm>
            <a:off x="8040600" y="27068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活动简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20"/>
          <p:cNvSpPr/>
          <p:nvPr/>
        </p:nvSpPr>
        <p:spPr>
          <a:xfrm>
            <a:off x="8040600" y="39942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照片展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21"/>
          <p:cNvSpPr/>
          <p:nvPr/>
        </p:nvSpPr>
        <p:spPr>
          <a:xfrm>
            <a:off x="8040600" y="46483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达成效果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22"/>
          <p:cNvSpPr/>
          <p:nvPr/>
        </p:nvSpPr>
        <p:spPr>
          <a:xfrm>
            <a:off x="8040600" y="53020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活动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23"/>
          <p:cNvSpPr/>
          <p:nvPr/>
        </p:nvSpPr>
        <p:spPr>
          <a:xfrm>
            <a:off x="8061480" y="340848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活动流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24"/>
          <p:cNvSpPr/>
          <p:nvPr/>
        </p:nvSpPr>
        <p:spPr>
          <a:xfrm>
            <a:off x="3456000" y="37591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活动名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74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75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252360" y="6232680"/>
            <a:ext cx="64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坡下载站独家精心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活动主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68240" y="2043000"/>
            <a:ext cx="4896000" cy="1623600"/>
            <a:chOff x="768240" y="2043000"/>
            <a:chExt cx="4896000" cy="1623600"/>
          </a:xfrm>
        </p:grpSpPr>
        <p:sp>
          <p:nvSpPr>
            <p:cNvPr id="81" name="文本框 19"/>
            <p:cNvSpPr/>
            <p:nvPr/>
          </p:nvSpPr>
          <p:spPr>
            <a:xfrm>
              <a:off x="3612960" y="2043000"/>
              <a:ext cx="165600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活动背景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768240" y="2047320"/>
              <a:ext cx="4896000" cy="1619280"/>
              <a:chOff x="768240" y="2047320"/>
              <a:chExt cx="4896000" cy="1619280"/>
            </a:xfrm>
          </p:grpSpPr>
          <p:sp>
            <p:nvSpPr>
              <p:cNvPr id="83" name="矩形 4"/>
              <p:cNvSpPr/>
              <p:nvPr/>
            </p:nvSpPr>
            <p:spPr>
              <a:xfrm>
                <a:off x="768240" y="2388240"/>
                <a:ext cx="4896000" cy="93780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等腰三角形 5"/>
              <p:cNvSpPr/>
              <p:nvPr/>
            </p:nvSpPr>
            <p:spPr>
              <a:xfrm>
                <a:off x="5269320" y="2047320"/>
                <a:ext cx="376560" cy="3409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等腰三角形 6"/>
              <p:cNvSpPr/>
              <p:nvPr/>
            </p:nvSpPr>
            <p:spPr>
              <a:xfrm rot="10800000">
                <a:off x="768240" y="3325680"/>
                <a:ext cx="376560" cy="3409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Rectangle 1"/>
            <p:cNvSpPr/>
            <p:nvPr/>
          </p:nvSpPr>
          <p:spPr>
            <a:xfrm>
              <a:off x="1056240" y="2499120"/>
              <a:ext cx="45154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此处添加文本（介绍活动开展的背景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此处添加文本</a:t>
              </a: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（介绍活动开展的背景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此处添加文本</a:t>
              </a: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（介绍活动开展的背景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749160" y="3821040"/>
            <a:ext cx="4896000" cy="1623600"/>
            <a:chOff x="749160" y="3821040"/>
            <a:chExt cx="4896000" cy="1623600"/>
          </a:xfrm>
        </p:grpSpPr>
        <p:sp>
          <p:nvSpPr>
            <p:cNvPr id="88" name="文本框 20"/>
            <p:cNvSpPr/>
            <p:nvPr/>
          </p:nvSpPr>
          <p:spPr>
            <a:xfrm>
              <a:off x="3593880" y="3821040"/>
              <a:ext cx="165600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活动目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749160" y="3825360"/>
              <a:ext cx="4896000" cy="1619280"/>
              <a:chOff x="749160" y="3825360"/>
              <a:chExt cx="4896000" cy="1619280"/>
            </a:xfrm>
          </p:grpSpPr>
          <p:sp>
            <p:nvSpPr>
              <p:cNvPr id="90" name="矩形 22"/>
              <p:cNvSpPr/>
              <p:nvPr/>
            </p:nvSpPr>
            <p:spPr>
              <a:xfrm>
                <a:off x="749160" y="4166280"/>
                <a:ext cx="4896000" cy="93780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等腰三角形 23"/>
              <p:cNvSpPr/>
              <p:nvPr/>
            </p:nvSpPr>
            <p:spPr>
              <a:xfrm>
                <a:off x="5250240" y="3825360"/>
                <a:ext cx="376560" cy="3409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等腰三角形 24"/>
              <p:cNvSpPr/>
              <p:nvPr/>
            </p:nvSpPr>
            <p:spPr>
              <a:xfrm rot="10800000">
                <a:off x="749160" y="5103720"/>
                <a:ext cx="376560" cy="3409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Rectangle 1"/>
            <p:cNvSpPr/>
            <p:nvPr/>
          </p:nvSpPr>
          <p:spPr>
            <a:xfrm>
              <a:off x="1037160" y="4277160"/>
              <a:ext cx="45154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此处添加文本（介绍活动开展的想要达成的目的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此处添加文本</a:t>
              </a: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（介绍活动开展的想要达成的目的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此处添加文本</a:t>
              </a: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（介绍活动开展的想要达成的目的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14" descr="商务人士"/>
          <p:cNvPicPr/>
          <p:nvPr/>
        </p:nvPicPr>
        <p:blipFill>
          <a:blip r:embed="rId2"/>
          <a:stretch/>
        </p:blipFill>
        <p:spPr>
          <a:xfrm>
            <a:off x="6477120" y="1771560"/>
            <a:ext cx="5715000" cy="381024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96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97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2360" y="6237360"/>
            <a:ext cx="64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坡下载站独家精心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活动简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344600" y="4879800"/>
            <a:ext cx="1332000" cy="1332000"/>
            <a:chOff x="1344600" y="4879800"/>
            <a:chExt cx="1332000" cy="1332000"/>
          </a:xfrm>
        </p:grpSpPr>
        <p:sp>
          <p:nvSpPr>
            <p:cNvPr id="103" name=""/>
            <p:cNvSpPr/>
            <p:nvPr/>
          </p:nvSpPr>
          <p:spPr>
            <a:xfrm>
              <a:off x="1344600" y="4879800"/>
              <a:ext cx="1332000" cy="1332000"/>
            </a:xfrm>
            <a:prstGeom prst="ellipse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52600" y="4988160"/>
              <a:ext cx="1115280" cy="111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948680" y="5081400"/>
              <a:ext cx="123840" cy="58860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5460000">
              <a:off x="2118240" y="5254560"/>
              <a:ext cx="123840" cy="58788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79280" y="5514480"/>
              <a:ext cx="61920" cy="61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4021200" y="4879800"/>
            <a:ext cx="1229760" cy="1331640"/>
            <a:chOff x="4021200" y="4879800"/>
            <a:chExt cx="1229760" cy="1331640"/>
          </a:xfrm>
        </p:grpSpPr>
        <p:grpSp>
          <p:nvGrpSpPr>
            <p:cNvPr id="109" name=""/>
            <p:cNvGrpSpPr/>
            <p:nvPr/>
          </p:nvGrpSpPr>
          <p:grpSpPr>
            <a:xfrm>
              <a:off x="4292640" y="4879800"/>
              <a:ext cx="958320" cy="1331640"/>
              <a:chOff x="4292640" y="4879800"/>
              <a:chExt cx="958320" cy="1331640"/>
            </a:xfrm>
          </p:grpSpPr>
          <p:sp>
            <p:nvSpPr>
              <p:cNvPr id="110" name="Oval 5"/>
              <p:cNvSpPr/>
              <p:nvPr/>
            </p:nvSpPr>
            <p:spPr>
              <a:xfrm>
                <a:off x="4576680" y="4879800"/>
                <a:ext cx="374400" cy="37908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6"/>
              <p:cNvSpPr/>
              <p:nvPr/>
            </p:nvSpPr>
            <p:spPr>
              <a:xfrm>
                <a:off x="4292640" y="5326920"/>
                <a:ext cx="958320" cy="884520"/>
              </a:xfrm>
              <a:prstGeom prst="pi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4021200" y="4879800"/>
              <a:ext cx="958320" cy="1331640"/>
              <a:chOff x="4021200" y="4879800"/>
              <a:chExt cx="958320" cy="1331640"/>
            </a:xfrm>
          </p:grpSpPr>
          <p:sp>
            <p:nvSpPr>
              <p:cNvPr id="113" name="Oval 5"/>
              <p:cNvSpPr/>
              <p:nvPr/>
            </p:nvSpPr>
            <p:spPr>
              <a:xfrm>
                <a:off x="4305240" y="4879800"/>
                <a:ext cx="374400" cy="379080"/>
              </a:xfrm>
              <a:prstGeom prst="ellipse">
                <a:avLst/>
              </a:prstGeom>
              <a:solidFill>
                <a:srgbClr val="ff4646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6"/>
              <p:cNvSpPr/>
              <p:nvPr/>
            </p:nvSpPr>
            <p:spPr>
              <a:xfrm>
                <a:off x="4021200" y="5326920"/>
                <a:ext cx="958320" cy="884520"/>
              </a:xfrm>
              <a:prstGeom prst="pi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" name=""/>
          <p:cNvGrpSpPr/>
          <p:nvPr/>
        </p:nvGrpSpPr>
        <p:grpSpPr>
          <a:xfrm>
            <a:off x="6595920" y="4879800"/>
            <a:ext cx="1752840" cy="1332000"/>
            <a:chOff x="6595920" y="4879800"/>
            <a:chExt cx="1752840" cy="1332000"/>
          </a:xfrm>
        </p:grpSpPr>
        <p:sp>
          <p:nvSpPr>
            <p:cNvPr id="116" name="Freeform 5"/>
            <p:cNvSpPr/>
            <p:nvPr/>
          </p:nvSpPr>
          <p:spPr>
            <a:xfrm>
              <a:off x="7617960" y="6135120"/>
              <a:ext cx="96120" cy="76680"/>
            </a:xfrm>
            <a:prstGeom prst="pie">
              <a:avLst/>
            </a:prstGeom>
            <a:solidFill>
              <a:srgbClr val="ff4646"/>
            </a:solidFill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7"/>
            <p:cNvSpPr/>
            <p:nvPr/>
          </p:nvSpPr>
          <p:spPr>
            <a:xfrm>
              <a:off x="7964280" y="4879800"/>
              <a:ext cx="384480" cy="33336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8"/>
            <p:cNvSpPr/>
            <p:nvPr/>
          </p:nvSpPr>
          <p:spPr>
            <a:xfrm>
              <a:off x="8003160" y="5136120"/>
              <a:ext cx="288360" cy="19224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9"/>
            <p:cNvSpPr/>
            <p:nvPr/>
          </p:nvSpPr>
          <p:spPr>
            <a:xfrm>
              <a:off x="7941960" y="5243040"/>
              <a:ext cx="205560" cy="18828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0"/>
            <p:cNvSpPr/>
            <p:nvPr/>
          </p:nvSpPr>
          <p:spPr>
            <a:xfrm>
              <a:off x="7785000" y="5285520"/>
              <a:ext cx="192600" cy="25704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1"/>
            <p:cNvSpPr/>
            <p:nvPr/>
          </p:nvSpPr>
          <p:spPr>
            <a:xfrm>
              <a:off x="7840800" y="5351040"/>
              <a:ext cx="61560" cy="6084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"/>
            <p:cNvSpPr/>
            <p:nvPr/>
          </p:nvSpPr>
          <p:spPr>
            <a:xfrm>
              <a:off x="7880760" y="5381280"/>
              <a:ext cx="48600" cy="576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3"/>
            <p:cNvSpPr/>
            <p:nvPr/>
          </p:nvSpPr>
          <p:spPr>
            <a:xfrm>
              <a:off x="7880760" y="5384880"/>
              <a:ext cx="18360" cy="1944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4"/>
            <p:cNvSpPr/>
            <p:nvPr/>
          </p:nvSpPr>
          <p:spPr>
            <a:xfrm>
              <a:off x="7836840" y="5454000"/>
              <a:ext cx="236520" cy="1386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5"/>
            <p:cNvSpPr/>
            <p:nvPr/>
          </p:nvSpPr>
          <p:spPr>
            <a:xfrm>
              <a:off x="7885440" y="5565240"/>
              <a:ext cx="196200" cy="15336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6"/>
            <p:cNvSpPr/>
            <p:nvPr/>
          </p:nvSpPr>
          <p:spPr>
            <a:xfrm>
              <a:off x="8046720" y="5688000"/>
              <a:ext cx="35280" cy="2628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7"/>
            <p:cNvSpPr/>
            <p:nvPr/>
          </p:nvSpPr>
          <p:spPr>
            <a:xfrm>
              <a:off x="7959600" y="5706720"/>
              <a:ext cx="130680" cy="14184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8"/>
            <p:cNvSpPr/>
            <p:nvPr/>
          </p:nvSpPr>
          <p:spPr>
            <a:xfrm>
              <a:off x="7894080" y="5817960"/>
              <a:ext cx="148680" cy="1764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9"/>
            <p:cNvSpPr/>
            <p:nvPr/>
          </p:nvSpPr>
          <p:spPr>
            <a:xfrm>
              <a:off x="7666560" y="5929200"/>
              <a:ext cx="276120" cy="183600"/>
            </a:xfrm>
            <a:prstGeom prst="pie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0"/>
            <p:cNvSpPr/>
            <p:nvPr/>
          </p:nvSpPr>
          <p:spPr>
            <a:xfrm>
              <a:off x="7482600" y="5894640"/>
              <a:ext cx="271440" cy="1836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1"/>
            <p:cNvSpPr/>
            <p:nvPr/>
          </p:nvSpPr>
          <p:spPr>
            <a:xfrm>
              <a:off x="7456680" y="5790960"/>
              <a:ext cx="201600" cy="1692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2"/>
            <p:cNvSpPr/>
            <p:nvPr/>
          </p:nvSpPr>
          <p:spPr>
            <a:xfrm>
              <a:off x="7228800" y="5779440"/>
              <a:ext cx="310680" cy="2952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23"/>
            <p:cNvSpPr/>
            <p:nvPr/>
          </p:nvSpPr>
          <p:spPr>
            <a:xfrm>
              <a:off x="6647760" y="5438160"/>
              <a:ext cx="661320" cy="37548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4"/>
            <p:cNvSpPr/>
            <p:nvPr/>
          </p:nvSpPr>
          <p:spPr>
            <a:xfrm>
              <a:off x="7269480" y="5592240"/>
              <a:ext cx="415080" cy="30276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5"/>
            <p:cNvSpPr/>
            <p:nvPr/>
          </p:nvSpPr>
          <p:spPr>
            <a:xfrm>
              <a:off x="7028640" y="5381280"/>
              <a:ext cx="428760" cy="2952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6"/>
            <p:cNvSpPr/>
            <p:nvPr/>
          </p:nvSpPr>
          <p:spPr>
            <a:xfrm>
              <a:off x="7806600" y="5756040"/>
              <a:ext cx="166320" cy="20412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7"/>
            <p:cNvSpPr/>
            <p:nvPr/>
          </p:nvSpPr>
          <p:spPr>
            <a:xfrm>
              <a:off x="7639920" y="5756040"/>
              <a:ext cx="192600" cy="20052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8"/>
            <p:cNvSpPr/>
            <p:nvPr/>
          </p:nvSpPr>
          <p:spPr>
            <a:xfrm>
              <a:off x="7623360" y="5642280"/>
              <a:ext cx="266760" cy="1530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9"/>
            <p:cNvSpPr/>
            <p:nvPr/>
          </p:nvSpPr>
          <p:spPr>
            <a:xfrm>
              <a:off x="7836840" y="5587920"/>
              <a:ext cx="166320" cy="18468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30"/>
            <p:cNvSpPr/>
            <p:nvPr/>
          </p:nvSpPr>
          <p:spPr>
            <a:xfrm>
              <a:off x="7688520" y="5530680"/>
              <a:ext cx="205560" cy="17208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31"/>
            <p:cNvSpPr/>
            <p:nvPr/>
          </p:nvSpPr>
          <p:spPr>
            <a:xfrm>
              <a:off x="7684560" y="5373720"/>
              <a:ext cx="136080" cy="21852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32"/>
            <p:cNvSpPr/>
            <p:nvPr/>
          </p:nvSpPr>
          <p:spPr>
            <a:xfrm>
              <a:off x="7539480" y="5412240"/>
              <a:ext cx="175680" cy="29052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33"/>
            <p:cNvSpPr/>
            <p:nvPr/>
          </p:nvSpPr>
          <p:spPr>
            <a:xfrm>
              <a:off x="7507080" y="5415840"/>
              <a:ext cx="95760" cy="14976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34"/>
            <p:cNvSpPr/>
            <p:nvPr/>
          </p:nvSpPr>
          <p:spPr>
            <a:xfrm>
              <a:off x="7163640" y="5266440"/>
              <a:ext cx="468000" cy="40212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5"/>
            <p:cNvSpPr/>
            <p:nvPr/>
          </p:nvSpPr>
          <p:spPr>
            <a:xfrm>
              <a:off x="7312680" y="4894920"/>
              <a:ext cx="777600" cy="5940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36"/>
            <p:cNvSpPr/>
            <p:nvPr/>
          </p:nvSpPr>
          <p:spPr>
            <a:xfrm>
              <a:off x="6595920" y="4995000"/>
              <a:ext cx="695160" cy="49392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37"/>
            <p:cNvSpPr/>
            <p:nvPr/>
          </p:nvSpPr>
          <p:spPr>
            <a:xfrm>
              <a:off x="8042760" y="5902200"/>
              <a:ext cx="69480" cy="123480"/>
            </a:xfrm>
            <a:prstGeom prst="pie">
              <a:avLst/>
            </a:prstGeom>
            <a:solidFill>
              <a:srgbClr val="ff4646"/>
            </a:solidFill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9693360" y="4597560"/>
            <a:ext cx="1152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4646"/>
                </a:solidFill>
                <a:latin typeface="Arial Black"/>
              </a:rPr>
              <a:t>$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920880" y="2664000"/>
            <a:ext cx="1896840" cy="1529640"/>
            <a:chOff x="920880" y="2664000"/>
            <a:chExt cx="1896840" cy="1529640"/>
          </a:xfrm>
        </p:grpSpPr>
        <p:grpSp>
          <p:nvGrpSpPr>
            <p:cNvPr id="150" name=""/>
            <p:cNvGrpSpPr/>
            <p:nvPr/>
          </p:nvGrpSpPr>
          <p:grpSpPr>
            <a:xfrm>
              <a:off x="920880" y="2664000"/>
              <a:ext cx="1896840" cy="1529640"/>
              <a:chOff x="920880" y="2664000"/>
              <a:chExt cx="1896840" cy="152964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920880" y="2664000"/>
                <a:ext cx="1896840" cy="1224360"/>
                <a:chOff x="920880" y="2664000"/>
                <a:chExt cx="1896840" cy="122436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946080" y="2664000"/>
                  <a:ext cx="1871640" cy="864000"/>
                </a:xfrm>
                <a:prstGeom prst="flowChartAlternateProcess">
                  <a:avLst/>
                </a:prstGeom>
                <a:noFill/>
                <a:ln w="28440">
                  <a:solidFill>
                    <a:srgbClr val="ff464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920880" y="3588480"/>
                  <a:ext cx="1871640" cy="299880"/>
                </a:xfrm>
                <a:prstGeom prst="flowChartAlternateProcess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微软雅黑"/>
                    </a:rPr>
                    <a:t>活动时间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 flipV="1">
                <a:off x="1594440" y="3886920"/>
                <a:ext cx="431640" cy="306360"/>
              </a:xfrm>
              <a:prstGeom prst="triangle">
                <a:avLst>
                  <a:gd name="adj" fmla="val 50000"/>
                </a:avLst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1061640" y="2986200"/>
              <a:ext cx="161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插入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736800" y="2664000"/>
            <a:ext cx="1899000" cy="1529640"/>
            <a:chOff x="3736800" y="2664000"/>
            <a:chExt cx="1899000" cy="1529640"/>
          </a:xfrm>
        </p:grpSpPr>
        <p:grpSp>
          <p:nvGrpSpPr>
            <p:cNvPr id="157" name=""/>
            <p:cNvGrpSpPr/>
            <p:nvPr/>
          </p:nvGrpSpPr>
          <p:grpSpPr>
            <a:xfrm>
              <a:off x="3736800" y="2664000"/>
              <a:ext cx="1899000" cy="1529640"/>
              <a:chOff x="3736800" y="2664000"/>
              <a:chExt cx="1899000" cy="152964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36800" y="2664000"/>
                <a:ext cx="1899000" cy="1224360"/>
                <a:chOff x="3736800" y="2664000"/>
                <a:chExt cx="1899000" cy="122436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62000" y="2664000"/>
                  <a:ext cx="1873800" cy="864000"/>
                </a:xfrm>
                <a:prstGeom prst="flowChartAlternateProcess">
                  <a:avLst/>
                </a:prstGeom>
                <a:noFill/>
                <a:ln w="28440">
                  <a:solidFill>
                    <a:srgbClr val="ff464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736800" y="3588480"/>
                  <a:ext cx="1873800" cy="299880"/>
                </a:xfrm>
                <a:prstGeom prst="flowChartAlternateProcess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微软雅黑"/>
                    </a:rPr>
                    <a:t>活动时间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"/>
              <p:cNvSpPr/>
              <p:nvPr/>
            </p:nvSpPr>
            <p:spPr>
              <a:xfrm flipV="1">
                <a:off x="4411080" y="3886920"/>
                <a:ext cx="432000" cy="306360"/>
              </a:xfrm>
              <a:prstGeom prst="triangle">
                <a:avLst>
                  <a:gd name="adj" fmla="val 50000"/>
                </a:avLst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3877560" y="2986200"/>
              <a:ext cx="161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插入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554880" y="2664000"/>
            <a:ext cx="1896840" cy="1529640"/>
            <a:chOff x="6554880" y="2664000"/>
            <a:chExt cx="1896840" cy="1529640"/>
          </a:xfrm>
        </p:grpSpPr>
        <p:grpSp>
          <p:nvGrpSpPr>
            <p:cNvPr id="164" name=""/>
            <p:cNvGrpSpPr/>
            <p:nvPr/>
          </p:nvGrpSpPr>
          <p:grpSpPr>
            <a:xfrm>
              <a:off x="6554880" y="2664000"/>
              <a:ext cx="1896840" cy="1529640"/>
              <a:chOff x="6554880" y="2664000"/>
              <a:chExt cx="1896840" cy="152964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6554880" y="2664000"/>
                <a:ext cx="1896840" cy="1224360"/>
                <a:chOff x="6554880" y="2664000"/>
                <a:chExt cx="1896840" cy="122436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6580080" y="2664000"/>
                  <a:ext cx="1871640" cy="864000"/>
                </a:xfrm>
                <a:prstGeom prst="flowChartAlternateProcess">
                  <a:avLst/>
                </a:prstGeom>
                <a:noFill/>
                <a:ln w="28440">
                  <a:solidFill>
                    <a:srgbClr val="ff464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554880" y="3588480"/>
                  <a:ext cx="1871640" cy="299880"/>
                </a:xfrm>
                <a:prstGeom prst="flowChartAlternateProcess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微软雅黑"/>
                    </a:rPr>
                    <a:t>活动时间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"/>
              <p:cNvSpPr/>
              <p:nvPr/>
            </p:nvSpPr>
            <p:spPr>
              <a:xfrm flipV="1">
                <a:off x="7228440" y="3886920"/>
                <a:ext cx="431640" cy="306360"/>
              </a:xfrm>
              <a:prstGeom prst="triangle">
                <a:avLst>
                  <a:gd name="adj" fmla="val 50000"/>
                </a:avLst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6695640" y="2986200"/>
              <a:ext cx="161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插入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9372600" y="2664000"/>
            <a:ext cx="1897200" cy="1529640"/>
            <a:chOff x="9372600" y="2664000"/>
            <a:chExt cx="1897200" cy="1529640"/>
          </a:xfrm>
        </p:grpSpPr>
        <p:grpSp>
          <p:nvGrpSpPr>
            <p:cNvPr id="171" name=""/>
            <p:cNvGrpSpPr/>
            <p:nvPr/>
          </p:nvGrpSpPr>
          <p:grpSpPr>
            <a:xfrm>
              <a:off x="9372600" y="2664000"/>
              <a:ext cx="1897200" cy="1529640"/>
              <a:chOff x="9372600" y="2664000"/>
              <a:chExt cx="1897200" cy="152964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9372600" y="2664000"/>
                <a:ext cx="1897200" cy="1224360"/>
                <a:chOff x="9372600" y="2664000"/>
                <a:chExt cx="1897200" cy="12243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9397800" y="2664000"/>
                  <a:ext cx="1872000" cy="864000"/>
                </a:xfrm>
                <a:prstGeom prst="flowChartAlternateProcess">
                  <a:avLst/>
                </a:prstGeom>
                <a:noFill/>
                <a:ln w="28440">
                  <a:solidFill>
                    <a:srgbClr val="ff464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9372600" y="3588480"/>
                  <a:ext cx="1872000" cy="299880"/>
                </a:xfrm>
                <a:prstGeom prst="flowChartAlternateProcess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微软雅黑"/>
                    </a:rPr>
                    <a:t>活动时间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 flipV="1">
                <a:off x="10046160" y="3886920"/>
                <a:ext cx="431640" cy="306360"/>
              </a:xfrm>
              <a:prstGeom prst="triangle">
                <a:avLst>
                  <a:gd name="adj" fmla="val 50000"/>
                </a:avLst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9513360" y="2986200"/>
              <a:ext cx="161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插入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178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179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252360" y="6232680"/>
            <a:ext cx="64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坡下载站独家精心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活动流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9283680" y="3578400"/>
            <a:ext cx="782640" cy="142560"/>
          </a:xfrm>
          <a:prstGeom prst="pie">
            <a:avLst/>
          </a:prstGeom>
          <a:solidFill>
            <a:srgbClr val="ddddd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2117880" y="2374920"/>
            <a:ext cx="780840" cy="141120"/>
          </a:xfrm>
          <a:prstGeom prst="pie">
            <a:avLst/>
          </a:prstGeom>
          <a:solidFill>
            <a:srgbClr val="ddddd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3564000" y="262260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1.</a:t>
            </a: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7"/>
          <p:cNvSpPr/>
          <p:nvPr/>
        </p:nvSpPr>
        <p:spPr>
          <a:xfrm>
            <a:off x="3564000" y="325116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2.</a:t>
            </a: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32"/>
          <p:cNvSpPr/>
          <p:nvPr/>
        </p:nvSpPr>
        <p:spPr>
          <a:xfrm>
            <a:off x="3564000" y="389736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3.</a:t>
            </a: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500200" y="2419200"/>
            <a:ext cx="4880160" cy="2260800"/>
            <a:chOff x="2500200" y="2419200"/>
            <a:chExt cx="4880160" cy="2260800"/>
          </a:xfrm>
        </p:grpSpPr>
        <p:sp>
          <p:nvSpPr>
            <p:cNvPr id="190" name="弧形 15"/>
            <p:cNvSpPr/>
            <p:nvPr/>
          </p:nvSpPr>
          <p:spPr>
            <a:xfrm>
              <a:off x="2500200" y="3589560"/>
              <a:ext cx="1089720" cy="1090440"/>
            </a:xfrm>
            <a:prstGeom prst="pie">
              <a:avLst/>
            </a:prstGeom>
            <a:noFill/>
            <a:ln w="19080">
              <a:solidFill>
                <a:srgbClr val="ff4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直接连接符 17"/>
            <p:cNvSpPr/>
            <p:nvPr/>
          </p:nvSpPr>
          <p:spPr>
            <a:xfrm>
              <a:off x="2500200" y="2419200"/>
              <a:ext cx="0" cy="1715760"/>
            </a:xfrm>
            <a:prstGeom prst="line">
              <a:avLst/>
            </a:prstGeom>
            <a:ln w="19080">
              <a:solidFill>
                <a:srgbClr val="ff4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直接连接符 21"/>
            <p:cNvSpPr/>
            <p:nvPr/>
          </p:nvSpPr>
          <p:spPr>
            <a:xfrm>
              <a:off x="3029760" y="4680000"/>
              <a:ext cx="4350600" cy="0"/>
            </a:xfrm>
            <a:prstGeom prst="line">
              <a:avLst/>
            </a:prstGeom>
            <a:ln w="19080">
              <a:solidFill>
                <a:srgbClr val="ff4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803480" y="3652920"/>
            <a:ext cx="4879800" cy="2259000"/>
            <a:chOff x="4803480" y="3652920"/>
            <a:chExt cx="4879800" cy="2259000"/>
          </a:xfrm>
        </p:grpSpPr>
        <p:sp>
          <p:nvSpPr>
            <p:cNvPr id="194" name="弧形 43"/>
            <p:cNvSpPr/>
            <p:nvPr/>
          </p:nvSpPr>
          <p:spPr>
            <a:xfrm flipH="1">
              <a:off x="8593200" y="4822560"/>
              <a:ext cx="1089720" cy="1089360"/>
            </a:xfrm>
            <a:prstGeom prst="pie">
              <a:avLst/>
            </a:prstGeom>
            <a:noFill/>
            <a:ln w="19080">
              <a:solidFill>
                <a:srgbClr val="ff4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直接连接符 44"/>
            <p:cNvSpPr/>
            <p:nvPr/>
          </p:nvSpPr>
          <p:spPr>
            <a:xfrm>
              <a:off x="9683280" y="3652920"/>
              <a:ext cx="0" cy="1714320"/>
            </a:xfrm>
            <a:prstGeom prst="line">
              <a:avLst/>
            </a:prstGeom>
            <a:ln w="19080">
              <a:solidFill>
                <a:srgbClr val="ff4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直接连接符 45"/>
            <p:cNvSpPr/>
            <p:nvPr/>
          </p:nvSpPr>
          <p:spPr>
            <a:xfrm flipH="1">
              <a:off x="4803480" y="5911920"/>
              <a:ext cx="4350240" cy="0"/>
            </a:xfrm>
            <a:prstGeom prst="line">
              <a:avLst/>
            </a:prstGeom>
            <a:ln w="19080">
              <a:solidFill>
                <a:srgbClr val="ff4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矩形 38"/>
          <p:cNvSpPr/>
          <p:nvPr/>
        </p:nvSpPr>
        <p:spPr>
          <a:xfrm>
            <a:off x="2060640" y="2139840"/>
            <a:ext cx="895320" cy="307800"/>
          </a:xfrm>
          <a:prstGeom prst="rect">
            <a:avLst/>
          </a:prstGeom>
          <a:solidFill>
            <a:srgbClr val="ff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流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46"/>
          <p:cNvSpPr/>
          <p:nvPr/>
        </p:nvSpPr>
        <p:spPr>
          <a:xfrm>
            <a:off x="9236160" y="3344040"/>
            <a:ext cx="895320" cy="307800"/>
          </a:xfrm>
          <a:prstGeom prst="rect">
            <a:avLst/>
          </a:prstGeom>
          <a:solidFill>
            <a:srgbClr val="ff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流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49"/>
          <p:cNvSpPr/>
          <p:nvPr/>
        </p:nvSpPr>
        <p:spPr>
          <a:xfrm>
            <a:off x="4325760" y="4946760"/>
            <a:ext cx="475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4.</a:t>
            </a: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50"/>
          <p:cNvSpPr/>
          <p:nvPr/>
        </p:nvSpPr>
        <p:spPr>
          <a:xfrm>
            <a:off x="4325760" y="5432400"/>
            <a:ext cx="475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5.</a:t>
            </a: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7380360" y="4505400"/>
            <a:ext cx="349200" cy="349200"/>
            <a:chOff x="7380360" y="4505400"/>
            <a:chExt cx="349200" cy="349200"/>
          </a:xfrm>
        </p:grpSpPr>
        <p:sp>
          <p:nvSpPr>
            <p:cNvPr id="202" name=""/>
            <p:cNvSpPr/>
            <p:nvPr/>
          </p:nvSpPr>
          <p:spPr>
            <a:xfrm>
              <a:off x="7380360" y="4505400"/>
              <a:ext cx="349200" cy="349200"/>
            </a:xfrm>
            <a:prstGeom prst="ellipse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08440" y="4533840"/>
              <a:ext cx="292680" cy="292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38760" y="4557960"/>
              <a:ext cx="32400" cy="15444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5460000">
              <a:off x="7583400" y="4603680"/>
              <a:ext cx="32400" cy="15408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546680" y="4671720"/>
              <a:ext cx="16200" cy="1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4498920" y="5753160"/>
            <a:ext cx="349200" cy="349200"/>
            <a:chOff x="4498920" y="5753160"/>
            <a:chExt cx="349200" cy="349200"/>
          </a:xfrm>
        </p:grpSpPr>
        <p:sp>
          <p:nvSpPr>
            <p:cNvPr id="208" name=""/>
            <p:cNvSpPr/>
            <p:nvPr/>
          </p:nvSpPr>
          <p:spPr>
            <a:xfrm>
              <a:off x="4498920" y="5753160"/>
              <a:ext cx="349200" cy="349200"/>
            </a:xfrm>
            <a:prstGeom prst="ellipse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527000" y="5781600"/>
              <a:ext cx="292680" cy="292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57320" y="5805720"/>
              <a:ext cx="32400" cy="15444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5460000">
              <a:off x="4701960" y="5851440"/>
              <a:ext cx="32400" cy="15408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665240" y="5919480"/>
              <a:ext cx="16200" cy="1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214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215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252360" y="6232680"/>
            <a:ext cx="64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坡下载站独家精心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照片展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540240" y="1476360"/>
            <a:ext cx="5110920" cy="4257720"/>
            <a:chOff x="3540240" y="1476360"/>
            <a:chExt cx="5110920" cy="4257720"/>
          </a:xfrm>
        </p:grpSpPr>
        <p:sp>
          <p:nvSpPr>
            <p:cNvPr id="221" name="等腰三角形 2"/>
            <p:cNvSpPr/>
            <p:nvPr/>
          </p:nvSpPr>
          <p:spPr>
            <a:xfrm flipH="1" flipV="1" rot="10800000">
              <a:off x="8013960" y="1476360"/>
              <a:ext cx="636840" cy="234720"/>
            </a:xfrm>
            <a:prstGeom prst="triangle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矩形 4"/>
            <p:cNvSpPr/>
            <p:nvPr/>
          </p:nvSpPr>
          <p:spPr>
            <a:xfrm>
              <a:off x="3540240" y="4501800"/>
              <a:ext cx="5087880" cy="1016280"/>
            </a:xfrm>
            <a:prstGeom prst="rect">
              <a:avLst/>
            </a:prstGeom>
            <a:solidFill>
              <a:srgbClr val="23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等腰三角形 5"/>
            <p:cNvSpPr/>
            <p:nvPr/>
          </p:nvSpPr>
          <p:spPr>
            <a:xfrm rot="10800000">
              <a:off x="3542760" y="5518080"/>
              <a:ext cx="637200" cy="216000"/>
            </a:xfrm>
            <a:prstGeom prst="triangle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直接连接符 6"/>
            <p:cNvSpPr/>
            <p:nvPr/>
          </p:nvSpPr>
          <p:spPr>
            <a:xfrm>
              <a:off x="3540240" y="1743480"/>
              <a:ext cx="5086080" cy="0"/>
            </a:xfrm>
            <a:prstGeom prst="line">
              <a:avLst/>
            </a:prstGeom>
            <a:ln w="7632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矩形 7"/>
            <p:cNvSpPr/>
            <p:nvPr/>
          </p:nvSpPr>
          <p:spPr>
            <a:xfrm>
              <a:off x="3743280" y="4934160"/>
              <a:ext cx="476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此处添加照片说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矩形 8"/>
            <p:cNvSpPr/>
            <p:nvPr/>
          </p:nvSpPr>
          <p:spPr>
            <a:xfrm>
              <a:off x="4019040" y="45738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造字工房悦黑体验版纤细体"/>
                  <a:ea typeface="微软雅黑"/>
                </a:rPr>
                <a:t>集体合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3543480" y="1774800"/>
            <a:ext cx="5108400" cy="2879640"/>
          </a:xfrm>
          <a:prstGeom prst="rect">
            <a:avLst/>
          </a:prstGeom>
          <a:ln w="0">
            <a:noFill/>
          </a:ln>
        </p:spPr>
      </p:pic>
      <p:grpSp>
        <p:nvGrpSpPr>
          <p:cNvPr id="228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229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230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252360" y="6232680"/>
            <a:ext cx="64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坡下载站独家精心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照片展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等腰三角形 2"/>
          <p:cNvSpPr/>
          <p:nvPr/>
        </p:nvSpPr>
        <p:spPr>
          <a:xfrm flipH="1" flipV="1" rot="10800000">
            <a:off x="3553200" y="1620720"/>
            <a:ext cx="344520" cy="12888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3"/>
          <p:cNvSpPr/>
          <p:nvPr/>
        </p:nvSpPr>
        <p:spPr>
          <a:xfrm>
            <a:off x="1127160" y="1774800"/>
            <a:ext cx="2759040" cy="1844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4"/>
          <p:cNvSpPr/>
          <p:nvPr/>
        </p:nvSpPr>
        <p:spPr>
          <a:xfrm>
            <a:off x="1127160" y="3475080"/>
            <a:ext cx="275904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等腰三角形 5"/>
          <p:cNvSpPr/>
          <p:nvPr/>
        </p:nvSpPr>
        <p:spPr>
          <a:xfrm rot="10800000">
            <a:off x="1128600" y="3828600"/>
            <a:ext cx="346320" cy="1177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接连接符 6"/>
          <p:cNvSpPr/>
          <p:nvPr/>
        </p:nvSpPr>
        <p:spPr>
          <a:xfrm>
            <a:off x="1127160" y="1765440"/>
            <a:ext cx="275904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8"/>
          <p:cNvSpPr/>
          <p:nvPr/>
        </p:nvSpPr>
        <p:spPr>
          <a:xfrm>
            <a:off x="1374840" y="3513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等腰三角形 18"/>
          <p:cNvSpPr/>
          <p:nvPr/>
        </p:nvSpPr>
        <p:spPr>
          <a:xfrm flipH="1" flipV="1" rot="10800000">
            <a:off x="3553200" y="4008960"/>
            <a:ext cx="344520" cy="1285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19"/>
          <p:cNvSpPr/>
          <p:nvPr/>
        </p:nvSpPr>
        <p:spPr>
          <a:xfrm>
            <a:off x="1127160" y="4164120"/>
            <a:ext cx="2759040" cy="1700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20"/>
          <p:cNvSpPr/>
          <p:nvPr/>
        </p:nvSpPr>
        <p:spPr>
          <a:xfrm>
            <a:off x="1127160" y="5864400"/>
            <a:ext cx="275904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等腰三角形 21"/>
          <p:cNvSpPr/>
          <p:nvPr/>
        </p:nvSpPr>
        <p:spPr>
          <a:xfrm rot="10800000">
            <a:off x="1128600" y="6217920"/>
            <a:ext cx="346320" cy="11916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22"/>
          <p:cNvSpPr/>
          <p:nvPr/>
        </p:nvSpPr>
        <p:spPr>
          <a:xfrm>
            <a:off x="1127160" y="4156200"/>
            <a:ext cx="275904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23"/>
          <p:cNvSpPr/>
          <p:nvPr/>
        </p:nvSpPr>
        <p:spPr>
          <a:xfrm>
            <a:off x="1374840" y="5902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等腰三角形 25"/>
          <p:cNvSpPr/>
          <p:nvPr/>
        </p:nvSpPr>
        <p:spPr>
          <a:xfrm flipH="1" flipV="1" rot="10800000">
            <a:off x="7171200" y="1620720"/>
            <a:ext cx="345960" cy="12888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26"/>
          <p:cNvSpPr/>
          <p:nvPr/>
        </p:nvSpPr>
        <p:spPr>
          <a:xfrm>
            <a:off x="4746600" y="1774800"/>
            <a:ext cx="2757600" cy="17002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27"/>
          <p:cNvSpPr/>
          <p:nvPr/>
        </p:nvSpPr>
        <p:spPr>
          <a:xfrm>
            <a:off x="4746600" y="3475080"/>
            <a:ext cx="275760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等腰三角形 28"/>
          <p:cNvSpPr/>
          <p:nvPr/>
        </p:nvSpPr>
        <p:spPr>
          <a:xfrm rot="10800000">
            <a:off x="4746240" y="3828600"/>
            <a:ext cx="345960" cy="1177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29"/>
          <p:cNvSpPr/>
          <p:nvPr/>
        </p:nvSpPr>
        <p:spPr>
          <a:xfrm>
            <a:off x="4746600" y="1765440"/>
            <a:ext cx="275760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30"/>
          <p:cNvSpPr/>
          <p:nvPr/>
        </p:nvSpPr>
        <p:spPr>
          <a:xfrm>
            <a:off x="4993200" y="3513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等腰三角形 32"/>
          <p:cNvSpPr/>
          <p:nvPr/>
        </p:nvSpPr>
        <p:spPr>
          <a:xfrm flipH="1" flipV="1" rot="10800000">
            <a:off x="7171200" y="4008960"/>
            <a:ext cx="345960" cy="1285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33"/>
          <p:cNvSpPr/>
          <p:nvPr/>
        </p:nvSpPr>
        <p:spPr>
          <a:xfrm>
            <a:off x="4746600" y="4164120"/>
            <a:ext cx="2757600" cy="17002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34"/>
          <p:cNvSpPr/>
          <p:nvPr/>
        </p:nvSpPr>
        <p:spPr>
          <a:xfrm>
            <a:off x="4746600" y="5864400"/>
            <a:ext cx="275760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等腰三角形 35"/>
          <p:cNvSpPr/>
          <p:nvPr/>
        </p:nvSpPr>
        <p:spPr>
          <a:xfrm rot="10800000">
            <a:off x="4746240" y="6217920"/>
            <a:ext cx="345960" cy="11916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36"/>
          <p:cNvSpPr/>
          <p:nvPr/>
        </p:nvSpPr>
        <p:spPr>
          <a:xfrm>
            <a:off x="4746600" y="4156200"/>
            <a:ext cx="275760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37"/>
          <p:cNvSpPr/>
          <p:nvPr/>
        </p:nvSpPr>
        <p:spPr>
          <a:xfrm>
            <a:off x="4993200" y="5902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等腰三角形 39"/>
          <p:cNvSpPr/>
          <p:nvPr/>
        </p:nvSpPr>
        <p:spPr>
          <a:xfrm flipH="1" flipV="1" rot="10800000">
            <a:off x="10790640" y="1620720"/>
            <a:ext cx="344520" cy="12888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40"/>
          <p:cNvSpPr/>
          <p:nvPr/>
        </p:nvSpPr>
        <p:spPr>
          <a:xfrm>
            <a:off x="8364600" y="1774800"/>
            <a:ext cx="2759040" cy="17002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41"/>
          <p:cNvSpPr/>
          <p:nvPr/>
        </p:nvSpPr>
        <p:spPr>
          <a:xfrm>
            <a:off x="8364600" y="3475080"/>
            <a:ext cx="275904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等腰三角形 42"/>
          <p:cNvSpPr/>
          <p:nvPr/>
        </p:nvSpPr>
        <p:spPr>
          <a:xfrm rot="10800000">
            <a:off x="8366040" y="3828600"/>
            <a:ext cx="346320" cy="1177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直接连接符 43"/>
          <p:cNvSpPr/>
          <p:nvPr/>
        </p:nvSpPr>
        <p:spPr>
          <a:xfrm>
            <a:off x="8364600" y="1765440"/>
            <a:ext cx="275760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44"/>
          <p:cNvSpPr/>
          <p:nvPr/>
        </p:nvSpPr>
        <p:spPr>
          <a:xfrm>
            <a:off x="8611920" y="3513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等腰三角形 46"/>
          <p:cNvSpPr/>
          <p:nvPr/>
        </p:nvSpPr>
        <p:spPr>
          <a:xfrm flipH="1" flipV="1" rot="10800000">
            <a:off x="10790640" y="4008960"/>
            <a:ext cx="344520" cy="1285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47"/>
          <p:cNvSpPr/>
          <p:nvPr/>
        </p:nvSpPr>
        <p:spPr>
          <a:xfrm>
            <a:off x="8364600" y="4164120"/>
            <a:ext cx="2759040" cy="17380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48"/>
          <p:cNvSpPr/>
          <p:nvPr/>
        </p:nvSpPr>
        <p:spPr>
          <a:xfrm>
            <a:off x="8364600" y="5864400"/>
            <a:ext cx="275904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等腰三角形 49"/>
          <p:cNvSpPr/>
          <p:nvPr/>
        </p:nvSpPr>
        <p:spPr>
          <a:xfrm rot="10800000">
            <a:off x="8366040" y="6217920"/>
            <a:ext cx="346320" cy="11916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接连接符 50"/>
          <p:cNvSpPr/>
          <p:nvPr/>
        </p:nvSpPr>
        <p:spPr>
          <a:xfrm>
            <a:off x="8364600" y="4156200"/>
            <a:ext cx="275760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51"/>
          <p:cNvSpPr/>
          <p:nvPr/>
        </p:nvSpPr>
        <p:spPr>
          <a:xfrm>
            <a:off x="8611920" y="5902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272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273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2360" y="6232680"/>
            <a:ext cx="64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坡下载站独家精心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文本框 3"/>
          <p:cNvSpPr/>
          <p:nvPr/>
        </p:nvSpPr>
        <p:spPr>
          <a:xfrm>
            <a:off x="263520" y="39528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达成效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3648240" y="1700280"/>
            <a:ext cx="4895640" cy="1170000"/>
            <a:chOff x="3648240" y="1700280"/>
            <a:chExt cx="4895640" cy="1170000"/>
          </a:xfrm>
        </p:grpSpPr>
        <p:sp>
          <p:nvSpPr>
            <p:cNvPr id="279" name="文本框 4"/>
            <p:cNvSpPr/>
            <p:nvPr/>
          </p:nvSpPr>
          <p:spPr>
            <a:xfrm>
              <a:off x="6492960" y="1700280"/>
              <a:ext cx="165564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第一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3648240" y="1703160"/>
              <a:ext cx="4895640" cy="1167120"/>
              <a:chOff x="3648240" y="1703160"/>
              <a:chExt cx="4895640" cy="1167120"/>
            </a:xfrm>
          </p:grpSpPr>
          <p:sp>
            <p:nvSpPr>
              <p:cNvPr id="281" name="矩形 7"/>
              <p:cNvSpPr/>
              <p:nvPr/>
            </p:nvSpPr>
            <p:spPr>
              <a:xfrm>
                <a:off x="3648240" y="1948680"/>
                <a:ext cx="4895640" cy="67572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等腰三角形 8"/>
              <p:cNvSpPr/>
              <p:nvPr/>
            </p:nvSpPr>
            <p:spPr>
              <a:xfrm>
                <a:off x="8148960" y="170316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等腰三角形 9"/>
              <p:cNvSpPr/>
              <p:nvPr/>
            </p:nvSpPr>
            <p:spPr>
              <a:xfrm rot="10800000">
                <a:off x="3648240" y="262476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Rectangle 1"/>
            <p:cNvSpPr/>
            <p:nvPr/>
          </p:nvSpPr>
          <p:spPr>
            <a:xfrm>
              <a:off x="3935880" y="2142000"/>
              <a:ext cx="4515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3648240" y="2781360"/>
            <a:ext cx="4895640" cy="1167840"/>
            <a:chOff x="3648240" y="2781360"/>
            <a:chExt cx="4895640" cy="1167840"/>
          </a:xfrm>
        </p:grpSpPr>
        <p:sp>
          <p:nvSpPr>
            <p:cNvPr id="286" name="文本框 18"/>
            <p:cNvSpPr/>
            <p:nvPr/>
          </p:nvSpPr>
          <p:spPr>
            <a:xfrm>
              <a:off x="6492960" y="2781360"/>
              <a:ext cx="165564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第二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3648240" y="2784240"/>
              <a:ext cx="4895640" cy="1164960"/>
              <a:chOff x="3648240" y="2784240"/>
              <a:chExt cx="4895640" cy="1164960"/>
            </a:xfrm>
          </p:grpSpPr>
          <p:sp>
            <p:nvSpPr>
              <p:cNvPr id="288" name="矩形 21"/>
              <p:cNvSpPr/>
              <p:nvPr/>
            </p:nvSpPr>
            <p:spPr>
              <a:xfrm>
                <a:off x="3648240" y="3029400"/>
                <a:ext cx="4895640" cy="67464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等腰三角形 22"/>
              <p:cNvSpPr/>
              <p:nvPr/>
            </p:nvSpPr>
            <p:spPr>
              <a:xfrm>
                <a:off x="8148960" y="2784240"/>
                <a:ext cx="376560" cy="24516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等腰三角形 23"/>
              <p:cNvSpPr/>
              <p:nvPr/>
            </p:nvSpPr>
            <p:spPr>
              <a:xfrm rot="10800000">
                <a:off x="3648240" y="3704040"/>
                <a:ext cx="376560" cy="24516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Rectangle 1"/>
            <p:cNvSpPr/>
            <p:nvPr/>
          </p:nvSpPr>
          <p:spPr>
            <a:xfrm>
              <a:off x="3935880" y="3115080"/>
              <a:ext cx="45151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3648240" y="3789360"/>
            <a:ext cx="4895640" cy="1170000"/>
            <a:chOff x="3648240" y="3789360"/>
            <a:chExt cx="4895640" cy="1170000"/>
          </a:xfrm>
        </p:grpSpPr>
        <p:sp>
          <p:nvSpPr>
            <p:cNvPr id="293" name="文本框 4"/>
            <p:cNvSpPr/>
            <p:nvPr/>
          </p:nvSpPr>
          <p:spPr>
            <a:xfrm>
              <a:off x="6492960" y="3789360"/>
              <a:ext cx="165564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第三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3648240" y="3792240"/>
              <a:ext cx="4895640" cy="1167120"/>
              <a:chOff x="3648240" y="3792240"/>
              <a:chExt cx="4895640" cy="1167120"/>
            </a:xfrm>
          </p:grpSpPr>
          <p:sp>
            <p:nvSpPr>
              <p:cNvPr id="295" name="矩形 7"/>
              <p:cNvSpPr/>
              <p:nvPr/>
            </p:nvSpPr>
            <p:spPr>
              <a:xfrm>
                <a:off x="3648240" y="4037760"/>
                <a:ext cx="4895640" cy="67572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等腰三角形 8"/>
              <p:cNvSpPr/>
              <p:nvPr/>
            </p:nvSpPr>
            <p:spPr>
              <a:xfrm>
                <a:off x="8148960" y="379224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等腰三角形 9"/>
              <p:cNvSpPr/>
              <p:nvPr/>
            </p:nvSpPr>
            <p:spPr>
              <a:xfrm rot="10800000">
                <a:off x="3648240" y="471384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Rectangle 1"/>
            <p:cNvSpPr/>
            <p:nvPr/>
          </p:nvSpPr>
          <p:spPr>
            <a:xfrm>
              <a:off x="3935880" y="4124520"/>
              <a:ext cx="45151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648240" y="4869000"/>
            <a:ext cx="4895640" cy="1170000"/>
            <a:chOff x="3648240" y="4869000"/>
            <a:chExt cx="4895640" cy="1170000"/>
          </a:xfrm>
        </p:grpSpPr>
        <p:sp>
          <p:nvSpPr>
            <p:cNvPr id="300" name="文本框 18"/>
            <p:cNvSpPr/>
            <p:nvPr/>
          </p:nvSpPr>
          <p:spPr>
            <a:xfrm>
              <a:off x="6492960" y="4869000"/>
              <a:ext cx="165564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第四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3648240" y="4871880"/>
              <a:ext cx="4895640" cy="1167120"/>
              <a:chOff x="3648240" y="4871880"/>
              <a:chExt cx="4895640" cy="1167120"/>
            </a:xfrm>
          </p:grpSpPr>
          <p:sp>
            <p:nvSpPr>
              <p:cNvPr id="302" name="矩形 21"/>
              <p:cNvSpPr/>
              <p:nvPr/>
            </p:nvSpPr>
            <p:spPr>
              <a:xfrm>
                <a:off x="3648240" y="5117400"/>
                <a:ext cx="4895640" cy="67572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等腰三角形 22"/>
              <p:cNvSpPr/>
              <p:nvPr/>
            </p:nvSpPr>
            <p:spPr>
              <a:xfrm>
                <a:off x="8148960" y="487188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等腰三角形 23"/>
              <p:cNvSpPr/>
              <p:nvPr/>
            </p:nvSpPr>
            <p:spPr>
              <a:xfrm rot="10800000">
                <a:off x="3648240" y="579348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Rectangle 1"/>
            <p:cNvSpPr/>
            <p:nvPr/>
          </p:nvSpPr>
          <p:spPr>
            <a:xfrm>
              <a:off x="3935880" y="5204160"/>
              <a:ext cx="45151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307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308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252360" y="6232680"/>
            <a:ext cx="64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坡下载站独家精心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活动总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774720" y="2049480"/>
            <a:ext cx="10642320" cy="4338720"/>
            <a:chOff x="774720" y="2049480"/>
            <a:chExt cx="10642320" cy="4338720"/>
          </a:xfrm>
        </p:grpSpPr>
        <p:grpSp>
          <p:nvGrpSpPr>
            <p:cNvPr id="314" name=""/>
            <p:cNvGrpSpPr/>
            <p:nvPr/>
          </p:nvGrpSpPr>
          <p:grpSpPr>
            <a:xfrm>
              <a:off x="774720" y="2049480"/>
              <a:ext cx="4896000" cy="1169640"/>
              <a:chOff x="774720" y="2049480"/>
              <a:chExt cx="4896000" cy="1169640"/>
            </a:xfrm>
          </p:grpSpPr>
          <p:sp>
            <p:nvSpPr>
              <p:cNvPr id="315" name="文本框 4"/>
              <p:cNvSpPr/>
              <p:nvPr/>
            </p:nvSpPr>
            <p:spPr>
              <a:xfrm flipH="1">
                <a:off x="1170000" y="204948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4646"/>
                    </a:solidFill>
                    <a:latin typeface="造字工房悦黑体验版纤细体"/>
                    <a:ea typeface="造字工房悦黑体验版纤细体"/>
                  </a:rPr>
                  <a:t>亮点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6" name=""/>
              <p:cNvGrpSpPr/>
              <p:nvPr/>
            </p:nvGrpSpPr>
            <p:grpSpPr>
              <a:xfrm>
                <a:off x="774720" y="2052360"/>
                <a:ext cx="4896000" cy="1166760"/>
                <a:chOff x="774720" y="2052360"/>
                <a:chExt cx="4896000" cy="1166760"/>
              </a:xfrm>
            </p:grpSpPr>
            <p:sp>
              <p:nvSpPr>
                <p:cNvPr id="317" name="矩形 7"/>
                <p:cNvSpPr/>
                <p:nvPr/>
              </p:nvSpPr>
              <p:spPr>
                <a:xfrm flipH="1">
                  <a:off x="774720" y="2297880"/>
                  <a:ext cx="4896000" cy="675360"/>
                </a:xfrm>
                <a:prstGeom prst="rect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等腰三角形 8"/>
                <p:cNvSpPr/>
                <p:nvPr/>
              </p:nvSpPr>
              <p:spPr>
                <a:xfrm flipH="1">
                  <a:off x="793080" y="205236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等腰三角形 9"/>
                <p:cNvSpPr/>
                <p:nvPr/>
              </p:nvSpPr>
              <p:spPr>
                <a:xfrm flipH="1" rot="10800000">
                  <a:off x="5294160" y="297360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0" name="Rectangle 1"/>
              <p:cNvSpPr/>
              <p:nvPr/>
            </p:nvSpPr>
            <p:spPr>
              <a:xfrm flipH="1">
                <a:off x="866880" y="2490840"/>
                <a:ext cx="45154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774720" y="3129480"/>
              <a:ext cx="4896000" cy="1169640"/>
              <a:chOff x="774720" y="3129480"/>
              <a:chExt cx="4896000" cy="1169640"/>
            </a:xfrm>
          </p:grpSpPr>
          <p:sp>
            <p:nvSpPr>
              <p:cNvPr id="322" name="文本框 18"/>
              <p:cNvSpPr/>
              <p:nvPr/>
            </p:nvSpPr>
            <p:spPr>
              <a:xfrm flipH="1">
                <a:off x="1170000" y="312948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4646"/>
                    </a:solidFill>
                    <a:latin typeface="造字工房悦黑体验版纤细体"/>
                    <a:ea typeface="造字工房悦黑体验版纤细体"/>
                  </a:rPr>
                  <a:t>亮点二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3" name=""/>
              <p:cNvGrpSpPr/>
              <p:nvPr/>
            </p:nvGrpSpPr>
            <p:grpSpPr>
              <a:xfrm>
                <a:off x="774720" y="3132360"/>
                <a:ext cx="4896000" cy="1166760"/>
                <a:chOff x="774720" y="3132360"/>
                <a:chExt cx="4896000" cy="1166760"/>
              </a:xfrm>
            </p:grpSpPr>
            <p:sp>
              <p:nvSpPr>
                <p:cNvPr id="324" name="矩形 21"/>
                <p:cNvSpPr/>
                <p:nvPr/>
              </p:nvSpPr>
              <p:spPr>
                <a:xfrm flipH="1">
                  <a:off x="774720" y="3377880"/>
                  <a:ext cx="4896000" cy="675360"/>
                </a:xfrm>
                <a:prstGeom prst="rect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等腰三角形 22"/>
                <p:cNvSpPr/>
                <p:nvPr/>
              </p:nvSpPr>
              <p:spPr>
                <a:xfrm flipH="1">
                  <a:off x="793080" y="313236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等腰三角形 23"/>
                <p:cNvSpPr/>
                <p:nvPr/>
              </p:nvSpPr>
              <p:spPr>
                <a:xfrm flipH="1" rot="10800000">
                  <a:off x="5294160" y="405360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7" name="Rectangle 1"/>
              <p:cNvSpPr/>
              <p:nvPr/>
            </p:nvSpPr>
            <p:spPr>
              <a:xfrm flipH="1">
                <a:off x="866880" y="346428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774720" y="4138200"/>
              <a:ext cx="4896000" cy="1169640"/>
              <a:chOff x="774720" y="4138200"/>
              <a:chExt cx="4896000" cy="1169640"/>
            </a:xfrm>
          </p:grpSpPr>
          <p:sp>
            <p:nvSpPr>
              <p:cNvPr id="329" name="文本框 4"/>
              <p:cNvSpPr/>
              <p:nvPr/>
            </p:nvSpPr>
            <p:spPr>
              <a:xfrm flipH="1">
                <a:off x="1170000" y="413820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4646"/>
                    </a:solidFill>
                    <a:latin typeface="造字工房悦黑体验版纤细体"/>
                    <a:ea typeface="造字工房悦黑体验版纤细体"/>
                  </a:rPr>
                  <a:t>亮点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0" name=""/>
              <p:cNvGrpSpPr/>
              <p:nvPr/>
            </p:nvGrpSpPr>
            <p:grpSpPr>
              <a:xfrm>
                <a:off x="774720" y="4141080"/>
                <a:ext cx="4896000" cy="1166760"/>
                <a:chOff x="774720" y="4141080"/>
                <a:chExt cx="4896000" cy="1166760"/>
              </a:xfrm>
            </p:grpSpPr>
            <p:sp>
              <p:nvSpPr>
                <p:cNvPr id="331" name="矩形 7"/>
                <p:cNvSpPr/>
                <p:nvPr/>
              </p:nvSpPr>
              <p:spPr>
                <a:xfrm flipH="1">
                  <a:off x="774720" y="4386600"/>
                  <a:ext cx="4896000" cy="675360"/>
                </a:xfrm>
                <a:prstGeom prst="rect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等腰三角形 8"/>
                <p:cNvSpPr/>
                <p:nvPr/>
              </p:nvSpPr>
              <p:spPr>
                <a:xfrm flipH="1">
                  <a:off x="793080" y="414108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等腰三角形 9"/>
                <p:cNvSpPr/>
                <p:nvPr/>
              </p:nvSpPr>
              <p:spPr>
                <a:xfrm flipH="1" rot="10800000">
                  <a:off x="5294160" y="506232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4" name="Rectangle 1"/>
              <p:cNvSpPr/>
              <p:nvPr/>
            </p:nvSpPr>
            <p:spPr>
              <a:xfrm flipH="1">
                <a:off x="866880" y="447300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774720" y="5218560"/>
              <a:ext cx="4896000" cy="1169640"/>
              <a:chOff x="774720" y="5218560"/>
              <a:chExt cx="4896000" cy="1169640"/>
            </a:xfrm>
          </p:grpSpPr>
          <p:sp>
            <p:nvSpPr>
              <p:cNvPr id="336" name="文本框 18"/>
              <p:cNvSpPr/>
              <p:nvPr/>
            </p:nvSpPr>
            <p:spPr>
              <a:xfrm flipH="1">
                <a:off x="1170000" y="521856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4646"/>
                    </a:solidFill>
                    <a:latin typeface="造字工房悦黑体验版纤细体"/>
                    <a:ea typeface="造字工房悦黑体验版纤细体"/>
                  </a:rPr>
                  <a:t>亮点四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7" name=""/>
              <p:cNvGrpSpPr/>
              <p:nvPr/>
            </p:nvGrpSpPr>
            <p:grpSpPr>
              <a:xfrm>
                <a:off x="774720" y="5221440"/>
                <a:ext cx="4896000" cy="1166760"/>
                <a:chOff x="774720" y="5221440"/>
                <a:chExt cx="4896000" cy="1166760"/>
              </a:xfrm>
            </p:grpSpPr>
            <p:sp>
              <p:nvSpPr>
                <p:cNvPr id="338" name="矩形 21"/>
                <p:cNvSpPr/>
                <p:nvPr/>
              </p:nvSpPr>
              <p:spPr>
                <a:xfrm flipH="1">
                  <a:off x="774720" y="5466960"/>
                  <a:ext cx="4896000" cy="675360"/>
                </a:xfrm>
                <a:prstGeom prst="rect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等腰三角形 22"/>
                <p:cNvSpPr/>
                <p:nvPr/>
              </p:nvSpPr>
              <p:spPr>
                <a:xfrm flipH="1">
                  <a:off x="793080" y="522144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等腰三角形 23"/>
                <p:cNvSpPr/>
                <p:nvPr/>
              </p:nvSpPr>
              <p:spPr>
                <a:xfrm flipH="1" rot="10800000">
                  <a:off x="5294160" y="614268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1" name="Rectangle 1"/>
              <p:cNvSpPr/>
              <p:nvPr/>
            </p:nvSpPr>
            <p:spPr>
              <a:xfrm flipH="1">
                <a:off x="866880" y="555336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6521040" y="2049480"/>
              <a:ext cx="4896000" cy="1169640"/>
              <a:chOff x="6521040" y="2049480"/>
              <a:chExt cx="4896000" cy="1169640"/>
            </a:xfrm>
          </p:grpSpPr>
          <p:sp>
            <p:nvSpPr>
              <p:cNvPr id="343" name="文本框 4"/>
              <p:cNvSpPr/>
              <p:nvPr/>
            </p:nvSpPr>
            <p:spPr>
              <a:xfrm>
                <a:off x="9365760" y="204948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缺点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4" name=""/>
              <p:cNvGrpSpPr/>
              <p:nvPr/>
            </p:nvGrpSpPr>
            <p:grpSpPr>
              <a:xfrm>
                <a:off x="6521040" y="2052360"/>
                <a:ext cx="4896000" cy="1166760"/>
                <a:chOff x="6521040" y="2052360"/>
                <a:chExt cx="4896000" cy="1166760"/>
              </a:xfrm>
            </p:grpSpPr>
            <p:sp>
              <p:nvSpPr>
                <p:cNvPr id="345" name="矩形 7"/>
                <p:cNvSpPr/>
                <p:nvPr/>
              </p:nvSpPr>
              <p:spPr>
                <a:xfrm>
                  <a:off x="6521040" y="2297880"/>
                  <a:ext cx="4896000" cy="675360"/>
                </a:xfrm>
                <a:prstGeom prst="rect">
                  <a:avLst/>
                </a:prstGeom>
                <a:solidFill>
                  <a:srgbClr val="2323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等腰三角形 8"/>
                <p:cNvSpPr/>
                <p:nvPr/>
              </p:nvSpPr>
              <p:spPr>
                <a:xfrm>
                  <a:off x="11022120" y="205236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等腰三角形 9"/>
                <p:cNvSpPr/>
                <p:nvPr/>
              </p:nvSpPr>
              <p:spPr>
                <a:xfrm rot="10800000">
                  <a:off x="6521040" y="297360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Rectangle 1"/>
              <p:cNvSpPr/>
              <p:nvPr/>
            </p:nvSpPr>
            <p:spPr>
              <a:xfrm>
                <a:off x="6809040" y="2490840"/>
                <a:ext cx="45154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6521040" y="3129480"/>
              <a:ext cx="4896000" cy="1169640"/>
              <a:chOff x="6521040" y="3129480"/>
              <a:chExt cx="4896000" cy="1169640"/>
            </a:xfrm>
          </p:grpSpPr>
          <p:sp>
            <p:nvSpPr>
              <p:cNvPr id="350" name="文本框 18"/>
              <p:cNvSpPr/>
              <p:nvPr/>
            </p:nvSpPr>
            <p:spPr>
              <a:xfrm>
                <a:off x="9365760" y="312948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缺点二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1" name=""/>
              <p:cNvGrpSpPr/>
              <p:nvPr/>
            </p:nvGrpSpPr>
            <p:grpSpPr>
              <a:xfrm>
                <a:off x="6521040" y="3132360"/>
                <a:ext cx="4896000" cy="1166760"/>
                <a:chOff x="6521040" y="3132360"/>
                <a:chExt cx="4896000" cy="1166760"/>
              </a:xfrm>
            </p:grpSpPr>
            <p:sp>
              <p:nvSpPr>
                <p:cNvPr id="352" name="矩形 21"/>
                <p:cNvSpPr/>
                <p:nvPr/>
              </p:nvSpPr>
              <p:spPr>
                <a:xfrm>
                  <a:off x="6521040" y="3377880"/>
                  <a:ext cx="4896000" cy="675360"/>
                </a:xfrm>
                <a:prstGeom prst="rect">
                  <a:avLst/>
                </a:prstGeom>
                <a:solidFill>
                  <a:srgbClr val="2323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等腰三角形 22"/>
                <p:cNvSpPr/>
                <p:nvPr/>
              </p:nvSpPr>
              <p:spPr>
                <a:xfrm>
                  <a:off x="11022120" y="313236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等腰三角形 23"/>
                <p:cNvSpPr/>
                <p:nvPr/>
              </p:nvSpPr>
              <p:spPr>
                <a:xfrm rot="10800000">
                  <a:off x="6521040" y="405360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5" name="Rectangle 1"/>
              <p:cNvSpPr/>
              <p:nvPr/>
            </p:nvSpPr>
            <p:spPr>
              <a:xfrm>
                <a:off x="6809040" y="346428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6521040" y="4138200"/>
              <a:ext cx="4896000" cy="1169640"/>
              <a:chOff x="6521040" y="4138200"/>
              <a:chExt cx="4896000" cy="1169640"/>
            </a:xfrm>
          </p:grpSpPr>
          <p:sp>
            <p:nvSpPr>
              <p:cNvPr id="357" name="文本框 4"/>
              <p:cNvSpPr/>
              <p:nvPr/>
            </p:nvSpPr>
            <p:spPr>
              <a:xfrm>
                <a:off x="9365760" y="413820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缺点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8" name=""/>
              <p:cNvGrpSpPr/>
              <p:nvPr/>
            </p:nvGrpSpPr>
            <p:grpSpPr>
              <a:xfrm>
                <a:off x="6521040" y="4141080"/>
                <a:ext cx="4896000" cy="1166760"/>
                <a:chOff x="6521040" y="4141080"/>
                <a:chExt cx="4896000" cy="1166760"/>
              </a:xfrm>
            </p:grpSpPr>
            <p:sp>
              <p:nvSpPr>
                <p:cNvPr id="359" name="矩形 7"/>
                <p:cNvSpPr/>
                <p:nvPr/>
              </p:nvSpPr>
              <p:spPr>
                <a:xfrm>
                  <a:off x="6521040" y="4386600"/>
                  <a:ext cx="4896000" cy="675360"/>
                </a:xfrm>
                <a:prstGeom prst="rect">
                  <a:avLst/>
                </a:prstGeom>
                <a:solidFill>
                  <a:srgbClr val="2323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等腰三角形 8"/>
                <p:cNvSpPr/>
                <p:nvPr/>
              </p:nvSpPr>
              <p:spPr>
                <a:xfrm>
                  <a:off x="11022120" y="414108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等腰三角形 9"/>
                <p:cNvSpPr/>
                <p:nvPr/>
              </p:nvSpPr>
              <p:spPr>
                <a:xfrm rot="10800000">
                  <a:off x="6521040" y="506232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2" name="Rectangle 1"/>
              <p:cNvSpPr/>
              <p:nvPr/>
            </p:nvSpPr>
            <p:spPr>
              <a:xfrm>
                <a:off x="6809040" y="447300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6521040" y="5218560"/>
              <a:ext cx="4896000" cy="1169640"/>
              <a:chOff x="6521040" y="5218560"/>
              <a:chExt cx="4896000" cy="1169640"/>
            </a:xfrm>
          </p:grpSpPr>
          <p:sp>
            <p:nvSpPr>
              <p:cNvPr id="364" name="文本框 18"/>
              <p:cNvSpPr/>
              <p:nvPr/>
            </p:nvSpPr>
            <p:spPr>
              <a:xfrm>
                <a:off x="9365760" y="521856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缺点四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6521040" y="5221440"/>
                <a:ext cx="4896000" cy="1166760"/>
                <a:chOff x="6521040" y="5221440"/>
                <a:chExt cx="4896000" cy="1166760"/>
              </a:xfrm>
            </p:grpSpPr>
            <p:sp>
              <p:nvSpPr>
                <p:cNvPr id="366" name="矩形 21"/>
                <p:cNvSpPr/>
                <p:nvPr/>
              </p:nvSpPr>
              <p:spPr>
                <a:xfrm>
                  <a:off x="6521040" y="5466960"/>
                  <a:ext cx="4896000" cy="675360"/>
                </a:xfrm>
                <a:prstGeom prst="rect">
                  <a:avLst/>
                </a:prstGeom>
                <a:solidFill>
                  <a:srgbClr val="2323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等腰三角形 22"/>
                <p:cNvSpPr/>
                <p:nvPr/>
              </p:nvSpPr>
              <p:spPr>
                <a:xfrm>
                  <a:off x="11022120" y="522144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等腰三角形 23"/>
                <p:cNvSpPr/>
                <p:nvPr/>
              </p:nvSpPr>
              <p:spPr>
                <a:xfrm rot="10800000">
                  <a:off x="6521040" y="614268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9" name="Rectangle 1"/>
              <p:cNvSpPr/>
              <p:nvPr/>
            </p:nvSpPr>
            <p:spPr>
              <a:xfrm>
                <a:off x="6809040" y="555336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0" name="矩形 3"/>
          <p:cNvSpPr/>
          <p:nvPr/>
        </p:nvSpPr>
        <p:spPr>
          <a:xfrm>
            <a:off x="6095880" y="981000"/>
            <a:ext cx="360360" cy="360360"/>
          </a:xfrm>
          <a:prstGeom prst="rect">
            <a:avLst/>
          </a:prstGeom>
          <a:solidFill>
            <a:srgbClr val="ff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矩形 3"/>
          <p:cNvSpPr/>
          <p:nvPr/>
        </p:nvSpPr>
        <p:spPr>
          <a:xfrm>
            <a:off x="7883640" y="981000"/>
            <a:ext cx="360360" cy="36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499080" y="1017720"/>
            <a:ext cx="10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4646"/>
                </a:solidFill>
                <a:latin typeface="Arial"/>
                <a:ea typeface="微软雅黑"/>
              </a:rPr>
              <a:t>亮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516880" y="1017720"/>
            <a:ext cx="10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缺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375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376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252360" y="6232680"/>
            <a:ext cx="64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坡下载站独家精心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dsx-77</dc:creator>
  <dc:description/>
  <cp:keywords/>
  <dc:language>en-US</dc:language>
  <cp:lastModifiedBy>Sky123.Org</cp:lastModifiedBy>
  <dcterms:modified xsi:type="dcterms:W3CDTF">2014-12-29T06:38:00Z</dcterms:modified>
  <cp:revision>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