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320-23B7-4AA3-BEA0-EA3DD5B5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74B-02F6-4043-A6A4-B89CA604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2AE-367E-47EB-9BE0-877BBE32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5FC-8CA3-4D36-B8EE-3D89EECE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603-9BDA-4F77-9018-E649511B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951-692B-4143-8265-4725716B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68B-C904-4724-B84A-F730AA75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2C2-4219-4FCA-BB93-1732218A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C2C-F93D-4D5B-A0BD-C104B7C8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98A-9FA6-47B7-A82D-6D40FF38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B38-0EC9-432B-A4B4-75F2DDE0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645-817C-4DF5-A404-5F8A52A4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3239-D793-420C-A56D-91DE4497B0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997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97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783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497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2068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3T01:36:12Z</dcterms:modified>
  <cp:revision>118</cp:revision>
  <dc:subject/>
  <dc:title>幻灯片 1</dc:title>
</cp:coreProperties>
</file>