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714-32BE-4D23-9A89-5BC55554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933-F6D0-40DD-B974-E50DC475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F3A-DF3A-4E9D-84B2-3719119E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8AF-6963-4D57-88D0-07DCE148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C8D-DC96-4C2D-A8AE-937C0359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F9E3-8623-4A5F-9BBF-67720B9D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3AE-E189-46E2-AE89-EADB4B87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920-CCDD-4318-AA2A-F314B073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317-71C6-4041-95C0-9C7D97A7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4A6-347C-4C01-A2F6-90CD9D87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B81-16E1-4575-ABF6-E389D777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2E2-8A7A-4668-B6DC-125FD7F4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4B3C-2837-4395-A8B8-86B028E2F7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3T01:36:12Z</dcterms:modified>
  <cp:revision>118</cp:revision>
  <dc:subject/>
  <dc:title>幻灯片 1</dc:title>
</cp:coreProperties>
</file>