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2101-FC8D-4D1B-B388-7B47F3F76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5C32-DB5D-40E6-AE2F-360BD84C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2BDD-5B09-4A91-A4C4-317A9DD84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2327-1781-458D-AFB0-2D45340C2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391E-DAA9-4744-92B3-3BF004DB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6152-E4A9-45E6-80A1-2B2C5E4E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6B11-6336-4EFD-9275-13FA69A1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BDC9-BC01-4801-9C4A-FB19E7AB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4BE5-3267-43F6-B0D7-1FE7365E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4442-0FAB-451E-A666-9943B3E0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EA4D-4091-4142-9616-B17374E5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CC5C-2920-4C06-8C5A-85212253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F715-84FB-49F5-A7AC-C6972607614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3643200" y="542916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新年快乐幻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5"/>
          <p:cNvSpPr/>
          <p:nvPr/>
        </p:nvSpPr>
        <p:spPr>
          <a:xfrm>
            <a:off x="3643200" y="5445000"/>
            <a:ext cx="2428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3500280" y="492912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62125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5"/>
          <p:cNvSpPr/>
          <p:nvPr/>
        </p:nvSpPr>
        <p:spPr>
          <a:xfrm>
            <a:off x="19976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464076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45691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44978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428364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/>
          <p:cNvSpPr/>
          <p:nvPr/>
        </p:nvSpPr>
        <p:spPr>
          <a:xfrm>
            <a:off x="449784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499788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0689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59979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528372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542664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36406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42836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61408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285480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4569120" y="5286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42120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8"/>
          <p:cNvSpPr/>
          <p:nvPr/>
        </p:nvSpPr>
        <p:spPr>
          <a:xfrm>
            <a:off x="16405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678384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442656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635508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271188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60696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442656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24260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464076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449784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66409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22118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20689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</cp:lastModifiedBy>
  <dcterms:modified xsi:type="dcterms:W3CDTF">2015-01-13T01:36:12Z</dcterms:modified>
  <cp:revision>118</cp:revision>
  <dc:subject/>
  <dc:title>幻灯片 1</dc:title>
</cp:coreProperties>
</file>