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DAD-FC56-4586-99E1-3764542E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0D8-99ED-4932-983B-C922CCF4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AE8-A2EA-4327-B259-D4D9B5D4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A91-3D6C-48E8-838D-6901113B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6BF-DEBD-410E-91D4-D8D0E282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39A-06BD-41F1-B841-BB5BE96A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A62-3ED0-49DB-BFCF-08B3AA63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EBF7-3975-4DD8-B9D7-221F728F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A7F-EAD0-4366-881E-D3BDE780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FD3-C09B-42DE-B512-748E79D6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46D-AB5D-4C3A-9D10-0F8A5AFF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0D0-41B1-4887-BE06-7DE32A67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4C3B-64BC-4C85-8704-68DC701910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429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44500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9291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997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97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97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68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140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783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26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49784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2211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2068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3T01:36:12Z</dcterms:modified>
  <cp:revision>118</cp:revision>
  <dc:subject/>
  <dc:title>幻灯片 1</dc:title>
</cp:coreProperties>
</file>