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ECF4-8D00-4A21-956D-82CC16F4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1826-ADEB-4618-962C-09BCFF4C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BF43-72FF-425D-B061-4BAB5A3D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EF7-94B5-4750-8AAC-FD551FA0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C359-35F9-4807-8D14-C58AE2B1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99C-C7A0-4C81-93C8-EA3483F3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6B9-7FD0-4784-ACFE-7291D8B7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58E1-90AD-402D-BCE8-E6C78D40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5C64-2C59-4C16-B4B8-52867DFC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23F-5BD9-40A2-871C-7E85ED29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8AC-8003-433E-BF6F-5D064536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DC58-EF91-4AC5-B67C-13CCCBB5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EFC0-42E7-42BB-8A62-24E5AE0FE3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4291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44500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00280" y="49291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6212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1997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4569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497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4497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97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68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97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837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640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140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854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569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783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426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6355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711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069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4640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49784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640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211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2068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</cp:lastModifiedBy>
  <dcterms:modified xsi:type="dcterms:W3CDTF">2015-01-13T01:36:12Z</dcterms:modified>
  <cp:revision>118</cp:revision>
  <dc:subject/>
  <dc:title>幻灯片 1</dc:title>
</cp:coreProperties>
</file>