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326-B471-4ACB-A8AD-C4241530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577-4F96-4355-B919-54E6BBCE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C0E-6170-40A8-9FB6-789F2A02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4AA-2060-45D1-8F6C-E229BDA7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27F-2175-4976-86BA-1437FC31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223-8BF7-486B-883A-DD514753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C0D-6EFA-4C0E-9B68-610098C6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A62-6120-4134-BD8B-51A5685B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CAB-704B-4FA3-AF78-5EC702C1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7A61-7F0C-4C24-8694-24090E11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60A-38AD-4622-AB5B-99F819D9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D5D-FE39-4CB5-A031-323B410A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4288-E961-4D33-9F19-7DDBF5BE5C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44500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9291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997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497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783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26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069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4978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211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2068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5-01-13T01:36:12Z</dcterms:modified>
  <cp:revision>118</cp:revision>
  <dc:subject/>
  <dc:title>幻灯片 1</dc:title>
</cp:coreProperties>
</file>