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1.jpeg" ContentType="image/jpeg"/>
  <Override PartName="/ppt/media/image32.wmf" ContentType="image/x-wmf"/>
  <Override PartName="/ppt/media/image29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5.wmf" ContentType="image/x-wmf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1.wmf" ContentType="image/x-wmf"/>
  <Override PartName="/ppt/media/image3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3.wmf" ContentType="image/x-wmf"/>
  <Override PartName="/ppt/media/image12.jpeg" ContentType="image/jpeg"/>
  <Override PartName="/ppt/media/image34.wmf" ContentType="image/x-wmf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43.png" ContentType="image/png"/>
  <Override PartName="/ppt/media/image36.wmf" ContentType="image/x-wmf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7.wmf" ContentType="image/x-wmf"/>
  <Override PartName="/ppt/media/image7.wmf" ContentType="image/x-wmf"/>
  <Override PartName="/ppt/media/image20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25.jpeg" ContentType="image/jpeg"/>
  <Override PartName="/ppt/media/image28.wmf" ContentType="image/x-wmf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AAE5-C441-4D02-A542-D3DED96F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544A-D02F-48A2-BBC0-9C0BF589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E9D-5530-4C54-8751-EFAE4E51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2DC-24CD-40D3-85DE-67EC7B55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78A-1DC4-4283-B863-81F5AFBD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E0D4-69FD-4E17-AE53-E4363150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BC7-3797-4284-8D67-F28778F8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A6EA-DA84-4ED5-B321-3D5930AC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4FDC-CE5E-451A-BC64-CDE9915E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047-D1A1-44EC-A002-968880C0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E4F-ED9D-4CA1-AEFF-4F593BD8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476B-A1AA-49BB-9BF9-C29EC758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0F83-0801-4E3A-A909-E54DF2C0C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609f980198cb495bd3e1ee8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2209680" y="2128680"/>
            <a:ext cx="609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隶书"/>
              </a:rPr>
              <a:t>健康成长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33520" y="76212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隶书"/>
              </a:rPr>
              <a:t>珍爱生命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676520" y="49528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北京师范大学株洲附属学校小学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04c"/>
          <p:cNvPicPr/>
          <p:nvPr/>
        </p:nvPicPr>
        <p:blipFill>
          <a:blip r:embed="rId1"/>
          <a:srcRect l="0" t="0" r="0" b="9081"/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03c"/>
          <p:cNvPicPr/>
          <p:nvPr/>
        </p:nvPicPr>
        <p:blipFill>
          <a:blip r:embed="rId1"/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车祸仅仅是威胁我们生命安全的一个方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有时候，人类在重大自然灾害面前是那样的不堪一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日四川地震导致近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万人死亡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千余人失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533520" y="1295280"/>
            <a:ext cx="8076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命是如此脆弱，我们要善待自己的生命，保护好生命，让生命绽放出绚烂的光彩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13"/>
          <p:cNvPicPr/>
          <p:nvPr/>
        </p:nvPicPr>
        <p:blipFill>
          <a:blip r:embed="rId1"/>
          <a:stretch/>
        </p:blipFill>
        <p:spPr>
          <a:xfrm>
            <a:off x="6516720" y="333360"/>
            <a:ext cx="2286000" cy="2908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250920" y="33336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早晨，一个伐木工人照常去森林里伐木。他用电锯将一棵粗大的松树锯倒时，树干反弹重重地压在他的右腿上。剧烈的疼痛使他觉得眼前一片漆黑。此时，他知道，自己首先要做的是保持清醒。他试图把腿抽回来，可办不到。于是他拿起手边的斧子狠命地朝树干砍去，砍了三四下后，斧柄断了。他又拿起电锯开始锯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19"/>
          <p:cNvPicPr/>
          <p:nvPr/>
        </p:nvPicPr>
        <p:blipFill>
          <a:blip r:embed="rId1"/>
          <a:stretch/>
        </p:blipFill>
        <p:spPr>
          <a:xfrm>
            <a:off x="5508720" y="1052640"/>
            <a:ext cx="3352680" cy="3276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228600" y="762120"/>
            <a:ext cx="5105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很快发现：倒下的松树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度角，巨大的压力随时会把锯条卡住，如果电锯出了故障，这里又人迹罕至，时间一长，就只能束手待毙了。左思右想，别无他路。他狠狠心，拿起电锯，对准自己的右腿，自行截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116"/>
          <p:cNvPicPr/>
          <p:nvPr/>
        </p:nvPicPr>
        <p:blipFill>
          <a:blip r:embed="rId1"/>
          <a:stretch/>
        </p:blipFill>
        <p:spPr>
          <a:xfrm>
            <a:off x="5651640" y="3068640"/>
            <a:ext cx="3276360" cy="3581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228600" y="1522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伐木工人把腿简单包扎了一下，决定爬回去。一路上，他忍着巨痛，一寸一寸地爬，一次一次地昏迷过去，又一次一次地苏醒过来，心中只有一个念头：一定要活着回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609480" y="3581280"/>
            <a:ext cx="19051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想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28600" y="495288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当遇到如此艰难的抉择时，你能果断地选择求生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1371600"/>
            <a:ext cx="8305560" cy="36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现实中许多人自怨自艾 ，把自己说得一无是处，仿佛自己是天底下最可怜的人。其实，我们是很幸运的，因为至少我们当中绝大多数人是四肢健全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871720" y="650880"/>
            <a:ext cx="3838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人的生命只有一次，生命是多么珍贵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现在的生活是多么的美好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可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世界上有很多不幸的人们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大家看看他们是怎样生活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"/>
          <p:cNvPicPr/>
          <p:nvPr/>
        </p:nvPicPr>
        <p:blipFill>
          <a:blip r:embed="rId1"/>
          <a:stretch/>
        </p:blipFill>
        <p:spPr>
          <a:xfrm>
            <a:off x="380880" y="1600200"/>
            <a:ext cx="3452760" cy="4191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892520" y="53352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他们，身残志坚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img722784_2"/>
          <p:cNvPicPr/>
          <p:nvPr/>
        </p:nvPicPr>
        <p:blipFill>
          <a:blip r:embed="rId2"/>
          <a:stretch/>
        </p:blipFill>
        <p:spPr>
          <a:xfrm>
            <a:off x="4038480" y="1981080"/>
            <a:ext cx="48006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隶书"/>
                <a:ea typeface="隶书"/>
              </a:rPr>
              <a:t>多彩的生命构成了缤纷的世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xiao hai"/>
          <p:cNvPicPr/>
          <p:nvPr/>
        </p:nvPicPr>
        <p:blipFill>
          <a:blip r:embed="rId1"/>
          <a:stretch/>
        </p:blipFill>
        <p:spPr>
          <a:xfrm>
            <a:off x="380880" y="1411200"/>
            <a:ext cx="2743200" cy="2094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xiao hai2"/>
          <p:cNvPicPr/>
          <p:nvPr/>
        </p:nvPicPr>
        <p:blipFill>
          <a:blip r:embed="rId2"/>
          <a:stretch/>
        </p:blipFill>
        <p:spPr>
          <a:xfrm>
            <a:off x="3276720" y="1393920"/>
            <a:ext cx="2743200" cy="2111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xiao hai3"/>
          <p:cNvPicPr/>
          <p:nvPr/>
        </p:nvPicPr>
        <p:blipFill>
          <a:blip r:embed="rId3"/>
          <a:stretch/>
        </p:blipFill>
        <p:spPr>
          <a:xfrm>
            <a:off x="6172200" y="1393920"/>
            <a:ext cx="2614680" cy="3711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xiao hai4"/>
          <p:cNvPicPr/>
          <p:nvPr/>
        </p:nvPicPr>
        <p:blipFill>
          <a:blip r:embed="rId4"/>
          <a:stretch/>
        </p:blipFill>
        <p:spPr>
          <a:xfrm>
            <a:off x="380880" y="38098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011160889d45776dc8901"/>
          <p:cNvPicPr/>
          <p:nvPr/>
        </p:nvPicPr>
        <p:blipFill>
          <a:blip r:embed="rId1"/>
          <a:stretch/>
        </p:blipFill>
        <p:spPr>
          <a:xfrm>
            <a:off x="228600" y="304920"/>
            <a:ext cx="3792600" cy="5715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alt6608977"/>
          <p:cNvPicPr/>
          <p:nvPr/>
        </p:nvPicPr>
        <p:blipFill>
          <a:blip r:embed="rId2"/>
          <a:stretch/>
        </p:blipFill>
        <p:spPr>
          <a:xfrm>
            <a:off x="4800600" y="609480"/>
            <a:ext cx="4202280" cy="5029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8640" y="22860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他们，永不放弃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1020110295f0bb6f2060c43c1"/>
          <p:cNvPicPr/>
          <p:nvPr/>
        </p:nvPicPr>
        <p:blipFill>
          <a:blip r:embed="rId1"/>
          <a:stretch/>
        </p:blipFill>
        <p:spPr>
          <a:xfrm>
            <a:off x="228600" y="609480"/>
            <a:ext cx="5638680" cy="4229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5943600" y="1447920"/>
            <a:ext cx="364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没有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我照样能写字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0060814162422262"/>
          <p:cNvPicPr/>
          <p:nvPr/>
        </p:nvPicPr>
        <p:blipFill>
          <a:blip r:embed="rId1"/>
          <a:stretch/>
        </p:blipFill>
        <p:spPr>
          <a:xfrm>
            <a:off x="304920" y="457200"/>
            <a:ext cx="4308480" cy="5943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5183280" y="1628640"/>
            <a:ext cx="396072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世上除了用眼睛看世界，还有一种内在的视觉</a:t>
            </a:r>
            <a:r>
              <a:rPr b="0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那可能是更真实的，那就是 用心去看这个世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030640" y="692280"/>
            <a:ext cx="396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海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凯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4637880" y="1447920"/>
            <a:ext cx="321084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_GB2312"/>
              </a:rPr>
              <a:t>不屈服于命运的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_GB2312"/>
              </a:rPr>
              <a:t>张 海 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图片1"/>
          <p:cNvPicPr/>
          <p:nvPr/>
        </p:nvPicPr>
        <p:blipFill>
          <a:blip r:embed="rId1"/>
          <a:stretch/>
        </p:blipFill>
        <p:spPr>
          <a:xfrm>
            <a:off x="1332000" y="1066680"/>
            <a:ext cx="3678120" cy="495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" descr="2005-17"/>
          <p:cNvPicPr/>
          <p:nvPr/>
        </p:nvPicPr>
        <p:blipFill>
          <a:blip r:embed="rId1"/>
          <a:stretch/>
        </p:blipFill>
        <p:spPr>
          <a:xfrm>
            <a:off x="1195560" y="990720"/>
            <a:ext cx="3376440" cy="51991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5029200" y="914400"/>
            <a:ext cx="366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年春节联欢晚会上中国残疾人艺术团的节目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千手观音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感动了全中国。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个平均年龄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岁的聋哑演员将舞蹈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千手观音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演绎得天衣无缝、美轮美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352680" y="259920"/>
            <a:ext cx="500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新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08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年北京残奥会上，</a:t>
            </a:r>
            <a:r>
              <a:rPr b="0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月</a:t>
            </a:r>
            <a:r>
              <a:rPr b="0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日，在男子三级跳远</a:t>
            </a:r>
            <a:r>
              <a:rPr b="0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F11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级决赛中，李端以</a:t>
            </a:r>
            <a:r>
              <a:rPr b="0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13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米</a:t>
            </a:r>
            <a:r>
              <a:rPr b="0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71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的成绩夺冠，</a:t>
            </a:r>
            <a:r>
              <a:rPr b="0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月</a:t>
            </a:r>
            <a:r>
              <a:rPr b="0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15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日上午，他又以６米６１的成绩成功卫冕跳远冠军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李端说过这样一句名言：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失去了光明，灵魂不能坠入黑暗；看不见道路，脚步不能停滞不前</a:t>
            </a:r>
            <a:r>
              <a:rPr b="0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971640" y="53006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3038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118"/>
          <p:cNvPicPr/>
          <p:nvPr/>
        </p:nvPicPr>
        <p:blipFill>
          <a:blip r:embed="rId1"/>
          <a:stretch/>
        </p:blipFill>
        <p:spPr>
          <a:xfrm>
            <a:off x="5334120" y="2743200"/>
            <a:ext cx="3581280" cy="3733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228600" y="5335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世界因生命而精彩。珍爱生命的人，无论何时何地，无论遇到多大挫折，都不会轻易放弃生的希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114"/>
          <p:cNvPicPr/>
          <p:nvPr/>
        </p:nvPicPr>
        <p:blipFill>
          <a:blip r:embed="rId2"/>
          <a:stretch/>
        </p:blipFill>
        <p:spPr>
          <a:xfrm>
            <a:off x="609480" y="2819520"/>
            <a:ext cx="3429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残疾人较我们常人而言，在生活中会遇到许多困难。他们尚且能顽强地活着，而且活得很精彩，我们不应该活得更潇洒、更快乐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4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4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54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在生活中，也有一些人置亲人的痛苦而不顾，做出一些愚蠢的“傻事”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4863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下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，某中学初中部初三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班学生王侃在下自习课前走出教室，翻出走廊前沿，从教学楼五楼跳下。最近他家第二个孩子过生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王凯与他母亲发生口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因通过宿舍阳台向另一宿舍攀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保安人员及时发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拦了下来并通知了班主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457200"/>
            <a:ext cx="91440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Times New Roman"/>
                <a:ea typeface="隶书"/>
              </a:rPr>
              <a:t>生命是地球上最珍贵的财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隶书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当我们看见小草翠绿，树影婆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pó suō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听到虫鸣鸟叫，人群喧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闻到清新空气，百花芳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都能感受到万物的欣欣向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世界充满生命力和无限希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整个世界因生命的存在而变得生动和精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们这样做的结果怎样呢？这样做得对吗？值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想父母、老师、同学等等。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孩子的离去会让他的家人非常难过，家家就这样一个孩子，与父母朝夕相处，如今忽然之间就无影无踪了，任谁也受不了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作为一个人，都要珍爱自己的生命，生命，对于人来说只有一次。来到这个世界上走一遭，不能给世界留点什么，至少应该给自己的生命留下点精彩，这样在生命即将逝去的时候，才不会感觉空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珍爱生命，在生命中有那么多爱你的人和你爱的人，为了他们保重你自己。在你的生命中，有那么多你喜欢的事要做，怎么能就轻言放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762120" y="2057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为什么有些人轻视自己的生命，做出一些让亲人朋友伤心惋惜的蠢事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国外研究表明，与自杀有关的精神病以抑郁症和精神分裂症居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抑郁症又叫忧郁症，被认为是导致自杀的主要原因。自杀者中有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的人患有抑郁症，因此它被称为“第一号心理杀手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精神病患者的普遍表现为：饮食、睡眠差，妄想，生活在幻觉之中，不是说个不停就是沉默寡言，不是极端自信就极端自卑。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何调整不良心态，形成健康的心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些人受挫能力弱，稍微大一点的压力就超越了他的承受范围，导致精神崩溃，产生心理疾病。因此我们要学会通过多种途径（向别人诉说、运动等）合理释放压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重要的是培养自己的受挫能力，勇于面对失败和挫折，处于逆境不灰心，培养自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会多角度考虑问题，积极面对困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论遇到多大困难，都不放弃自己的生命。在这世界上总有比你更惨的人和物。（你连一根草、一只蚂蚁也不如吗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62120" y="152388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你的生命仅仅属于你自己一个人吗？你可以私自随意地虐待自己的生命吗？我们应该怎样去做，才能发挥生命的真正价值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8000" spc="-1" strike="noStrike">
                <a:solidFill>
                  <a:srgbClr val="009900"/>
                </a:solidFill>
                <a:latin typeface="華康少女文字W3(P)"/>
                <a:ea typeface="華康少女文字W3(P)"/>
              </a:rPr>
              <a:t>努力</a:t>
            </a:r>
            <a:r>
              <a:rPr b="0" i="1" lang="zh-CN" sz="8000" spc="-1" strike="noStrike">
                <a:solidFill>
                  <a:srgbClr val="009900"/>
                </a:solidFill>
                <a:latin typeface="華康少女文字W3(P)"/>
                <a:ea typeface="華康少女文字W3(P)"/>
              </a:rPr>
              <a:t>读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pe03254_"/>
          <p:cNvPicPr/>
          <p:nvPr/>
        </p:nvPicPr>
        <p:blipFill>
          <a:blip r:embed="rId1"/>
          <a:stretch/>
        </p:blipFill>
        <p:spPr>
          <a:xfrm>
            <a:off x="4876920" y="380880"/>
            <a:ext cx="3429000" cy="3094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pe03166_"/>
          <p:cNvPicPr/>
          <p:nvPr/>
        </p:nvPicPr>
        <p:blipFill>
          <a:blip r:embed="rId2"/>
          <a:stretch/>
        </p:blipFill>
        <p:spPr>
          <a:xfrm>
            <a:off x="6248520" y="4191120"/>
            <a:ext cx="216684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bd07218_"/>
          <p:cNvPicPr/>
          <p:nvPr/>
        </p:nvPicPr>
        <p:blipFill>
          <a:blip r:embed="rId3"/>
          <a:stretch/>
        </p:blipFill>
        <p:spPr>
          <a:xfrm>
            <a:off x="609480" y="1676520"/>
            <a:ext cx="2025720" cy="2590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pe03668_"/>
          <p:cNvPicPr/>
          <p:nvPr/>
        </p:nvPicPr>
        <p:blipFill>
          <a:blip r:embed="rId4"/>
          <a:stretch/>
        </p:blipFill>
        <p:spPr>
          <a:xfrm>
            <a:off x="2743200" y="3886200"/>
            <a:ext cx="192096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009900"/>
                </a:solidFill>
                <a:latin typeface="華康少女文字W3(P)"/>
                <a:ea typeface="華康少女文字W3(P)"/>
              </a:rPr>
              <a:t>帮忙做家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pe02104_"/>
          <p:cNvPicPr/>
          <p:nvPr/>
        </p:nvPicPr>
        <p:blipFill>
          <a:blip r:embed="rId1"/>
          <a:stretch/>
        </p:blipFill>
        <p:spPr>
          <a:xfrm>
            <a:off x="533520" y="3429000"/>
            <a:ext cx="2431800" cy="281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pe02000_"/>
          <p:cNvPicPr/>
          <p:nvPr/>
        </p:nvPicPr>
        <p:blipFill>
          <a:blip r:embed="rId2"/>
          <a:stretch/>
        </p:blipFill>
        <p:spPr>
          <a:xfrm>
            <a:off x="5943600" y="228600"/>
            <a:ext cx="2427120" cy="2743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in00308_"/>
          <p:cNvPicPr/>
          <p:nvPr/>
        </p:nvPicPr>
        <p:blipFill>
          <a:blip r:embed="rId3"/>
          <a:stretch/>
        </p:blipFill>
        <p:spPr>
          <a:xfrm>
            <a:off x="2819520" y="1905120"/>
            <a:ext cx="2590560" cy="241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in00295_"/>
          <p:cNvPicPr/>
          <p:nvPr/>
        </p:nvPicPr>
        <p:blipFill>
          <a:blip r:embed="rId4"/>
          <a:stretch/>
        </p:blipFill>
        <p:spPr>
          <a:xfrm>
            <a:off x="4572000" y="3505320"/>
            <a:ext cx="4114800" cy="30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009900"/>
                </a:solidFill>
                <a:latin typeface="華康少女文字W3(P)"/>
                <a:ea typeface="華康少女文字W3(P)"/>
              </a:rPr>
              <a:t>乐于助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4800600" y="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8000" spc="-1" strike="noStrike">
                <a:solidFill>
                  <a:srgbClr val="009900"/>
                </a:solidFill>
                <a:latin typeface="華康少女文字W3(P)"/>
                <a:ea typeface="華康少女文字W3(P)"/>
              </a:rPr>
              <a:t>多做善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bd06872_"/>
          <p:cNvPicPr/>
          <p:nvPr/>
        </p:nvPicPr>
        <p:blipFill>
          <a:blip r:embed="rId1"/>
          <a:stretch/>
        </p:blipFill>
        <p:spPr>
          <a:xfrm>
            <a:off x="304920" y="1447920"/>
            <a:ext cx="4190760" cy="253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bd06608_"/>
          <p:cNvPicPr/>
          <p:nvPr/>
        </p:nvPicPr>
        <p:blipFill>
          <a:blip r:embed="rId2"/>
          <a:stretch/>
        </p:blipFill>
        <p:spPr>
          <a:xfrm>
            <a:off x="5105520" y="1295280"/>
            <a:ext cx="373356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bd07116_"/>
          <p:cNvPicPr/>
          <p:nvPr/>
        </p:nvPicPr>
        <p:blipFill>
          <a:blip r:embed="rId3"/>
          <a:stretch/>
        </p:blipFill>
        <p:spPr>
          <a:xfrm>
            <a:off x="1447920" y="3857760"/>
            <a:ext cx="4800600" cy="30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5335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安全知识抢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150920" y="1981080"/>
            <a:ext cx="577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未满几周岁的儿童，不准在道路上骑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学自行车？  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(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周岁     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周岁     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周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276720" y="243828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85800" y="3962520"/>
            <a:ext cx="60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遇到火灾时，拨打（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Arial"/>
              </a:rPr>
              <a:t>A.   110         B.  119          C.  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649760" y="3886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螳螂是一种昆虫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Arial"/>
              </a:rPr>
              <a:t>由于雌螳螂要孕育后代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Arial"/>
              </a:rPr>
              <a:t>所以必须吸取大量养分以备产卵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Arial"/>
              </a:rPr>
              <a:t>因此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雌螳螂在完成交配之后，就会杀死雄螳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对于雄螳螂来说，繁衍也就意味着死亡，小螳螂的出生总是伴随着父亲的死亡。也可以说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Arial"/>
              </a:rPr>
              <a:t>小螳螂的出生是用爸爸的性命换来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33520" y="45720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螳螂的故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2163600" y="1298520"/>
            <a:ext cx="355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下课了，不能干什么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? (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、看书       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、追赶打闹      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、下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437200" y="3352680"/>
            <a:ext cx="38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哪些东西不准带进学校？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乒乓球       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三角尺       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利器、易燃物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031360" y="1295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259960" y="3352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2817720" y="1371600"/>
            <a:ext cx="35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哪些行为不对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?   (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跳高、跳远   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攀越围墙、滑楼梯   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玩火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116240" y="13716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   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746720" y="3429000"/>
            <a:ext cx="442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6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上下楼梯怎样走？      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(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靠右走       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靠左走     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左右都可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031360" y="34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2414520" y="581040"/>
            <a:ext cx="2923920" cy="54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我是小法官（判断题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）使用刀具时，互相比划、打闹。      （ 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）在人多的地方或马路上踢球。        （ 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）集体上下楼时，讲秩序，靠右走。    （ 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）下雨天，在湿的地面上奔跑。        （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）集会时动来动去，老是去碰别人。    （  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）下课了，不追赶打闹。              （ 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）在楼道里追逐打闹。                （ 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）乘车时将头、手伸出窗外。          （ 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868720" y="12193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867280" y="205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792760" y="1828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716440" y="30481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6021360" y="36576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35560" y="4876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5640120" y="5486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5983560" y="24382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5450040" y="419112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424440" y="1447920"/>
            <a:ext cx="775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幼圆"/>
              </a:rPr>
              <a:t>        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幼圆"/>
              </a:rPr>
              <a:t>下面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幼圆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幼圆"/>
              </a:rPr>
              <a:t>我们来学习一首安全童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676520" y="1600200"/>
            <a:ext cx="6400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小朋友，我问你，自我保护可知道？ 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随你问，随你考，安全保护有六条。 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第一条，最关键，不碰插座不玩电， 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过马路，两边看，红灯亮走斑马线。 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坐汽车，坐火车，头手不伸窗外边。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你的家，住高楼，不爬阳台翻筋斗。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水果刀，大人用，等我长大才能动。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家里人，都不在，谁叫我都不离开。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我是妈妈的乖宝宝，自我保护最安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33520" y="21337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父母给了我们宝贵的生命，四肢健全的我们，生活在一个无忧无虑的幸福世界里。我们一定要珍惜自己的生命，爱护自己的生命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272960" y="4572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歌曲：明天会更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533520" y="1219320"/>
            <a:ext cx="4419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轻轻敲醒沉睡的心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慢慢张开你的眼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看看忙碌的世界是否依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孤独地转个不停 春风不解风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吹动少年的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让昨日脸上的泪痕随记忆风干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抬头寻找天空的翅膀 候鸟出现它的影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带来远处的饥荒 无情的战火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依然存在的消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玉山白雪飘零 燃烧少年的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使真情溶化成音符 倾诉遥远的祝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唱出你的热情 伸出你双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让我拥抱着你的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952880" y="533520"/>
            <a:ext cx="3730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让我拥有你真心的面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让我们的笑容充满着青春的骄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为明天献出虔诚的祈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谁能不顾自己的家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抛开记忆中的童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谁能忍心看他昨日的忧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带走我们的笑容 青春不解红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胭脂沾染了灰 让久违不见的泪水 滋润了你的面容唱出你的热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伸出你双手 让我拥抱着你的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让我拥有 你真心的面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让我们的笑容充满着青春的骄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让我们期待明天会更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轻轻敲醒沉睡的心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慢慢张开你的眼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看看忙碌的世界是否依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孤独地转个不停  日出唤醒清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大地光彩重生  让和风拂出的音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谱成生命的乐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儿童歌曲 - 明天会更好.mp3" descr=""/>
          <p:cNvPicPr/>
          <p:nvPr/>
        </p:nvPicPr>
        <p:blipFill>
          <a:blip r:embed="rId2"/>
          <a:stretch/>
        </p:blipFill>
        <p:spPr>
          <a:xfrm>
            <a:off x="4267080" y="4648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280999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2621880" y="213372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班会结束，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770640" y="34275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再见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napshot20061113221547"/>
          <p:cNvPicPr/>
          <p:nvPr/>
        </p:nvPicPr>
        <p:blipFill>
          <a:blip r:embed="rId1"/>
          <a:srcRect l="0" t="6029" r="0" b="0"/>
          <a:stretch/>
        </p:blipFill>
        <p:spPr>
          <a:xfrm>
            <a:off x="2590920" y="150840"/>
            <a:ext cx="6400800" cy="3278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0" y="3403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，雌企鹅会产下一枚蛋，但此时它们身体储存的能量就会消耗殆尽，必须立即返回大海进行捕食。雌企鹅把蛋交给雄企鹅。雄企鹅把蛋放在脚掌上，用育儿袋包裹起来，孵化时间大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。这期间，雄企鹅将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吃任何食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多数时间将在睡眠中度过，依靠燃烧身体中储存下的脂肪度日。为了在寒冷和大风中幸存下来，雄企鹅们会挤成一圈，然后轮流换到中间。如果在小企鹅出生后，妈妈仍没有回来，爸爸就会将小企鹅坐在身下，拿育儿袋将小企鹅全身覆盖，再从食道中分泌出乳白色的乳状物质来喂食小企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31640" y="304920"/>
            <a:ext cx="1521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企鹅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20320" y="274320"/>
            <a:ext cx="704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人类孕育的艰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067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胎儿期，就是指受孕到出生这一时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周，即通常说的十月怀胎。胎儿的发育阶段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肚子一天天地大起来了，每个月例行去医院检查身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知是什么原因，睡觉到半夜总会有想吐的感觉，但又什么也吐不出来，很难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翻身这个简单的动作也不是很利索就能做到了，搞不好腿还会抽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休息的时候去街上为宝宝选一些物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敢生病，即使生病也不敢吃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敢做剧烈运动，不敢提重物，不敢爬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生命的诞生是艰辛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609624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生命不仅属于自己，也属于家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父母含辛茹苦地孕育我们，我们承载着家庭、父母的希望。我们一出生，家人就开始为我们付出辛勤的劳动。所以，我们更应该珍惜自己的生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E02043_"/>
          <p:cNvPicPr/>
          <p:nvPr/>
        </p:nvPicPr>
        <p:blipFill>
          <a:blip r:embed="rId1"/>
          <a:stretch/>
        </p:blipFill>
        <p:spPr>
          <a:xfrm>
            <a:off x="6173640" y="2209680"/>
            <a:ext cx="2818080" cy="4114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66760" y="164880"/>
            <a:ext cx="86104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滴水之恩，当涌泉相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命不仅属于家庭，也属于社会。每个人的成长都离不开生活的集体和社会，我们每个人都和社会紧密联系着，我们的生命不仅仅是父母生命的延续，也是人类社会的延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以，我们不仅仅为自己，为家庭而活着，还应该为祖国的发展和社会的进步努力；每一个人都应该感谢为他健康成长而不断付出的父母家人，更应该感谢社会中各行各业的人们，那么就用有限的生命，为国家和社会增彩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838080" y="380880"/>
            <a:ext cx="6813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学会珍惜生命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09480" y="2666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ttp://iloveyoucha.go.nease.net/jpg/y1-3.jpg"/>
          <p:cNvPicPr/>
          <p:nvPr/>
        </p:nvPicPr>
        <p:blipFill>
          <a:blip r:embed="rId3"/>
          <a:stretch/>
        </p:blipFill>
        <p:spPr>
          <a:xfrm>
            <a:off x="5257800" y="37339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685800" y="22860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生命有多脆弱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12-20T02:58:4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