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1EC7-606F-4EF0-A16B-32FCA34F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1BED-63AF-4A3B-B1D2-EF3538FF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792-22ED-4B79-9F73-FC075731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B7F0-FA35-4DF3-B244-2F97E736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89F9-70C5-4AC6-B40E-33AE8CDB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BD3-2709-4E17-96FE-515A9F77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E3DC-D8AD-4967-A3B9-EFDEAF5E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7859-54E5-4D1C-B9A1-AE0A46B7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B67-458E-46A0-A766-D12E7943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7195-C2FE-482C-B9C0-E8AA91CD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29CB-6FB3-4F0C-8E08-6DCE9603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581-210B-4645-AD2B-4925F2C4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A89B-6821-4D38-99F9-320D8E85E8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6.jpeg"/><Relationship Id="rId3" Type="http://schemas.openxmlformats.org/officeDocument/2006/relationships/slide" Target="slide21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61600" y="5699160"/>
            <a:ext cx="1826640" cy="825480"/>
          </a:xfrm>
          <a:prstGeom prst="rect">
            <a:avLst/>
          </a:prstGeom>
          <a:solidFill>
            <a:srgbClr val="fef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莲藕斗得劲头儿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胡萝卜急得搬救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960280" y="525672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歪嘴葫芦放大炮，轰隆轰隆炮三声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648320" cy="4495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4572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117680" y="5561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得大蒜裂了瓣，打得黄瓜上下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4343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95680" y="762120"/>
            <a:ext cx="449604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245120" y="5334120"/>
            <a:ext cx="74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得辣椒满身红，打得茄子一身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得豆腐尿黄水，打得凉粉战兢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572000" cy="4419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0" y="609480"/>
            <a:ext cx="4572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118400" y="533304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藕王一看抵不过，一头钻进烂泥坑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572000" cy="4357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419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275360" y="533304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出了城门往正东，一园青菜绿葱葱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4070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495680" y="762120"/>
            <a:ext cx="4648320" cy="4038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4800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87480"/>
            <a:ext cx="9144000" cy="6770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5029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666880" y="550800"/>
            <a:ext cx="51674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园青菜成了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出了城门往正东，一园青菜绿葱葱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近几天没人问，他们个个成了精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头萝卜称大王，红头萝卜当娘娘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隔壁莲藕急了眼，一封战书打进园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豆芽儿跪倒来报信，胡萝卜挂帅去出征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两边兄弟来叫阵，大呼小叫争输赢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葱端起银杆枪，一个劲儿向前冲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茄子一挺大肚皮，小葱撞了个倒栽葱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韭菜使出两刃锋，呼啦呼拉上了阵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瓜甩起扫堂腿，踢得韭菜往回奔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莲藕斗得劲头儿足，胡萝卜急得搬救兵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歪嘴葫芦放大炮，轰隆轰隆炮三声，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得大蒜裂了瓣，打得黄瓜上下青，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得辣椒满身红，打得茄子一身紫，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得豆腐尿黄水，打得凉粉战兢兢，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藕王一看抵不过，一头钻进烂泥坑！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出了城门往正东，一园青菜绿葱葱。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22096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92160"/>
            <a:ext cx="9144000" cy="6765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22096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057400" y="5180400"/>
            <a:ext cx="55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出了城门往正东，一园青菜绿葱葱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572000" cy="411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0" y="609480"/>
            <a:ext cx="457200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0" y="1905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8610480" y="190512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29600" y="57150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82440"/>
            <a:ext cx="9144000" cy="6775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5029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5257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4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5562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133720" y="510444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近几天没人问，他们个个成了精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419720" cy="3962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454320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7400" y="5028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绿头萝卜称大王 红头萝卜当娘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09480"/>
            <a:ext cx="4572000" cy="3957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0" y="609480"/>
            <a:ext cx="4572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046040" y="49518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隔壁莲藕急了眼，一封战书打进园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419720" cy="3838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47242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119840" y="54853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豆芽儿跪倒来报信，胡萝卜挂帅去出征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905360" cy="4183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44956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72120" y="53330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边兄弟来叫阵，大呼小叫争输赢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4572000" cy="4038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0" y="838080"/>
            <a:ext cx="4572000" cy="40118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0" y="41148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1911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122360" y="5713560"/>
            <a:ext cx="84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葱端起银杆枪，一个劲儿向前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茄子一挺大肚皮，小葱撞了个倒栽葱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10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424760" y="5637240"/>
            <a:ext cx="3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韭菜使出两刃锋，呼啦呼啦上了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黄瓜甩起扫堂腿，踢得韭菜往回奔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10-09T02:47:0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