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1.png" ContentType="image/png"/>
  <Override PartName="/ppt/media/image10.gif" ContentType="image/gif"/>
  <Override PartName="/ppt/media/image12.gif" ContentType="image/gif"/>
  <Override PartName="/ppt/media/image7.gif" ContentType="image/gif"/>
  <Override PartName="/ppt/media/image5.jpeg" ContentType="image/jpeg"/>
  <Override PartName="/ppt/media/image6.jpeg" ContentType="image/jpeg"/>
  <Override PartName="/ppt/media/image8.jpeg" ContentType="image/jpeg"/>
  <Override PartName="/ppt/media/image4.png" ContentType="image/png"/>
  <Override PartName="/ppt/media/image24.gif" ContentType="image/gif"/>
  <Override PartName="/ppt/media/image23.png" ContentType="image/png"/>
  <Override PartName="/ppt/media/image21.png" ContentType="image/png"/>
  <Override PartName="/ppt/media/image20.png" ContentType="image/png"/>
  <Override PartName="/ppt/media/image19.gif" ContentType="image/gif"/>
  <Override PartName="/ppt/media/image1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5.jpeg" ContentType="image/jpeg"/>
  <Override PartName="/ppt/media/image2.png" ContentType="image/png"/>
  <Override PartName="/ppt/media/image22.gif" ContentType="image/gif"/>
  <Override PartName="/ppt/media/image3.png" ContentType="image/png"/>
  <Override PartName="/ppt/media/image17.jpeg" ContentType="image/jpeg"/>
  <Override PartName="/ppt/media/image2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2061-3658-4926-9599-B29E31A9D6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互动注意方法：先让学生自己考虑几分钟，确定自己所选择的对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A92-41E0-4462-B715-1A18E236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23B1-F4D9-4852-8644-377A9C26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BBFE0-A324-4CB8-8306-01C8E5EA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5CC37-A3A4-4436-8B1C-3109A8DE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1E6FB-6188-4D97-88C3-50DABA6D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AACC2-02D8-436C-868E-E2C4AB81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B144D-4E43-49E0-A398-7F6F74D6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AE89C2-E0C8-4EFA-A109-0743AD4D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0CA32-D8C2-4346-B9ED-99C06413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C8328-B26A-44BC-BFEE-505D9DA3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34B52-CF3A-4AEA-BD04-3A384797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1FC91-3E51-4B7E-A3DA-FAF738900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CF98-F68A-4F8D-B65D-02AA28F4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62BC3-ABE7-4EFB-B57E-913D4F5E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D5150-C961-49CA-8DBC-A08BA646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85357-B5C9-490A-B67A-D039B26C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E1BEE-FDE8-4F32-8687-5ECE1C3A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571E8-AA9B-4E26-93DE-DF1DF388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1C65F-5D7C-4CD6-B447-0C5BE3FF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B3FE8-A8DF-484A-8C21-18234A16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D11EE-E84A-4E3D-9FD4-91F7B129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6BE6F-1B9C-4BBF-B367-D4B07B8C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913F0-8C96-4895-A23E-7F0BD083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131-DD32-4669-A244-2286BC42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CB30D-01F4-4E51-83A3-7C2804B9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65ED0-D4B8-4AD4-8882-087ABFD8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CE72E-EB19-4B42-BFF2-2E0B5477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BE74A-FAC2-485E-AB7C-90081831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246EA-F6C2-4242-A113-1CCD4FE2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F71A5-2406-42CA-935C-1C7BCC1C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8BB7B-535F-4243-9C8C-55EB39DD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FDF4E-17A1-47BF-8D28-B9A133FE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07D07-5DE3-4371-9052-68BDD56D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689E8-740B-4897-BCA7-1A56201F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8D7F-EB62-4930-B1C6-AE60B4F6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ED63E-7261-443A-BF4B-32A78D90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742C9-36D5-41DD-BF24-319355A4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554CF-D72C-4BA1-B253-43030954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6331-2E40-4CFB-93F0-EB4E6B55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B19E-50B6-41F6-AC7A-275400BB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834C-5193-4282-91C6-604BC335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3582-3A5A-4D40-A683-EF6F3801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E16F-9702-4E1B-8E69-00C684C7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58B8-4F6A-4BB5-80AC-B487B00B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B02-4369-406F-984A-CAFB74B5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3E65-855F-4A54-94E6-FF647C91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0231-A880-47DC-BA11-C0B2FCC2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F9D6-87E0-4A30-90A6-EE715C19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9A05-602C-40A7-81EE-2D88FF3F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6FEF-B78A-478F-9765-CB98CB6C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E9228-1CA3-4F0C-9E17-7434E45E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F0D76-1290-470E-A435-67DC2000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572F4-6E9E-4F13-8FB6-40A22118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4A442-7BA4-4624-8F36-902B3E6B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FD1F0-363C-46B9-AFF3-BC02A7D3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D816-8316-4734-B109-DF0835B9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0EA2F-5D2F-4779-8B74-BC59EC70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66DA4-DBD8-452C-B8E1-E504361C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F8EC3-D19D-4633-8B6B-0A1BE6AC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1C3B1-5AE2-459E-AEC8-C8B4E0D2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E21FE-21BD-4A54-8CBD-46E6F688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539D9-01B7-4B85-B9CD-5B3F965B0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5733B-7655-4D62-A56C-612CBF24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A1525B-7AD0-446D-9B57-F257B3EB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D48E74-C064-4C7B-B330-A3DDB1E5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20AB84-73CB-4DEB-95E8-74344E1A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0E8D-DD20-4642-A09E-4F97C395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1556F1-B584-40E9-AACC-CCC312E4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080680-C73A-4AF8-8BAE-218B2C7E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BEA3B7-FEAB-4E31-AF83-D929DD94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4731B7-4153-4720-87E3-C3138527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F367EF-9951-464B-A10F-7CF3F4D1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BFC682-7336-427D-A8FA-5BA528E7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4DA4A6-B1D3-445E-86D8-F9710EDC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C38ED0-52DA-439E-AFB5-EECE427ED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EEA029-A402-452C-A07B-187C5B11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AE2B6-5D32-44B3-A3B9-5804B4A9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2B18-330D-47C1-BDAE-3C1EA0DD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2CFF4-E7FA-45CF-A3BD-A39B3A45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BD4AA-048A-484F-8F91-47158873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F2A7E-5EC5-42B3-9B5F-66AE870E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733AB-526F-4DE0-8A9E-FE83C7AE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6C76D-AEF7-41CC-A7F0-E39D9CD7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8CD5A-9559-4199-8924-D763204C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A8783-BE5A-42E4-BCA2-AA20326B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9E69D-E94E-4071-BB39-3058B08A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39D43-D9E2-4786-BA36-A18F1037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8983C-8353-4D83-BEC1-1018D44E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B5B-CEEF-4E9A-92D8-7ACBA036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AEF87-F600-4D8B-B3BB-C23304DB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AA07E-C8CD-4B07-934D-0D67A32F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A62C2-BEF6-4C4C-ABEC-D148E463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4182C-9E87-4560-B099-697E28E3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009E5-3FCF-4270-8BD8-0199727C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F3949-908A-4F42-82B9-7BB79BC4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583C2-8C5E-49D1-955B-E7A839B4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7960D-750C-4A0D-BADF-80303F41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E3893-2DE9-4219-A4C0-CB63504D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9BDBF-BD07-4F42-ACF2-F6A30D63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5306-A265-44AE-8BE7-8BBF65EF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34077-9827-4767-A802-03A6EF34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7A529-CAF7-449E-9A0B-2A343847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1F4D8-EBA6-4071-BDB5-67894B5B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588D3-578D-4DE4-8318-05303E70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9EBB7-9872-4FDA-A06A-1791F9F0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B8610-37C0-472E-B3E3-61D06AB8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E3B89-928B-4687-BA7D-8D376627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0B127-ECB8-4EAA-AECA-F47D35D5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1D806-5396-4A79-9E3D-54487FFC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13D67-1C48-4872-A6AC-60D0C3A7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955-87E6-4708-B23A-52F19D60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96F1F-2511-47D1-8F93-8E98428F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95EBC-B133-43D2-BCA7-0BA2BF1D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089FF-E4AC-45F0-9AFE-94851DA3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52523-9F3C-427A-82FF-9FE1131E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E9FBF-A981-4FE3-A853-3E290C57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BB1DC-9B21-417B-8D7A-71D02FAA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69AF7-0BB6-4BB0-A761-97066A37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B6248-0D67-4A69-9E55-1B7F6EAC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79A37-2025-4388-BB42-547A131A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491A5-5E5E-462A-AE2C-8A544A98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C11-4C00-4058-880B-86E82C39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6F336D-4753-4823-B5CE-19059623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865CE-410D-4D7D-A4E4-48437624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C7D7B-733C-4D87-A4EF-9C351D7A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94E67-B703-42EE-9207-46A2AE6A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956CF-C3AD-4AE8-9CE8-49B5E3EC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7A234-F464-41B4-A512-2727779E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BFA5C-24AC-4B77-8D3B-57605A68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C45C2-1D92-4E87-91D6-278C9BF8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F26EA-6E7E-4329-B0E8-D46A94A4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35C9C-2840-4250-9C86-98C4271F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B382-B0CC-463A-A7B5-4E0E11CF81FC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28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29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30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332A-F481-45DB-81FE-896CF8A77AB4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dt" idx="31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ftr" idx="32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33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2CAD-57A6-474A-A04C-B92B492E3C6D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5F63-5C0C-48B5-985D-F589D9DF4718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40AC-2E74-49FF-8ADA-AFEF917FC5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91E2-5519-4CFB-8487-A545CA1105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F0DD-505A-4503-B871-7BC61564AE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9FEE-6B2E-4BC8-AF8F-E56DCFBCDE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05B0-4EAF-4F33-807A-F5D763D849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85BD-83AF-4F9F-8563-BA9FDD0C67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4E8A-35A2-4D62-A9F3-024178D755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1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0&amp;tn=baiduimagedetail&amp;word=%D5&#1406;%B5%D7%D3&amp;in=1205&amp;cl=2&amp;cm=1&amp;sc=0&amp;lm=-1&amp;pn=87&amp;rn=1&amp;di=1423100648&amp;ln=2000&amp;fr=" TargetMode="External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8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7646760" cy="271800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 txBox="1"/>
          <p:nvPr/>
        </p:nvSpPr>
        <p:spPr>
          <a:xfrm>
            <a:off x="396720" y="1052640"/>
            <a:ext cx="8352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584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相信自己一定能够成功</a:t>
            </a:r>
            <a:endParaRPr b="0" lang="en-US" sz="1800" spc="1" strike="noStrike">
              <a:ln w="1584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7" name=""/>
          <p:cNvSpPr/>
          <p:nvPr/>
        </p:nvSpPr>
        <p:spPr>
          <a:xfrm>
            <a:off x="8136000" y="6093000"/>
            <a:ext cx="1116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韩军  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2010.5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C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、选择年历月历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有很多雄心壮志，深具野心要完成许多工作，因为自信来自于能力表现，是苦干型的人。为达到速效，使行为不修边幅，看来有些粗鲁，十分冲动。因为你太过于 实际而不懂掩饰野心，常使 人认为你是贪心、势力无趣的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、选择挂钟的同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的自信来自于工作效率，花许多心思计划和安排，因此当你采取行动时，已有相当成熟的计划。你是很好的策略性人物，尤其对重要事件，从来都不马虎，即使是参加重要宴会也会考究穿着。小心你热衷 工作的程度，有不成功便成仁的可能，别太过劳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6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99"/>
                </a:solidFill>
                <a:latin typeface="Arial"/>
              </a:rPr>
              <a:t>怎样才能提升自信心呢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075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首先，调整心态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多想开心的事。每个人都有自己开心的事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开心的事 就是你做得成功的事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那是你信心的产物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力量的产物。每个人多回 忆自己开心的事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将使你正确估价自己的力量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6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99"/>
                </a:solidFill>
                <a:latin typeface="Arial"/>
              </a:rPr>
              <a:t>怎样才能提升自信心呢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186920" y="1557000"/>
            <a:ext cx="707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其次，面带微笑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始终如一。笑是快乐的表现。笑能使人产生信心和力量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;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笑能使人心情舒畅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振奋精神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;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笑能使人忘记忧愁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摆脱烦恼。没有信心的人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经常是愁眉苦脸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无精打采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眼神呆板。雄心勃勃的人眼睛闪闪发亮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满面春风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70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99"/>
                </a:solidFill>
                <a:latin typeface="Arial"/>
              </a:rPr>
              <a:t>怎样才能提升自信心呢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7075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第三，挺胸抬头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阔步向前。人的姿势与人的内心体验是相适应的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姿势的表现可以与内心的体验相互促进。一个人越有信心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越有力量 便越昂首挺胸。成功的人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得意的人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获得胜利的人则意气风发。一个人越没有力量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越自卑就越无精打采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垂头丧气。学会自然的昂首挺胸就会逐步树立信心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增强信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6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99"/>
                </a:solidFill>
                <a:latin typeface="Arial"/>
              </a:rPr>
              <a:t>怎样才能提升自信心呢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186920" y="1557000"/>
            <a:ext cx="640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第四，主动交往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放弃冷漠。在与人微笑的问候中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双方都会感到人作 的温暖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人间的真情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这种温暖与真情就会使人充满力量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就会使人增添信心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6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cc0099"/>
                </a:solidFill>
                <a:latin typeface="Arial"/>
              </a:rPr>
              <a:t>怎样才能提升自信心呢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186920" y="2276280"/>
            <a:ext cx="707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第五，欣赏振奋人心的音乐。人们都有这样的情绪体验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当听到雄壮激昂的〈如飞得更高等〉时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往往因受到激励而热情奔放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斗志昂扬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;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当听到低沉、悲壮的哀乐时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往往便悲痛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怀念之情涌上心头。健康的宦 乐能调解人的情绪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陶冶人的情操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培养人的意志。当人受到挫折时 时候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情绪低沉的时候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缺乏信心的时候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选择适当的音乐来欣赏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能 帮助人振奋精神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>
            <a:off x="539640" y="404640"/>
            <a:ext cx="648036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自信心就是确信自己所追求目标是正确的，并坚信自己有力量与能力去实现所追求的目标。青少年自信心的建立不是天生的，更不会随心而得。青少年的自信心与他的成功概率成正比。自信心越强，越能够不畏失败，不怕挫折，不懈进取。自信心越大，越能够产生强大的精神动力和进取激情，排除一切障碍去实施自己的目标。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青少年自信心的培养，首先要正确看待成败得失。“胜不骄，败不馁”，即使失败了也不要灰心丧气。其次，要正确地评价自己、看准自己的优缺点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2"/>
          <a:stretch/>
        </p:blipFill>
        <p:spPr>
          <a:xfrm>
            <a:off x="304920" y="1980720"/>
            <a:ext cx="4194000" cy="3886200"/>
          </a:xfrm>
          <a:prstGeom prst="rect">
            <a:avLst/>
          </a:prstGeom>
          <a:ln w="0">
            <a:noFill/>
          </a:ln>
        </p:spPr>
      </p:pic>
      <p:pic>
        <p:nvPicPr>
          <p:cNvPr id="774" name="" descr=""/>
          <p:cNvPicPr/>
          <p:nvPr/>
        </p:nvPicPr>
        <p:blipFill>
          <a:blip r:embed="rId3"/>
          <a:stretch/>
        </p:blipFill>
        <p:spPr>
          <a:xfrm>
            <a:off x="4650840" y="1981080"/>
            <a:ext cx="4194360" cy="1866960"/>
          </a:xfrm>
          <a:prstGeom prst="rect">
            <a:avLst/>
          </a:prstGeom>
          <a:ln w="0">
            <a:noFill/>
          </a:ln>
        </p:spPr>
      </p:pic>
      <p:pic>
        <p:nvPicPr>
          <p:cNvPr id="775" name="" descr=""/>
          <p:cNvPicPr/>
          <p:nvPr/>
        </p:nvPicPr>
        <p:blipFill>
          <a:blip r:embed="rId4"/>
          <a:stretch/>
        </p:blipFill>
        <p:spPr>
          <a:xfrm>
            <a:off x="4650840" y="4000320"/>
            <a:ext cx="4194360" cy="186660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539640" y="449280"/>
            <a:ext cx="6480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在发扬长处的同时，积极克服自己的缺点，不要被自己的缺点吓倒。正确地评价自己、认识自己也很重要。不要把自己的定位脱离于自身的实际情况，抬高自己或贬低自己都不可取。认识到自己的缺点，才有可能不断地学习和改进，不断地提高自己的能力和本领，切忌说大话、办空事。再次，自己所确立的目标一定要符合客观实际，符合社会发展的需要。逆潮流而动，即使成功了也是短暂的，最终还是失败的，不利于自信心的培养。只有把自身目标纳入到人类社会发展和进步的大轨道上，通过自身不懈的努力和追求，一定可以取得成功。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5564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     </a:t>
            </a:r>
            <a:r>
              <a:rPr b="0" lang="zh-CN" sz="4400" spc="-1" strike="noStrike">
                <a:solidFill>
                  <a:srgbClr val="ff3399"/>
                </a:solidFill>
                <a:latin typeface="Arial Black"/>
              </a:rPr>
              <a:t>Confidence  is the  first step on the road to success!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自信是走向成功的第一步！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                   ——莎士比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0" y="404640"/>
            <a:ext cx="73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这是一支沙漠探险队，在骄阳下艰难跋涉……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" descr=""/>
          <p:cNvPicPr/>
          <p:nvPr/>
        </p:nvPicPr>
        <p:blipFill>
          <a:blip r:embed="rId1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2340000" y="249228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歌曲相信自己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2087280" cy="186696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6516720" y="1268280"/>
            <a:ext cx="20876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2124000" y="404280"/>
            <a:ext cx="5113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少次挥汗如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伤痛曾填满记忆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因为始终相信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去拼搏才能胜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是在鼓舞自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成功就得努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血在赛承腾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巨人在东方升起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信自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将赢得胜利创造奇迹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信自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梦想在你手中这是你的天地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BACBACBACBA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信自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将超越极限超越自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信自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这一切过去你们将是第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信自己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1109520" cy="626436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6588000" y="170028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8101080" y="476280"/>
            <a:ext cx="1042920" cy="609264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6516720" y="981000"/>
            <a:ext cx="720720" cy="719280"/>
          </a:xfrm>
          <a:prstGeom prst="sun">
            <a:avLst>
              <a:gd name="adj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0" y="4365720"/>
            <a:ext cx="9144000" cy="24922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492280"/>
            <a:ext cx="3720960" cy="295596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6084720" y="1268280"/>
            <a:ext cx="2737080" cy="1730520"/>
          </a:xfrm>
          <a:prstGeom prst="cloudCallout">
            <a:avLst>
              <a:gd name="adj1" fmla="val -119722"/>
              <a:gd name="adj2" fmla="val 145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我赞同我自己！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我真的很不错！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84360" y="765000"/>
            <a:ext cx="40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谢谢大家！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68515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故事是这样的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浩瀚的沙漠中，一支探险队在艰难地跋涉。头顶烈火骄阳，烤得探险队员们口干舌燥，挥汉如雨。最糟糕的是，他们没有水了。水就是他们赖以生存的信念，信念破灭了，一个个像塌了架，丢了魂，不约而同地将目光投向队长。这可怎么办？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队长从腰间取出一个水壶，两手举起来，用力晃了晃，惊喜地喊道：“哦，我这里还有一壶水！但穿越沙漠前，谁也不能喝。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沉甸甸的水壶从队员们的手中依次传递，原来那种濒临绝望的脸上又显露出坚定的神色，一定要走出沙漠的信念支撑他们踉跄着，一步步地向前挪动。看着那水壶，他们抿抿干裂的嘴唇，陡然增添了力量。终于，他们死里逃生，走出了无垠的沙漠，大家喜极而泣之时，久久凝望着那个给了他们信念支撑的水壶。队长小心翼翼地拧开水壶盖，缓缓流出的却是一缕缕沙子，他诚挚地说：“只要心里有坚定的信念，干枯的沙子有时也可以变成清冽的泉水。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7308720" y="620640"/>
            <a:ext cx="136692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5292720" y="6245280"/>
            <a:ext cx="520560" cy="61272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3"/>
          <a:stretch/>
        </p:blipFill>
        <p:spPr>
          <a:xfrm>
            <a:off x="1979640" y="6245280"/>
            <a:ext cx="520560" cy="61272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4"/>
          <a:stretch/>
        </p:blipFill>
        <p:spPr>
          <a:xfrm>
            <a:off x="3635280" y="6245280"/>
            <a:ext cx="520920" cy="61272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5"/>
          <a:stretch/>
        </p:blipFill>
        <p:spPr>
          <a:xfrm>
            <a:off x="9271080" y="647640"/>
            <a:ext cx="520560" cy="61272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6"/>
          <a:stretch/>
        </p:blipFill>
        <p:spPr>
          <a:xfrm>
            <a:off x="9487080" y="863640"/>
            <a:ext cx="520560" cy="6127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7"/>
          <a:stretch/>
        </p:blipFill>
        <p:spPr>
          <a:xfrm>
            <a:off x="0" y="6245280"/>
            <a:ext cx="520560" cy="61272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8"/>
          <a:stretch/>
        </p:blipFill>
        <p:spPr>
          <a:xfrm>
            <a:off x="8459640" y="6245280"/>
            <a:ext cx="520920" cy="61272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9"/>
          <a:stretch/>
        </p:blipFill>
        <p:spPr>
          <a:xfrm>
            <a:off x="6804000" y="6245280"/>
            <a:ext cx="520560" cy="61272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826920" y="692280"/>
            <a:ext cx="76456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缺乏自信的表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971640" y="1773360"/>
            <a:ext cx="7416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如：班会上怕发言，人多的场合怕讲话，考试后怕公布分数，学习有问题怕问同学和老师……觉得自己不如别人，看问题总是看到比别人差的方面，看问题缺乏辨证的方法。  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7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7" fill="hold"/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cc">
              <a:alpha val="73000"/>
            </a:srgbClr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ff"/>
                </a:solidFill>
                <a:latin typeface="Arial"/>
                <a:ea typeface="幼圆"/>
              </a:rPr>
              <a:t>缺乏自信心理的原因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68360" y="1197000"/>
            <a:ext cx="837396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（一）诱发原因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、失败、挫折和积累（将失败的原因归之于自己能力和性格的缺陷，归因于命运不济，导致自信心下降</a:t>
            </a: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、他人长期过低的评价，家庭、社会、集体的评价不当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、生活、身体条件的欠缺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Arial"/>
              </a:rPr>
              <a:t>（二）深层次原因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、理想自我与现实自我的冲突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、自负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、消极自我评价与暗示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800080"/>
                </a:solidFill>
                <a:latin typeface="Arial"/>
              </a:rPr>
              <a:t>、不合理的自我信念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6156360" y="4005360"/>
            <a:ext cx="226836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4470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 Black"/>
                <a:ea typeface="黑体"/>
              </a:rPr>
              <a:t>缺乏自信的不良影响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491240" cy="39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 Black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长期缺乏自信的人，不仅身心会受到影响，而且还会给自己的行为设置消极的心理障碍。一般来将他们的抱负水平都极低，缺乏进取心，自己堵塞自己的成功之路。而这又反过来加重缺乏自信的心理，造成恶性循环。此外，缺乏自信严重的还会阻碍人格的发展，使人看不到自己的长处，忽略自己尚未发掘的潜能，变得敏感多疑，虚假掩饰，最后成为一个精神委琐、意志消沉、缺乏理想与追求 的人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（心理测试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）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最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黑体"/>
              </a:rPr>
              <a:t>大的自信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回答下列问题，然后我会告诉你本次心理 测试的结果，你的自信在哪里。在一间房间里你会在墙上挂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画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照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历月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挂钟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心理测试结果分析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A.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选择画的同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是重视情调的人，亲情与友情深深包围着你，你最大的自信，来自于好好安排自己的生活，过一个有品位的人生，才能凸显你的能力。但是生活一旦被人际关系困扰，常使你受严重打击，因为在感情的世界里，你是理想主义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73436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B.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选择照片的同学</a:t>
            </a:r>
            <a:br>
              <a:rPr sz="5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的自信来自于别人的肯定。你认为要在良好的人际关系中维护自尊，衣着外有非常重要。别人对你投射赞赏的眼光，会使你充满自信，当然良好的家庭背景、高学历等等，也是你所重视的，因此你是比较 传统守旧，却又追求时尚流行的人。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3:36:32Z</dcterms:created>
  <dc:creator>user</dc:creator>
  <dc:description/>
  <dc:language>en-US</dc:language>
  <cp:lastModifiedBy>china</cp:lastModifiedBy>
  <dcterms:modified xsi:type="dcterms:W3CDTF">2011-03-25T07:14:35Z</dcterms:modified>
  <cp:revision>50</cp:revision>
  <dc:subject/>
  <dc:title>缺乏自信的表现 </dc:title>
</cp:coreProperties>
</file>