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83B-7C88-4391-82BB-7470068F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A07-1BE1-48CC-A927-EEEEB62F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795-E900-4726-BB70-E8421393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968-4B87-4666-8F3D-26B9CBAA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FB0-F772-4A4E-8482-40AD7EF0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891-242E-4A04-B95F-1A906C00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6B9-F9EC-4576-BF63-ADF6682C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E41-8F46-4411-B8A1-D893E8C7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3C6-BFC1-45D5-8B8B-0EC3B391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DCF-5038-4DE4-9343-1AEF2A54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796-326A-402D-BF5E-8C2415B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4AC-0117-45BB-8E34-C1378B49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A90-02EF-4639-A469-40E00D283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天空之城 宫崎骏.mp3" descr=""/>
          <p:cNvPicPr/>
          <p:nvPr/>
        </p:nvPicPr>
        <p:blipFill>
          <a:blip r:embed="rId2"/>
          <a:stretch/>
        </p:blipFill>
        <p:spPr>
          <a:xfrm>
            <a:off x="7740720" y="76500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sh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9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故事讲完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0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2:58:11Z</dcterms:created>
  <dc:creator>yang</dc:creator>
  <dc:description/>
  <dc:language>en-US</dc:language>
  <cp:lastModifiedBy>USER</cp:lastModifiedBy>
  <dcterms:modified xsi:type="dcterms:W3CDTF">2013-11-01T15:32:01Z</dcterms:modified>
  <cp:revision>11</cp:revision>
  <dc:subject/>
  <dc:title>幻灯片 1</dc:title>
</cp:coreProperties>
</file>