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42AC-B6F7-4110-AA66-88ECD6C6B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B0CA-F292-4271-B537-80772DE5D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7D11-06AF-43BF-9493-A622E7215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2AC1-A90E-4633-869A-12A6AF0CC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1ACB-24EF-448E-A942-08ED99E26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21A1-82A5-4B33-9000-52CE5D501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89EE-BF0D-45CA-88B1-492F3BBC3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637F-2A22-4613-BF71-2A1C78CDF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EC90-0FC5-4C89-9E00-3E7AF9321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E349-A91F-4F2E-9337-E44EDEC9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8A73-BC30-4CD1-810D-05ACB202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D66E-19C2-47C2-910D-BB38C639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7D5A9-0344-461C-BE6A-028A7293E1C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nts and Settings\admin\桌面\2013年2期\2013年2月娃娃绘本刊\熊爱蝴蝶02副本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C:\Documents and Settings\admin\桌面\2013年2期\2013年2月娃娃绘本刊\熊爱蝴蝶_页面_11.jpg"/>
          <p:cNvPicPr/>
          <p:nvPr/>
        </p:nvPicPr>
        <p:blipFill>
          <a:blip r:embed="rId2"/>
          <a:stretch/>
        </p:blipFill>
        <p:spPr>
          <a:xfrm>
            <a:off x="0" y="620640"/>
            <a:ext cx="9144000" cy="54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C:\Documents and Settings\admin\桌面\2013年2期\2013年2月娃娃绘本刊\熊爱蝴蝶_页面_12.jpg"/>
          <p:cNvPicPr/>
          <p:nvPr/>
        </p:nvPicPr>
        <p:blipFill>
          <a:blip r:embed="rId2"/>
          <a:stretch/>
        </p:blipFill>
        <p:spPr>
          <a:xfrm>
            <a:off x="0" y="719280"/>
            <a:ext cx="9144000" cy="54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C:\Documents and Settings\admin\桌面\2013年2期\2013年2月娃娃绘本刊\熊爱蝴蝶_页面_13.jpg"/>
          <p:cNvPicPr/>
          <p:nvPr/>
        </p:nvPicPr>
        <p:blipFill>
          <a:blip r:embed="rId2"/>
          <a:stretch/>
        </p:blipFill>
        <p:spPr>
          <a:xfrm>
            <a:off x="0" y="692280"/>
            <a:ext cx="9144000" cy="54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C:\Documents and Settings\admin\桌面\2013年2期\2013年2月娃娃绘本刊\熊爱蝴蝶_页面_14.jpg"/>
          <p:cNvPicPr/>
          <p:nvPr/>
        </p:nvPicPr>
        <p:blipFill>
          <a:blip r:embed="rId2"/>
          <a:stretch/>
        </p:blipFill>
        <p:spPr>
          <a:xfrm>
            <a:off x="0" y="620640"/>
            <a:ext cx="9144000" cy="54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C:\Documents and Settings\admin\桌面\2013年2期\2013年2月娃娃绘本刊\熊爱蝴蝶_页面_15.jpg"/>
          <p:cNvPicPr/>
          <p:nvPr/>
        </p:nvPicPr>
        <p:blipFill>
          <a:blip r:embed="rId2"/>
          <a:stretch/>
        </p:blipFill>
        <p:spPr>
          <a:xfrm>
            <a:off x="0" y="692280"/>
            <a:ext cx="914256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C:\Documents and Settings\admin\桌面\2013年2期\2013年2月娃娃绘本刊\熊爱蝴蝶_页面_16.jpg"/>
          <p:cNvPicPr/>
          <p:nvPr/>
        </p:nvPicPr>
        <p:blipFill>
          <a:blip r:embed="rId2"/>
          <a:stretch/>
        </p:blipFill>
        <p:spPr>
          <a:xfrm>
            <a:off x="0" y="765000"/>
            <a:ext cx="9144000" cy="54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C:\Documents and Settings\admin\桌面\2013年2期\2013年2月娃娃绘本刊\熊爱蝴蝶_页面_17.jpg"/>
          <p:cNvPicPr/>
          <p:nvPr/>
        </p:nvPicPr>
        <p:blipFill>
          <a:blip r:embed="rId2"/>
          <a:stretch/>
        </p:blipFill>
        <p:spPr>
          <a:xfrm>
            <a:off x="0" y="641520"/>
            <a:ext cx="9144000" cy="54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C:\Documents and Settings\admin\桌面\2013年2期\2013年2月娃娃绘本刊\熊爱蝴蝶02副本1.jpg"/>
          <p:cNvPicPr/>
          <p:nvPr/>
        </p:nvPicPr>
        <p:blipFill>
          <a:blip r:embed="rId2"/>
          <a:stretch/>
        </p:blipFill>
        <p:spPr>
          <a:xfrm>
            <a:off x="2050920" y="333360"/>
            <a:ext cx="5232600" cy="62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C:\Documents and Settings\admin\桌面\2013年2期\2013年2月娃娃绘本刊\熊爱蝴蝶_页面_03.jpg"/>
          <p:cNvPicPr/>
          <p:nvPr/>
        </p:nvPicPr>
        <p:blipFill>
          <a:blip r:embed="rId2"/>
          <a:stretch/>
        </p:blipFill>
        <p:spPr>
          <a:xfrm>
            <a:off x="0" y="620640"/>
            <a:ext cx="9144000" cy="54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C:\Documents and Settings\admin\桌面\2013年2期\2013年2月娃娃绘本刊\熊爱蝴蝶_页面_0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C:\Documents and Settings\admin\桌面\2013年2期\2013年2月娃娃绘本刊\熊爱蝴蝶_页面_05.jpg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Documents and Settings\admin\桌面\2013年2期\2013年2月娃娃绘本刊\熊爱蝴蝶_页面_06.jpg"/>
          <p:cNvPicPr/>
          <p:nvPr/>
        </p:nvPicPr>
        <p:blipFill>
          <a:blip r:embed="rId2"/>
          <a:stretch/>
        </p:blipFill>
        <p:spPr>
          <a:xfrm>
            <a:off x="-17640" y="260280"/>
            <a:ext cx="916164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Documents and Settings\admin\桌面\2013年2期\2013年2月娃娃绘本刊\熊爱蝴蝶_页面_07.jpg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691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Documents and Settings\admin\桌面\2013年2期\2013年2月娃娃绘本刊\熊爱蝴蝶_页面_08.jpg"/>
          <p:cNvPicPr/>
          <p:nvPr/>
        </p:nvPicPr>
        <p:blipFill>
          <a:blip r:embed="rId2"/>
          <a:stretch/>
        </p:blipFill>
        <p:spPr>
          <a:xfrm>
            <a:off x="0" y="692280"/>
            <a:ext cx="9145440" cy="54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C:\Documents and Settings\admin\桌面\2013年2期\2013年2月娃娃绘本刊\熊爱蝴蝶_页面_09.jpg"/>
          <p:cNvPicPr/>
          <p:nvPr/>
        </p:nvPicPr>
        <p:blipFill>
          <a:blip r:embed="rId2"/>
          <a:stretch/>
        </p:blipFill>
        <p:spPr>
          <a:xfrm>
            <a:off x="0" y="692280"/>
            <a:ext cx="9144000" cy="54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Documents and Settings\admin\桌面\2013年2期\2013年2月娃娃绘本刊\熊爱蝴蝶_页面_10.jpg"/>
          <p:cNvPicPr/>
          <p:nvPr/>
        </p:nvPicPr>
        <p:blipFill>
          <a:blip r:embed="rId2"/>
          <a:stretch/>
        </p:blipFill>
        <p:spPr>
          <a:xfrm>
            <a:off x="0" y="692280"/>
            <a:ext cx="9144000" cy="54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未知用户</cp:lastModifiedBy>
  <dcterms:modified xsi:type="dcterms:W3CDTF">2015-11-22T02:01:10Z</dcterms:modified>
  <cp:revision>5</cp:revision>
  <dc:subject/>
  <dc:title>幻灯片 1</dc:title>
</cp:coreProperties>
</file>