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20F-4F2C-4427-A8D3-148F7099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A56-BDCE-4EC5-A347-D023C278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3D5-6A49-4297-905B-3120D666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241-4788-417E-BF9B-5733F4D3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DA7-6C0C-42EC-92FF-12BF7D8A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158-1659-4A7E-A9ED-18A56AAF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F32-952C-4D1C-84C3-DF876A7B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D3E-546D-424F-A00F-EE2207C1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AA2-58B9-4F05-804A-FE67054E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A3B-A354-459E-ACD7-C18EE9D5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CE5-D4B1-42A6-B83E-ADD97CCD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B1F-DD04-4AFD-8185-607C5AE0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9E8C-5C13-4685-8FD9-25E9A4258A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小怪兽封面.jpg"/>
          <p:cNvPicPr/>
          <p:nvPr/>
        </p:nvPicPr>
        <p:blipFill>
          <a:blip r:embed="rId1"/>
          <a:stretch/>
        </p:blipFill>
        <p:spPr>
          <a:xfrm>
            <a:off x="2038320" y="0"/>
            <a:ext cx="506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小怪兽内文9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小怪兽内文10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小怪兽内文11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小怪兽内文12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小怪兽内文13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小怪兽内文14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小怪兽内文15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小怪兽内文16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小怪兽内文17.jpg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小怪兽内文.jpg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小怪兽内文2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小怪兽内文3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小怪兽内文4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小怪兽内文5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小怪兽内文6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小怪兽内文7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小怪兽内文8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09:14:33Z</dcterms:created>
  <dc:creator>微软用户</dc:creator>
  <dc:description/>
  <dc:language>en-US</dc:language>
  <cp:lastModifiedBy>微软用户</cp:lastModifiedBy>
  <dcterms:modified xsi:type="dcterms:W3CDTF">2012-09-20T09:15:30Z</dcterms:modified>
  <cp:revision>1</cp:revision>
  <dc:subject/>
  <dc:title>幻灯片 1</dc:title>
</cp:coreProperties>
</file>